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934320" cy="928044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908">
                <a:moveTo>
                  <a:pt x="4" y="0"/>
                </a:moveTo>
                <a:arcTo wR="4" hR="4" stAng="16200000" swAng="-5400000"/>
                <a:lnTo>
                  <a:pt x="0" y="28904"/>
                </a:lnTo>
                <a:arcTo wR="4" hR="4" stAng="10800000" swAng="-5400000"/>
                <a:lnTo>
                  <a:pt x="21596" y="2890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934320" cy="928044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908">
                <a:moveTo>
                  <a:pt x="4" y="0"/>
                </a:moveTo>
                <a:arcTo wR="4" hR="4" stAng="16200000" swAng="-5400000"/>
                <a:lnTo>
                  <a:pt x="0" y="28904"/>
                </a:lnTo>
                <a:arcTo wR="4" hR="4" stAng="10800000" swAng="-5400000"/>
                <a:lnTo>
                  <a:pt x="21596" y="2890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934320" cy="928044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908">
                <a:moveTo>
                  <a:pt x="4" y="0"/>
                </a:moveTo>
                <a:arcTo wR="4" hR="4" stAng="16200000" swAng="-5400000"/>
                <a:lnTo>
                  <a:pt x="0" y="28904"/>
                </a:lnTo>
                <a:arcTo wR="4" hR="4" stAng="10800000" swAng="-5400000"/>
                <a:lnTo>
                  <a:pt x="21596" y="2890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5640480" y="90000"/>
            <a:ext cx="6364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54120" y="90000"/>
            <a:ext cx="82224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62456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1760" cy="4172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5357520" y="8984880"/>
            <a:ext cx="9190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222360" y="8985240"/>
            <a:ext cx="507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40B52BE-591E-48EB-9E67-DFB9DC2CD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960" y="8983800"/>
            <a:ext cx="5486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297000"/>
            <a:ext cx="5639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54160" y="701640"/>
            <a:ext cx="462600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47A-04F3-4E89-A372-39B1ADF9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32D-68D2-4579-BA4F-3F246FD4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94A6-70A5-47DF-98D0-57DAFB98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095-042A-49E2-BC90-297C3154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2B7E-1798-4271-B104-6CF4376F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3D16-A9D7-41EA-8D19-C2B465DB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AD8-2BB9-460F-B0B7-53E6CC71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AE35-2885-4F58-9035-B08F4797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7677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A38-7C54-4D65-9EC6-AAC63CE95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AB7D-882D-4D7E-B41F-9C251E40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C23-DF5F-4709-BB46-7D3C414E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9B0-B7EE-48ED-9ACE-928632BE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29760"/>
            <a:ext cx="106200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6960" y="6474960"/>
            <a:ext cx="4618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840" y="6475320"/>
            <a:ext cx="525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8F913F7-9889-40FB-BBEF-7D890905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08280" y="334800"/>
            <a:ext cx="281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35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G11 response to Proposed 802 PAR - March Orlando Plen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3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392640"/>
          <a:ext cx="8138880" cy="249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92640"/>
                    <a:ext cx="8138880" cy="24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09480" y="30481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720" y="5349960"/>
            <a:ext cx="8001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file pruned by Geoff Thompson to only include ES-ECSG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8053-F3E1-41DF-9807-CD43A4C661C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ssing Requirement defini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C-ECSG Respons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egulatory Authorities’ requirements are not listed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quest for specific requirements that can be identified to be listed in the PAR.  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Details at that level of specificity are not customary in a 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CRIT Requirements missing from PAR and 5c; Coordination with ECRIT did not occur in SG activitie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Requirements from ECRIT for 802 be included in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plan for coordination with ECR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Liaison relationship with ECRIT to ensure close coordination and cooperation with ECR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ease describe the plan for addressing these point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presentatives of ES-ECSG will be joining the ECRIT meeting in Anaheim to establish the relationship and identify specific requirements.  It is a regrettable result of our mutual schedules that this interaction did not take place earli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291-9754-4DA7-9487-970F2CEAD3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pport level is insufficient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S-ECSG Respons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777240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: The participation level at the SG meetings has been fairly light.  Concern that for a new project that sufficient support be demonstrated to warrant the new effort.  Attendance by practical Experts is also a concern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 is a legitimate concern but participation has been building. Several experts have said they will join as soon as the PAR is approv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ion: delay the start of the WG/TG until more support is garnered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EEE-SA rules limit the length of time that a group can work without a PAR Delaying PAR approval until a mid-project benchmark is not allow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CFE-2F59-423C-9B63-2035021413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iming of moving from SG to WG (TG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ES-ECG Respons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2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: The Study Group should continue to gather the complete set of requirements from Regulatory Authorities and ECRIT before progressing to a WG/TG.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his would not be appropriate under IEEE_SA rule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: IEEE-SA expects that the SG is convened for 6 months, and then a project is given opportunity to progress.  Without a PAR the group does not have full indemnity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: Prior to creating a WG, the requirements of the Project should be defin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ease explain how the SG has evaluated the competing concerns.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We are doing the best job we can to accomplish the task and operate within the rules of the IEEE-SA.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312D-7290-486D-A632-FA5EE207E6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Suggested PAR chang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ES-ECSG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1 …(Item Number and Explanation)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8.1 clause does not include an “Item Number” suggest “5.2 Scope” be inse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836-A2BD-40A9-8EC2-2BA7AA1A18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2:37:11Z</dcterms:created>
  <dc:creator>Jon Rosdahl</dc:creator>
  <dc:description/>
  <dc:language>en-US</dc:language>
  <cp:lastModifiedBy>jr05</cp:lastModifiedBy>
  <cp:lastPrinted>1998-02-10T13:28:06Z</cp:lastPrinted>
  <dcterms:modified xsi:type="dcterms:W3CDTF">2010-03-16T16:37:08Z</dcterms:modified>
  <cp:revision>5</cp:revision>
  <dc:subject/>
  <dc:title>WG11 response to Proposed 802 PAR - March Orlando Plenary</dc:title>
</cp:coreProperties>
</file>