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0B1E51-74CC-4A4F-914B-4BA8E11C90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3104-6C87-473F-98A0-347228AB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F57E-BAD9-4341-A4F7-F0673C98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435E-6130-46FC-A99A-89F9BCB6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722-4809-4BD3-87AF-69DB849D6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5CF-0B31-46EA-818C-1BEF94F10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2B7D-D1FA-4C11-A55E-0E70D776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36BA-3653-446B-BE6E-2EF0021B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487-0EBE-4841-9C9E-8D2A2C277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4AC-8380-4B02-9654-88B0F2AE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1FD-2FF3-41B9-A24D-03121616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80F2-F152-4F4B-AF67-5EA925A1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815A-F1E5-4EDD-A9AF-44444667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157880"/>
            <a:ext cx="2333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7157880"/>
            <a:ext cx="31813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7157880"/>
            <a:ext cx="23338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believe 802 needs to finish the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referenced external req'ts from ECR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ic interface specs from ECRIT harmonized and reconciled to our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within various 802 W.G.s to tweak their pie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S WG to generate a single standard to reconcile the upper layer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believe 802 may offer to improve the 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standard that includes means 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end &amp; perhaps per hop location in 802 network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emergency calls priority in 802 network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information to enable Callba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s to a default VoIP rout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HOR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ECSG intends to provide what ECRIT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work with ECRIT to provide optimal solu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end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ES to provide/harmonize end station location MIB to ECRIT format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per-hop location 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/use existing mechanism from 802.1ag and equivalents from 802.1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mergency calls priority within 802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existing priority mechanisms in 802.1Q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Priority access or call handling is not a current requirement in 112/911 systems nor anticipated in the remainder of VoIP sys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nformation to enable Callba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both originating terminal location MIB information and per-hop network information as part of session initiation information to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ould provide “hints” that the 802 network could use if call is disconnected and straightforward callback turns out to be a probl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7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551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LOCAL connection mechanism (e.g. bypass various tunneling schem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VLAN (or equivalent) across all 802 networks that is dedicated exclusively to Emergency Services. It would have a single destination, i.e. the network attachment rou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nticipate that packets would be steered to this new dedicated VLAN by the use of a new EtherTy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8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technical concep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service to unauthenticated us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ould be difficult, but is a firm regulatory requirement in cellular systems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Not required in VoIP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believe a dedicated VLAN will make it easier than it would be to do otherwi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authentication would be needed to use the dedicated VLAN, but it can only be used to get to the PSA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19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of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and per-hop location information as provided will be available as a tool for use in dealing with this classical probl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