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3328560" y="-93600"/>
            <a:ext cx="28256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641160" y="-93600"/>
            <a:ext cx="18586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23760" y="750960"/>
            <a:ext cx="4948560" cy="371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3809520" y="9615240"/>
            <a:ext cx="2344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4" marL="458640"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146400" y="9615240"/>
            <a:ext cx="5126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888CB03-9F52-462F-B437-A059C69FDB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708480" y="961560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709560" y="9613800"/>
            <a:ext cx="537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635040" y="317520"/>
            <a:ext cx="552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E2CDD0-FCF3-485E-8254-9445F1C12E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B738F6F-77B2-4A80-AA7B-64D35419BB4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2320" y="750960"/>
            <a:ext cx="4950000" cy="37116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05040" y="4716360"/>
            <a:ext cx="4984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9520" y="9615240"/>
            <a:ext cx="23446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328560" y="-93600"/>
            <a:ext cx="282564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41160" y="-93600"/>
            <a:ext cx="1858680" cy="42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9EDFED6-D44C-449A-9D35-DE36B5A9A91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E9A7563-2DBE-47B3-89DD-3ECD9899C7B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CC2DEA15-51FB-4EC9-BD0E-5CD7643435A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E143E69-683A-4474-B0CA-10DE10FCA69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2"/>
          <p:cNvSpPr/>
          <p:nvPr/>
        </p:nvSpPr>
        <p:spPr>
          <a:xfrm>
            <a:off x="4734000" y="119880"/>
            <a:ext cx="219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doc.: IEEE 802.11-10/xxxxr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34240" y="119880"/>
            <a:ext cx="1041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January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4754520" y="9615600"/>
            <a:ext cx="187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lvl="4" marL="458640"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"/>
          <p:cNvSpPr/>
          <p:nvPr/>
        </p:nvSpPr>
        <p:spPr>
          <a:xfrm>
            <a:off x="2917800" y="9615600"/>
            <a:ext cx="969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04044AB-A9CF-4781-AAF7-4910CA3342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F5CC-05F6-4275-BC05-2B1B3BDA6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B524-32C4-45D4-A650-1B357273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036E-69FA-4DA4-9CC4-28383C2E4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BCFB-101D-4249-B0D2-9C893E104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F0EC-E452-4E0C-BA60-6C3D8101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83F0-CFB6-4987-AE33-9C7D13FC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416-EBFD-4916-B6F7-2B7F72B9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0203-26CC-4A81-94A6-FFC51DB6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F9BF-C8D0-4F24-A557-6A96B282C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8987-ADF2-4A09-91AD-80993A543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72DD-93B1-4487-BF67-CE285C3A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7D31-EDAB-46CD-B9C4-7A779E17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600" y="334440"/>
            <a:ext cx="10666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7320" y="6474960"/>
            <a:ext cx="4665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480" y="6474960"/>
            <a:ext cx="53028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E3CC8C8-99EF-4D53-BC6F-E29E423CA2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5179680" y="334800"/>
            <a:ext cx="3268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065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8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Line 10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165DB7E7-04FA-40DA-B4FB-B8802398E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Emergency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03-1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Object 5"/>
          <p:cNvGraphicFramePr/>
          <p:nvPr/>
        </p:nvGraphicFramePr>
        <p:xfrm>
          <a:off x="520560" y="2274840"/>
          <a:ext cx="7974000" cy="225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274840"/>
                    <a:ext cx="797400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Rectangle 6"/>
          <p:cNvSpPr/>
          <p:nvPr/>
        </p:nvSpPr>
        <p:spPr>
          <a:xfrm>
            <a:off x="533520" y="1940040"/>
            <a:ext cx="14475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4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411588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C37776D-F213-476E-987C-E555496423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strac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s is a summary of IEEE 802.11 features which assist Emergency Service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EEE 802.11 overview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 IEEE 802.11 infrastructure by itself cannot ensure that all factors are compatible for an Emergency Service call to actually take plac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client device may have to register with a call manager (SIP agent or some other signaling endpoint) for the call to be placed successfully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ifferent signaling systems such as SIP, H.323, etc., can be deployed for supporting Emergency Service callin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er layers can also verify an Emergency Service call is being placed so that appropriate level of resources can be granted to the emergency cal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oice endpoints (e.g., non-AP STAs) can use different codecs such as G.711, AMR, and iLB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5E80B217-36F8-43EA-98A5-E6F1284C7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cy Calling (IEEE 802.11u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Emergency Call Number provisioning of ST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 signaling of Emergency Service to A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dited bandwidth requ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s in Open Authentication hotspots, are able to place emergency cal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As without proper security credentials, for secure hotspots, are able to place emergency cal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working information element which can be included in association request frames in order to bypass the IEEE 802.1X port at an AP for un-authenticated access to emergency serv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0F19E6AF-BE8E-461A-8427-DDA6511D8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tion Services (IEEE 802.11v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both STA and AP loc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Geo (x,y,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ivic (addres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ccuracy re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c URI (provides location when de-reference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cation MI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STA mo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EEE 802 ES SG and IEEE 802.11 held a joint meeting in January 2010. It conclud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u covers most emergency service MAC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0024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EE 802.11v covers most location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ttle need to do anything els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4360" y="7650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nuary 2010 Joint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FFCD28C7-828F-4C24-AA27-3FF9972CD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ETF ECRI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atures from provided input to the IETF ECRIT document “draft-schulzrinne-ecrit-unauthenticated-access-07.txt”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ETF emergency services architecture assumes that the calling device has acquired rights to use the access network or that no authentication is required for the access network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protocol interactions, location information, learning the address of the PSAP and the emergency call itself are decoupled from the underlying network access procedur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addresses devices which do not have credentials for network access, do not have a VoIP provider or application service provider, or the credentials have become invalid, e.g., because the user has exhausted their prepaid balance or the account has expir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7E921BF-4719-4B19-ADC1-1ABC916CA5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mergency Alerts (IEEE 802.11u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ification of emergency aler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tification avoids broadcast fl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ailability of alert transmitted to 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nique hash to identify dupl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2"/>
          <p:cNvSpPr/>
          <p:nvPr/>
        </p:nvSpPr>
        <p:spPr>
          <a:xfrm>
            <a:off x="7601760" y="6475320"/>
            <a:ext cx="141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ephen McCann, R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16240" y="6475320"/>
            <a:ext cx="988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6F9ACE94-D4A1-47E2-9376-D3AA4B41CA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rther 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ergency Service provisioning in IEEE 802.11 MESH (11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ke-on-LAN provision (energy saving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monisation of IEEE 802.11 &amp; IEEE 802.1 location servic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ephen McCann, RI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2T14:01:45Z</dcterms:created>
  <dc:creator>Stephen McCann</dc:creator>
  <dc:description/>
  <dc:language>en-US</dc:language>
  <cp:lastModifiedBy>Stephen McCann</cp:lastModifiedBy>
  <cp:lastPrinted>1998-02-10T13:28:06Z</cp:lastPrinted>
  <dcterms:modified xsi:type="dcterms:W3CDTF">2010-03-14T17:16:47Z</dcterms:modified>
  <cp:revision>778</cp:revision>
  <dc:subject/>
  <dc:title>ETSI ERM Summary</dc:title>
</cp:coreProperties>
</file>