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19840" cy="37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0856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6384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4200" cy="4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0" y="9555120"/>
            <a:ext cx="336384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420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A3E591-3411-4FE6-93D1-7442A5D468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036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E3BC-EBB0-4001-B6B0-130246F5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30AA-1C66-426C-A9FE-3B3E7263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29D2-9356-44BA-9418-F2138BB1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0480" y="176832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0480" y="4369680"/>
            <a:ext cx="291744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13E4-80AB-4F98-A93C-D74948EE4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23F0-D373-40B3-B6E9-8BFA1DC6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A8F-BF47-4FA2-AD69-39A26114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782-7349-468F-B056-4C268835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0D8A-ACDE-45BC-BAF0-97B16AF2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302-75BE-4609-A1BD-E7D924275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8A5F-ECD3-4C77-A6AA-29B1FBA4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6200" y="436968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220-4A5F-41CA-A8F8-B5FCFC5A3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6200" y="1768320"/>
            <a:ext cx="442188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9680"/>
            <a:ext cx="9061560" cy="2375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220-42EF-4DB9-A397-0F714B6F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156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7157520"/>
            <a:ext cx="23382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m/dd/yyy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7157520"/>
            <a:ext cx="3186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7157520"/>
            <a:ext cx="2338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8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2.16 support for citizen-to-authority emergency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erminal currently disconnected from the networ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indication during initial network entry to identify that the purpose of a network entry event is to make an emergency services VoIP cal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urrently active termi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ice encoding to identify that a specific service flow is identified for ES services; reserved for 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8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Location Based Services (LBS); GPS based, network based, and GPS with network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6 air interface hooks are only part of a tot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he network compon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MAX Forum, an industry forum implementing the 802.16 air interface, has created an end-to-end specification for 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Forum end-to-end 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initial network entry ES service indication bit/active terminal ES flow traffic indication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full subscription authentication in regulatory environments that require by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line the terminal to a local ES VoIP gateway server to direct the user traffic to the ES service; for INE ES events this is the only permitted service for unauthenticated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MAX Forum end-to-end sp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has lim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to specific carrier supported VoIP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ed VoIP services vary across terminals and c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unified, common VoIP service across all WiMAX networks/terminal form factors (laptop chipset, USB dongle for laptop, workpad, smartphone, SIM based phone, etc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versity of terminal form factors confounds common VoIP serv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tail distribution model where operator does not have direct relationship with terminal vendor confounds VoIP service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TORIAL (n+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44468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MAX Forum end-to-end spe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5520"/>
                <a:tab algn="l" pos="538200"/>
                <a:tab algn="l" pos="995400"/>
                <a:tab algn="l" pos="1452600"/>
                <a:tab algn="l" pos="1909800"/>
                <a:tab algn="l" pos="2367000"/>
                <a:tab algn="l" pos="2824200"/>
                <a:tab algn="l" pos="3281400"/>
                <a:tab algn="l" pos="3738600"/>
                <a:tab algn="l" pos="4195800"/>
                <a:tab algn="l" pos="4653000"/>
                <a:tab algn="l" pos="5110200"/>
                <a:tab algn="l" pos="5567400"/>
                <a:tab algn="l" pos="6024600"/>
                <a:tab algn="l" pos="6481800"/>
                <a:tab algn="l" pos="6939000"/>
                <a:tab algn="l" pos="7396200"/>
                <a:tab algn="l" pos="7853400"/>
                <a:tab algn="l" pos="8310600"/>
                <a:tab algn="l" pos="8767800"/>
                <a:tab algn="l" pos="9225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al VoIP service requires common, certifiable VoIP implementation (default client basic functionality, voice CODEC, session protocol); still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Phillip Barber</cp:lastModifiedBy>
  <dcterms:modified xsi:type="dcterms:W3CDTF">2010-03-03T02:37:46Z</dcterms:modified>
  <cp:revision>280</cp:revision>
  <dc:subject/>
  <dc:title>TUTORIAL (n)</dc:title>
</cp:coreProperties>
</file>