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14800" cy="375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03880" cy="451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4398480" y="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5916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64F78A-C7C4-4427-9C5E-686EC21EB1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0532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8A55-CDDD-4FF4-8B2C-26B846371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1240-239B-4664-B291-94AD1258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F427-7879-41FD-AA61-9775811DB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08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176796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08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4366800"/>
            <a:ext cx="291600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3822-1594-45B8-AA5E-DFE2619C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ADA3-5A23-4A5D-85A0-1DBFB19B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2D8-9BC2-4BED-9421-7FA25727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859F-9C42-4FC0-B890-8A368920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2F85-0546-4925-BB3A-6D355D594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680"/>
            <a:ext cx="9056520" cy="57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BBFB-4635-4A38-B05A-F4596DFA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15FF-6BD9-42C5-98DC-5F8955C8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3680" y="436680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B490-785D-4CC8-8282-D960AB2B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3680" y="1767960"/>
            <a:ext cx="441936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66800"/>
            <a:ext cx="9056520" cy="2373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6F2D-FBDF-459F-A87E-8A3DD4D2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5652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7960"/>
            <a:ext cx="9056520" cy="4975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7157880"/>
            <a:ext cx="23335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3/15/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7157880"/>
            <a:ext cx="318132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02 Emergency Services Tutor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7157880"/>
            <a:ext cx="2333880" cy="30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fcc.gov/cgb/consumerfacts/voip911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cc.gov/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EMERGENCY SERVICES TUTOR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802 needs an Emergency Services Project and what we think it should look lik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02 ES-ECS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off Thompson/InterDigita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ott Henderson/RIM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ephen McCann/RIM for 802.11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il Barber/Huawei for 802.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lex Problem?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5119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PPORT for the full scope of EMERGENCY SERVICES and THEIR (present and future) REGULATORY REQUIREMENTS FOR PACKET NETWORKS IS A HUGE, COMPLEX PROBLEM FOR WHICH THE PROBLEM ITSELF IS NOT YET FULLY DEFIN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cope for this project is much smaller and well defined i.e.:</a:t>
            </a:r>
            <a:br>
              <a:rPr sz="44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nly support VoIP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itizen-to-authority c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Comple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pieces of the ES problem tha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well defined tod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ve existing regulatory (or derivative) 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not addressed across 802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247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iggest pie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originated (and VoIP originated) “calls” to the PSTN don't carry the information required (e.g. location) for emergency cal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here are proprietary exce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coordinated pieces within some W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existing IETF requirements for these ES calls that are not being me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02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VoIP doesn't work for ES calls toda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rnet was designed to be “location neutral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“112/911” was designed around and serviced by a localized static wired infrastructure (end office circuit switched system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IP services are highly decentralized and often cross national boundarie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egulatory probl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Loc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409400"/>
            <a:ext cx="907092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VoIP doesn't work well for ES today (cont'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ay, the VoIP service provider has no knowledge of the caller's location within the Internet (almost tru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SAP has no prior knowledge that a caller is within their service ar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, associating caller and proper PSAP is a big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IP service providers are not sufficiently regulated to fully handle the ES problem; there are significant technical, geopolitical and legal jurisdiction problems involved (language to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TF &amp; Emergency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f.org/dyn/wg/charter/ecrit-charter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 Internet drafts, 7 RF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“Requirements”, “Framework” and “Best Current Practice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also R. Barnes/Hannes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schofenig IE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eso: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riv.dreamhosters.com/esw6/PEACE-Vortrag_v5.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8840" y="417240"/>
            <a:ext cx="907092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5843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ETF – ECRIT group has taken on the task of solving this problem for the upper lay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 needs to liaise with ECRI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a complete solution that encompasses 802 end networ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 precisely on requirements for 8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lution should look the same to ECRIT without regard to which 802 technology is in u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RIT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444320"/>
            <a:ext cx="9070920" cy="515916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does ECRIT need from 802 to meet these requirement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might IEEE 802 provide to ECRIT to meet these requiremen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location of and/or to end statio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ffer Layer 1 &amp; 2 element location inform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fer LOCAL connection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e.g. bypass various tunneling sche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service to unauthenticated us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Initiate &amp; handover/callbac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oofing and security are iss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371240"/>
            <a:ext cx="9070920" cy="5218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 Emergency Service ECS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1  - Stephen McC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ing for 802.16  - Phil Bar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Services EC Study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1/Geoff Thomp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er 2/Scott Hender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2400" indent="-31428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Font typeface="Times New Roman"/>
              <a:buChar char="–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w Po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/Regulatory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5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S Historical Case) 911 Call Origination Identifi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based on the wireline legacy incumbent local exchange carriers' databases of thei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gacy system in its original form was seriously compromised 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phone service ceased to be dominated by a wireline monopo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phones became significant. (They had no built-in location mechanism. They also had a weakened sense of just where they wanted to call for 911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IP phone services grew. VoIP has no inherent caller or call target physical location knowl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711360"/>
                <a:tab algn="l" pos="1434960"/>
                <a:tab algn="l" pos="2171880"/>
                <a:tab algn="l" pos="2882880"/>
                <a:tab algn="l" pos="3606840"/>
                <a:tab algn="l" pos="4330800"/>
                <a:tab algn="l" pos="5054760"/>
                <a:tab algn="l" pos="5778360"/>
                <a:tab algn="l" pos="6515280"/>
                <a:tab algn="l" pos="7226280"/>
                <a:tab algn="l" pos="7950240"/>
                <a:tab algn="l" pos="8674200"/>
                <a:tab algn="l" pos="9131400"/>
                <a:tab algn="l" pos="9588600"/>
                <a:tab algn="l" pos="10045800"/>
                <a:tab algn="l" pos="10503000"/>
                <a:tab algn="l" pos="10504440"/>
                <a:tab algn="l" pos="10506240"/>
                <a:tab algn="l" pos="10507680"/>
                <a:tab algn="l" pos="10509120"/>
                <a:tab algn="l" pos="10510920"/>
                <a:tab algn="l" pos="10512360"/>
                <a:tab algn="l" pos="1051416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less inherent authentication was weake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chnical Problem Sta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1407600"/>
            <a:ext cx="9097920" cy="54500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1760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US Regulations require Emergency Service calls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Be directed to the appropriate PSAP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arry originating location inform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rovide sufficient information for PSAP call-back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0">
              <a:lnSpc>
                <a:spcPct val="73000"/>
              </a:lnSpc>
              <a:spcAft>
                <a:spcPts val="1426"/>
              </a:spcAft>
              <a:buNone/>
              <a:tabLst>
                <a:tab algn="l" pos="0"/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Not required but possibly desirable to consid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ubscriber station authenticati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rvice to unauthenticated users</a:t>
            </a:r>
            <a:br>
              <a:rPr sz="31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though not in all countries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17600" indent="-312840">
              <a:lnSpc>
                <a:spcPct val="7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Assured access capability for Emergency Service call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CC Consumer Info She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84120" y="1373040"/>
            <a:ext cx="9385200" cy="271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04720" y="4630680"/>
            <a:ext cx="9070920" cy="11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www.fcc.gov/cgb/consumerfacts/voip911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Example:) US Requirement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adapted from: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www.fcc.gov</a:t>
            </a:r>
            <a:r>
              <a:rPr b="0" lang="en-US" sz="2200" spc="-1" strike="noStrike">
                <a:solidFill>
                  <a:srgbClr val="000080"/>
                </a:solidFill>
                <a:latin typeface="Arial"/>
              </a:rPr>
              <a:t> / cgb / consumerfacts / voip911.pdf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US FCC has imposed the following requiremen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33520"/>
                <a:tab algn="l" pos="990720"/>
                <a:tab algn="l" pos="1447920"/>
                <a:tab algn="l" pos="1905120"/>
                <a:tab algn="l" pos="2362320"/>
                <a:tab algn="l" pos="2819520"/>
                <a:tab algn="l" pos="3276720"/>
                <a:tab algn="l" pos="3733920"/>
                <a:tab algn="l" pos="4191120"/>
                <a:tab algn="l" pos="4648320"/>
                <a:tab algn="l" pos="5105520"/>
                <a:tab algn="l" pos="5562720"/>
                <a:tab algn="l" pos="6019920"/>
                <a:tab algn="l" pos="6477120"/>
                <a:tab algn="l" pos="6934320"/>
                <a:tab algn="l" pos="7391520"/>
                <a:tab algn="l" pos="7848720"/>
                <a:tab algn="l" pos="8305920"/>
                <a:tab algn="l" pos="8763120"/>
                <a:tab algn="l" pos="92203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 interconnected VoIP providers must automatically provide 911 service to all their customers as a standard, mandatory feature without customers having to specifically request this service.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IP providers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may no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llow their customers to “opt-out” of 911 servi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: Other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ther countries have similar requiremen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national differences, especially with respec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ergency numbers other than “911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: http://www.sccfd.org/travel.htm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severa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prohibit location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040" indent="-31752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90520"/>
            <a:ext cx="9070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ed Problem lies in Multiple Dom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, routing and higher layer portions of the problem belong to the IET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problems are being addressed primarily by IETF ECR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elow Layer 3 portion of the problem is for 802 to 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2.11 and 802.16 have already done some explicit work in this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9040" indent="-314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s to be handled uniformly across 80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02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479240"/>
            <a:ext cx="9070920" cy="5375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EE 802 needs a single standard so that IP applications “should” not need to know which 802 MAC is currently being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envisioned as a “shim layer” that goes between an 802 end station MAC and its upper layer cli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4720" indent="-311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19040"/>
                <a:tab algn="l" pos="531720"/>
                <a:tab algn="l" pos="988920"/>
                <a:tab algn="l" pos="1446120"/>
                <a:tab algn="l" pos="1903320"/>
                <a:tab algn="l" pos="2360520"/>
                <a:tab algn="l" pos="2817720"/>
                <a:tab algn="l" pos="3274920"/>
                <a:tab algn="l" pos="3732120"/>
                <a:tab algn="l" pos="4189320"/>
                <a:tab algn="l" pos="4646520"/>
                <a:tab algn="l" pos="5103720"/>
                <a:tab algn="l" pos="5560920"/>
                <a:tab algn="l" pos="6018120"/>
                <a:tab algn="l" pos="6475320"/>
                <a:tab algn="l" pos="6932520"/>
                <a:tab algn="l" pos="7389720"/>
                <a:tab algn="l" pos="7846920"/>
                <a:tab algn="l" pos="8304120"/>
                <a:tab algn="l" pos="8761320"/>
                <a:tab algn="l" pos="921852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may be similar pieces required for 802.1 relays to add per-hop location informa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ay be required for location back-up information when no end-location information is provid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0T06:02:31Z</dcterms:created>
  <dc:creator>Geoff Thompson</dc:creator>
  <dc:description/>
  <dc:language>en-US</dc:language>
  <cp:lastModifiedBy>Geoff Thompson</cp:lastModifiedBy>
  <dcterms:modified xsi:type="dcterms:W3CDTF">2010-02-11T21:42:11Z</dcterms:modified>
  <cp:revision>272</cp:revision>
  <dc:subject/>
  <dc:title/>
</cp:coreProperties>
</file>