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C316A-2A20-4893-B4D0-C8ADE6BB2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GPS reliability in cities and inside buildings is a problem, as is spoofing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71600" y="763560"/>
            <a:ext cx="502272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A61-5DA6-4A77-97FF-A1F118D0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F12-EC46-42F9-96FE-8A70C651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B63-ABE0-4987-BB2F-3EBF8286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F1A-4B2D-4818-BF86-F06F8A18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F40-F205-42AA-8704-BABA2262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C9D-6FFC-4A03-AAB8-7882654A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92A-026B-4FFC-970C-26474E69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6BE-4E1E-41C9-A51E-4594FE6D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F14-50C9-4342-9364-14923F2E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D06-5B80-4447-BCD1-AE6FBB8A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C2C-8CD7-44A0-BA7F-7AA2350B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178-9683-4861-B93C-4FEB1610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676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456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71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Security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026720"/>
            <a:ext cx="909792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dicated VLAN sidesteps some of the issues associated with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location information is forbidden in some countries, mandatory i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location information is considered to be sensitiv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integrity across the call is a security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needed for call back is considered to b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ual content of the call may be considered to b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sequence via wireless end 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336320"/>
            <a:ext cx="907092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ES SIP Request to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s location information sent at this point or in subsequent packet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ut now, 802 has pretty much set up its job except when the time comes for Call-Back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Handover and roaming problems exclud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vance information query can come back after call is establish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e need to say more about roaming and handover. Much study needed in multiple W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919840" y="5602320"/>
            <a:ext cx="2743200" cy="457200"/>
            <a:chOff x="5919840" y="5602320"/>
            <a:chExt cx="2743200" cy="457200"/>
          </a:xfrm>
        </p:grpSpPr>
        <p:sp>
          <p:nvSpPr>
            <p:cNvPr id="158" name=""/>
            <p:cNvSpPr/>
            <p:nvPr/>
          </p:nvSpPr>
          <p:spPr>
            <a:xfrm>
              <a:off x="591984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168560" y="5602320"/>
            <a:ext cx="2743200" cy="457200"/>
            <a:chOff x="1168560" y="5602320"/>
            <a:chExt cx="2743200" cy="457200"/>
          </a:xfrm>
        </p:grpSpPr>
        <p:sp>
          <p:nvSpPr>
            <p:cNvPr id="160" name=""/>
            <p:cNvSpPr/>
            <p:nvPr/>
          </p:nvSpPr>
          <p:spPr>
            <a:xfrm>
              <a:off x="116856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2920" y="1600200"/>
            <a:ext cx="19764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70920" y="160020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6692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196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6692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340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3856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4504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3856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4504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64040" y="5100480"/>
            <a:ext cx="36576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5135400"/>
            <a:ext cx="1882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416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8520" y="3728880"/>
            <a:ext cx="175248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60280"/>
            <a:ext cx="8815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39880" y="6386400"/>
            <a:ext cx="39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70160" y="3728880"/>
            <a:ext cx="175284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&amp; M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33720" y="3187800"/>
            <a:ext cx="394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point for Wirele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/>
          <p:nvPr/>
        </p:nvCxnSpPr>
        <p:spPr>
          <a:xfrm flipV="1" rot="10800000">
            <a:off x="1888560" y="4238280"/>
            <a:ext cx="125460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134720"/>
            <a:ext cx="909792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ity considerations for ECRIT are put fo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ETF RFC-50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few problems which seem to be intractable in a wireless environment with unauthenticat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ing call location information from unauthenticated users will be visible (“Hollywood Paparazzi Problem”) unless we encrypt (at least) the over-the-air portion of those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the current population of public access points has no way to provide encryption for unauthenticat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the current population of 802.11 access points has no way to preserve security while switching SSIDs (for further investi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026720"/>
            <a:ext cx="909792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is a significant chall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will possibly require changes from the wireless MA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standardization should not be allowed to delay work on the primary functionality of “getting the call throug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first hop encryption should not be allowed to significantly delay the primary functionality of “getting the call throug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800600" y="3429000"/>
            <a:ext cx="1440" cy="457200"/>
          </a:xfrm>
          <a:prstGeom prst="line">
            <a:avLst/>
          </a:prstGeom>
          <a:ln w="7308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9760" y="5597640"/>
            <a:ext cx="27432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168560" y="5602320"/>
            <a:ext cx="2260440" cy="457200"/>
            <a:chOff x="1168560" y="5602320"/>
            <a:chExt cx="2260440" cy="457200"/>
          </a:xfrm>
        </p:grpSpPr>
        <p:sp>
          <p:nvSpPr>
            <p:cNvPr id="63" name=""/>
            <p:cNvSpPr/>
            <p:nvPr/>
          </p:nvSpPr>
          <p:spPr>
            <a:xfrm>
              <a:off x="1168560" y="5602320"/>
              <a:ext cx="226044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2920" y="1600200"/>
            <a:ext cx="19764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70920" y="160020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416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60280"/>
            <a:ext cx="8815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39880" y="6386400"/>
            <a:ext cx="39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/>
          <p:nvPr/>
        </p:nvCxnSpPr>
        <p:spPr>
          <a:xfrm rot="10800000">
            <a:off x="1888560" y="4731480"/>
            <a:ext cx="76428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6234120" y="3402000"/>
            <a:ext cx="1009800" cy="2806560"/>
          </a:xfrm>
          <a:custGeom>
            <a:avLst/>
            <a:gdLst>
              <a:gd name="textAreaLeft" fmla="*/ 360 w 1009800"/>
              <a:gd name="textAreaRight" fmla="*/ 1009440 w 1009800"/>
              <a:gd name="textAreaTop" fmla="*/ 360 h 2806560"/>
              <a:gd name="textAreaBottom" fmla="*/ 2806200 h 2806560"/>
            </a:gdLst>
            <a:ahLst/>
            <a:rect l="textAreaLeft" t="textAreaTop" r="textAreaRight" b="textAreaBottom"/>
            <a:pathLst>
              <a:path w="21600" h="60020">
                <a:moveTo>
                  <a:pt x="33" y="0"/>
                </a:moveTo>
                <a:arcTo wR="33" hR="33" stAng="16200000" swAng="-5400000"/>
                <a:lnTo>
                  <a:pt x="0" y="59987"/>
                </a:lnTo>
                <a:arcTo wR="33" hR="33" stAng="10800000" swAng="-5400000"/>
                <a:lnTo>
                  <a:pt x="21567" y="60020"/>
                </a:lnTo>
                <a:arcTo wR="33" hR="33" stAng="5400000" swAng="-5400000"/>
                <a:lnTo>
                  <a:pt x="21600" y="33"/>
                </a:lnTo>
                <a:arcTo wR="33" hR="3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02200" y="3112920"/>
            <a:ext cx="135072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06880" y="307980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02200" y="3279600"/>
            <a:ext cx="135072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06880" y="3246480"/>
            <a:ext cx="1346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21320" y="3112920"/>
            <a:ext cx="135108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26000" y="307980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21320" y="3279600"/>
            <a:ext cx="135108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26000" y="3246480"/>
            <a:ext cx="134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00400" y="2822400"/>
            <a:ext cx="2772000" cy="301680"/>
          </a:xfrm>
          <a:prstGeom prst="roundRect">
            <a:avLst>
              <a:gd name="adj" fmla="val 5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64240" y="2844720"/>
            <a:ext cx="1504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51560" y="191916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05440" y="1919160"/>
            <a:ext cx="132840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5837400"/>
            <a:ext cx="134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86360" y="5837400"/>
            <a:ext cx="1346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7400" y="3957480"/>
            <a:ext cx="860400" cy="636840"/>
          </a:xfrm>
          <a:prstGeom prst="roundRect">
            <a:avLst>
              <a:gd name="adj" fmla="val 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2200" y="570564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5440" y="567216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2200" y="587232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81320" y="570564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84560" y="567216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81320" y="587232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0760" y="5413320"/>
            <a:ext cx="2771640" cy="301680"/>
          </a:xfrm>
          <a:prstGeom prst="roundRect">
            <a:avLst>
              <a:gd name="adj" fmla="val 5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24240" y="5435640"/>
            <a:ext cx="1504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1560" y="451008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5440" y="451008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&amp; M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7088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→ ECR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00280" y="3908520"/>
            <a:ext cx="20890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poi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919840" y="5602320"/>
            <a:ext cx="2743200" cy="457200"/>
            <a:chOff x="5919840" y="5602320"/>
            <a:chExt cx="2743200" cy="457200"/>
          </a:xfrm>
        </p:grpSpPr>
        <p:sp>
          <p:nvSpPr>
            <p:cNvPr id="112" name=""/>
            <p:cNvSpPr/>
            <p:nvPr/>
          </p:nvSpPr>
          <p:spPr>
            <a:xfrm>
              <a:off x="591984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600200" y="5602320"/>
            <a:ext cx="2743200" cy="457200"/>
            <a:chOff x="1600200" y="5602320"/>
            <a:chExt cx="2743200" cy="457200"/>
          </a:xfrm>
        </p:grpSpPr>
        <p:sp>
          <p:nvSpPr>
            <p:cNvPr id="114" name=""/>
            <p:cNvSpPr/>
            <p:nvPr/>
          </p:nvSpPr>
          <p:spPr>
            <a:xfrm>
              <a:off x="160020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9528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96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1600200"/>
            <a:ext cx="1927080" cy="1143000"/>
          </a:xfrm>
          <a:prstGeom prst="roundRect">
            <a:avLst>
              <a:gd name="adj" fmla="val 13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70920" y="379728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96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96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96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6692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196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6692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340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3856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504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3856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4504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64040" y="5100480"/>
            <a:ext cx="36576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5135400"/>
            <a:ext cx="1882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8520" y="3909960"/>
            <a:ext cx="1865160" cy="1071720"/>
          </a:xfrm>
          <a:prstGeom prst="roundRect">
            <a:avLst>
              <a:gd name="adj" fmla="val 14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90520"/>
            <a:ext cx="891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6600" y="6386400"/>
            <a:ext cx="1146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3800" y="3909960"/>
            <a:ext cx="1865520" cy="1071720"/>
          </a:xfrm>
          <a:prstGeom prst="roundRect">
            <a:avLst>
              <a:gd name="adj" fmla="val 14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9360" y="3187800"/>
            <a:ext cx="2100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rela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1828800"/>
            <a:ext cx="1440" cy="5257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1143000"/>
            <a:ext cx="2971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for the time be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network to the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f the lin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Not 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Secure on a hop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30960" y="2055960"/>
            <a:ext cx="2514600" cy="1600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involvement en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 w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 is separa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A/D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Typ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282600"/>
            <a:ext cx="9064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22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Public safety agency preference is for infrastructure based location over human supplied location and end station based location information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2.11 service leaking into adjacent properties is a well known problem. That is, being able to provide accurate street address information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f the call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2.16 distance and angle measurement is not of sufficient accuracy to meet the requirements E911 &amp; NG9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mergency Services and its features are all a contentious technical area, both from a feature/content point-of-view and from a division of work/layer/SDO assignment point-of-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Just what are the regulatory requirements (from around the worl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hat technical work needs to be done first/now?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(We can't just wait until everything is written in stone to star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hat pieces will get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 what lay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 what S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etting good answers to all of this is the first task for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 sequence via wireless end link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02.11 not 802.16 How to fi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2920" y="1336320"/>
            <a:ext cx="907092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-&gt;Sta Beacon of SSID for ES V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picks a beac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“Authenticate reque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sends “Authenticate repl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 “Associate reque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sends “Authenticate repl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DHCP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passes back DHCP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response contains IP address for station, gateway IP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 ARP request with Gateway IP addr to get Gateway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passes back ARP response from Gateway with its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can now communicate directly to Gateway via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