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05B5A-B51C-4765-B625-F7CA93CBD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61F-41E6-4572-9F6E-39D9855D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CAD-4AC9-403F-B86D-1A8C6A91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1241-92BD-48B6-8401-C0382D28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7B1-D454-4629-B4F0-D84A6172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2AD-FEED-4BFD-983E-474A4630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146-8A00-470A-81CB-B3223E2D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5ACD-3931-4F66-A3DC-0BE63974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964-7A2B-432E-ABE2-218D2853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C58-444F-478A-AD43-104D8560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04E0-F4B2-4BF6-A1C8-091B77ED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7B16-5EE9-4975-A17D-19E184A4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00A-4841-4931-BA63-B925FE14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676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456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712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believe 802 needs to finish the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referenced external req'ts from EC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interface specs from ECRIT harmonized and reconciled to our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within various 802 W.G.s to tweak their pi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S WG to generate a single standard to reconcile the upper layer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believe 802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y offer to improve the 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tandard that includes means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end &amp;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erhap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 hop location in 802 networ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 emergency calls priority in 802 network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information to enable Call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a LOCAL connection mechanism (e.g. bypass various tunneling sche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ervice to unauthenticated users to a default VoIP rou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ofing and security ar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H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-ECSG intends to provide what ECRIT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 will work with ECRIT to provide optimal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end location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ES to provide/harmonize end station location MIB to ECRIT format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per-hop location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/use existing mechanism from 802.1ag and equivalents from 802.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mergency calls priority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ith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xisting priority mechanisms in 802.1Q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E: Priority access or call handling is not a current requirement in 112/911 systems nor anticipated in the remainder of VoIP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nformation to enable Call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both originating terminal location MIB information and per-hop network information as part of session initiation information to the network attachment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uld provide “hints” that the 802 network could use if call is disconnected and straightforward callback turns out to be a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51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79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96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LOCAL connection mechanism (e.g. bypass various tunneling schem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3157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VLAN (or equivalent) across all 802 networks that is dedicated exclusively to Emergency Services. It would have a single destination, i.e. the network attachment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-3157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nticipate that packets would be steered to this new dedicated VLAN by the use of a new Ether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ervice to unauthenticat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uld be difficult, but is a firm regulatory requirement</a:t>
            </a:r>
            <a:r>
              <a:rPr b="0" lang="en-US" sz="3200" spc="-1" strike="noStrike">
                <a:solidFill>
                  <a:srgbClr val="ff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cellular systems.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Not required in VoIP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believe a dedicated VLAN will make it easier than it would be to do otherw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uthenticati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uld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eded to use the dedicated VLAN, but it can only be used to get to the PS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f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and per-hop location information as provided will be available as a tool for use in dealing with this classical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