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C2A42-BFAA-4D93-A9E7-EA723FC9D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B2F-EDBF-4DEB-B0A3-55C61D7B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737-0CB5-4F2E-B8CD-A1C542DE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44B-C3F4-43C9-AF73-19F9317D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9E4-A0F7-450D-BF03-D64717C9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867-8947-4783-AB7E-06B77947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3A2-D503-4580-9766-554C9CFD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4B3-8B5C-48C4-A45E-D07AD4B2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D41-42CC-4B2A-86C2-46E996CB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38F-2106-48DD-A05F-B26FACD0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E8D-EB1D-436E-A32F-71091754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588-DC8D-490C-99EF-8FEC7C7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31C-B338-4557-8D9A-A71F835D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believe 802 needs to finish the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ferenced external req'ts from E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nterface specs from ECRIT harmonized and reconciled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in various 802 W.G.s to tweak thei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WG to generate a single standard to reconcile the upper layer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lieve 802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y offer to improve the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that includes mean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end &amp;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hap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 hop location in 802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emergency calls priority in 802 network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to enable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s to a default VoIP ro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ECSG intends to provide what ECRIT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ill work with ECRIT to provide optim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nd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ES to provide/harmonize end station location MIB to ECRIT forma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-hop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/use existing mechanism from 802.1ag and equivalents from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mergency calls priority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isting priority mechanisms in 802.1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: Priority access or call handling is not a current requirement in 112/911 systems nor anticipated in the remainder of VoIP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to enable Call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both originating terminal location MIB information and per-hop network information as part of session initiation information to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provide “hints” that the 802 network could use if call is disconnected and straightforward callback turns out to be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VLAN (or equivalent) across all 802 networks that is dedicated exclusively to Emergency Services. It would have a single destination, i.e.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ticipate that packets will be steered to this new dedicated VLAN by the use of a new Ether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 to unauthenticat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be difficult, but is a firm regulatory requirement</a:t>
            </a: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cellular systems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Not required in VoIP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lieve a dedicated VLAN will make it easier than it would be to do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entica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uld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use the dedicated VLAN, but it can only be used to get to the PS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f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and per-hop location information as provided will be available as a tool for use in dealing with this classica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