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2D9E3-8273-49EA-AE0C-16253AC0D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D74-7D24-4F84-88B4-4315A204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923-D725-4651-A3C7-944EF6D6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11A-D131-49EE-8B15-3A07C5BD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18E-1C34-467A-BEE3-9EBD22C7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53C-F628-4FAE-852E-D56723FB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FA7-F824-455E-B8BD-43014CF9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C2F-5332-4D2A-BE29-E256E617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884-525B-4F3B-8AD3-AB1241EA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7BE-C10D-453C-B9D0-27DED2FE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E65-3893-4ABE-AD9F-8809ECC3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3B0-6996-4E4C-98D5-174F6B70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B8B-EAD3-4A4A-B552-36FD6A56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407600"/>
            <a:ext cx="90979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372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 Regulations require Emergency Service call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 directed to the appropriate PS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rry originating location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sufficient information for PSAP call-back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required but possibly desirable to consi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scriber station authent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rvice to unauthenticated user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though not in all countri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ured access capability for Emergency Service ca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Karen Randall</cp:lastModifiedBy>
  <dcterms:modified xsi:type="dcterms:W3CDTF">2010-02-17T23:01:13Z</dcterms:modified>
  <cp:revision>276</cp:revision>
  <dc:subject/>
  <dc:title>Regulatory Technical Problem Statement</dc:title>
</cp:coreProperties>
</file>