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3B304-E707-44BF-9064-CB677C6A8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2EE-F4B9-4571-B798-0FCFF0E4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815-0948-47ED-BAED-057E320D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F3B-2994-4914-B826-9A7E4D04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489-69C8-4B66-A90C-E6AE5B03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C1-3988-4C11-9A8F-11CD884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016-7C32-4D63-B9CF-E8FE8FA5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0B0-92E4-4003-90AA-17394AA8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BCD-FEF7-4EA3-BB93-4F02E9B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027-3C0B-4299-8E23-15210A4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932-C6E9-41C1-A93E-101A56D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E4B-7A92-49D9-9766-012B88EE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D0B-AD9B-4D24-914F-9131FD4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7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59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(3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2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1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3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Government preference is for infrastructure based location over that from end station based location inform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 for which we have no solution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