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8F10A-DE2E-46BA-BC37-B8A2F996C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F45-650C-4DAF-AA99-2347F01C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D3F-5975-4671-A8A5-C43EBD18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186-A822-4474-8BF7-1EAB946F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8DD-3B9E-4FF5-A187-CD988EEB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1C7-4431-42A2-A6B9-640E13C9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E68-F7AB-4D8B-A362-D672BB59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83A-5C98-4194-A4B1-9B4ECCA6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D58-D537-4EF1-94A4-717873F1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0BC-02D3-47BD-BDAD-35192A6E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46A-9CD4-4AC2-8D77-B21D031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6E9-4905-4ACF-A9AF-85ED7388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FB1-BBCC-4F5A-9615-A28697F8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cc.gov/cgb/consumerfacts/voip911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cc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/2010 Con Cal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version is Geoff's edits as taken in the conferenc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includes implementation of the editing instructions talked about in the 1/29 conferenc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through Feb 4 11:00 AM, 201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ff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its during conference call Feb 4, 201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:00 PM – 3:37 PM by Geoff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by Geoff Thompson in prep for Con Call 2:00 PM PST Feb 1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by Geoff Thompson since posted version and in prep for Con Call 2:00 PM PST Feb 1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meeting edits by Karen Randall and Geoff Thompson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ed 4:30 PM PST, Feb 17, 2010 (Slides “X” in previous version were remov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needs a single standard so that IP applications “should” not need to know which 802 MAC is currently being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nvisioned as a “shim layer” that goes between an 802 end station MAC and its upper layer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y be similar pieces required for 802.1 relays to add per-hop location 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 be required for location back-up information when no end-location information is provi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Problem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the full scope of EMERGENCY SERVICES and THEIR (present and future) REGULATORY REQUIREMENTS FOR PACKET NETWORKS IS A HUGE, COMPLEX PROBLEM FOR WHICH THE PROBLEM ITSELF IS NOT YET FULLY DEF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ope for this project is much smaller and well defined i.e.: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ly support VoIP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tizen-to-authority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mple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pieces of the ES problem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well defined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existing regulatory (or derivative)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 addressed across 80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pie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originated (and VoIP originated) “calls” to the PSTN don't carry the information required (e.g. location) for emergency ca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proprietary ex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coordinated pieces within some W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existing IETF requirements for these ES calls that are not being m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VoIP doesn't work for ES calls 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et was designed to be “location neut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“112/911” was designed around and serviced by a localized static wired infrastructure (end office circuit switched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P services are highly decentralized and often cross national bounda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ulatory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VoIP doesn't work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ll for 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(cont'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oIP service provider has no knowledge of the caller's location within the Internet (almost tr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AP has no prior knowledge that a caller is within their servic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ssociating caller and proper PSAP is a bi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service providers are not sufficiently regulated to fully handle the ES problem; there are significant technical, geopolitical and legal jurisdiction problems involv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(language to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 &amp; Emergenc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.org/dyn/wg/charter/ecrit-chart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Internet drafts, 7 RF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“Requirements”, “Framework” and “Best Current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R. Barnes/Han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chofenig IE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o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riv.dreamhosters.com/esw6/PEACE-Vortrag_v5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8840" y="4172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1584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needs to liaise with ECR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complete solution that encompasses 802 end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precisely on requirements for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should look the same to ECRIT without regard to which 802 technology is in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159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es ECRIT need from 802 to meet these requirement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can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EEE 802 provide to ECRIT to meet these requirem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location of and/or to end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 Layer 1 &amp; 2 element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 LOCAL connec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Initiate &amp; handover/call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MERGENCY SERVICES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802 needs an Emergency Services Project and what we think it should look lik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2 ES-ECS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ff Thompson/InterDigi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 Henderson/R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thers from .16 </a:t>
            </a:r>
            <a:r>
              <a:rPr b="0" lang="en-US" sz="4000" spc="-1" strike="noStrike">
                <a:solidFill>
                  <a:srgbClr val="23ff23"/>
                </a:solidFill>
                <a:latin typeface="Arial"/>
              </a:rPr>
              <a:t>(Barber)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&amp; .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ergency Service EC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6  - Phil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Services EC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1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2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 Po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/Regulatory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S Historical Case) 911 Call Origination Identif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based on the wireline legacy incumbent local exchange carriers' databases of thei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acy system in its original form was seriously compromi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hone service ceased to be dominated by a wireline monop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phones became significant. (They had no built-in location mechanism. They also had a weakened sense of just where they wanted to call for 91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P phone services grew. VoIP has no inherent caller or call target physical location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herent authentication was weak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407600"/>
            <a:ext cx="90979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22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 Regulations require Emergency Service call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 directed to the appropriate PS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rry originating location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sufficient information for PSAP call-back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required but possibly desirable to consi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scriber station authent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rvice to unauthenticated user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though not in all countri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ured access capability for Emergency Service ca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CC Consumer Info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4120" y="1373040"/>
            <a:ext cx="9385200" cy="271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4720" y="463068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cc.gov/cgb/consumerfacts/voip911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xample:) US Requirement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dapted from: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fcc.gov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/ cgb / consumerfacts / voip911.pd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US FCC has imposed the following requireme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interconnected VoIP providers must automatically provide 911 service to all their customers as a standard, mandatory feature without customers having to specifically request this servic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IP provider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low their customers to “opt-out” of 911 ser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: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ountries have similar require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national differences, especially with respec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mbers other than “911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http://www.sccfd.org/travel.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have sever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prohibit location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Problem lies in Multiple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, routing and higher layer portions of the problem belong to the IE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roblems are being addressed primarily by IETF EC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ow Layer 3 portion of the problem is for 802 to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802.16 have already done some explicit work in this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handled uniformly across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