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7EE38-23CA-4AC8-ABE1-9C2255C9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AD5-0628-46CF-B3E6-DB3D055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FE0-4143-4035-9EE1-14E5B9F1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547-6D87-4BB6-AEC9-7CB36AA0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5F2-EA0C-4EA6-84F2-FA4129D7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30D-C198-4063-9699-B795452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CF0-9571-40D1-AAAA-CC47E4D7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4E4-0592-400E-ADD7-0623925B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A55-5876-4B68-9715-F03F77B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DAE-A6D8-4CC4-8188-A5A15B59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6D3-7A85-41A4-A6AB-E9713A7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290-D3D4-44F3-AC5F-D2E2E960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564-A895-4303-B1A3-A8F8FF3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7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59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(3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2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1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3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Government preference is for infrastructure based location over that from end station based location inform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 for which we have no solution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