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50627-1E6C-4F67-89DA-2083679A5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 RFC 5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ocation (civic or geographic) is required for two separate purpo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o support routing to appropriate P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o display the caller’s location to the call t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(Emergency Service Number) What lay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i.e. “visited emergency dial string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(Servicing PSAP) What lay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"Infrastructure Based Emergency Call Routing”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: RFC 5012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For infrastructure-based emergency call routing (in contrast to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-based emergency call routing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ergency call routing support entity needs to forward the call to the PSA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Infrastructure based locatio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Infrastucture ba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termination of appropriate P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outing to P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06A-3BBF-4F96-9B1D-ECA5E229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7DD-AE3B-4B3D-B59F-5BE7C2AF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FC4-A242-478F-8C15-8032AE6A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A59-8C3A-440A-9FAA-E44226E4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2BC-63E6-4D82-B59B-4C4F5449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73D-8ED9-48F3-B018-1E93F807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94B-BA02-4FE6-9776-7035A7B8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FF2-BF01-43FB-BD05-98B53B1B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CBA-1765-42B3-B098-781567CD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355-82CB-4287-BEE3-37193814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7A4-C310-446E-B60C-0D031049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B15-DC42-496A-8683-F86549A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7157880"/>
            <a:ext cx="2340000" cy="3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7157880"/>
            <a:ext cx="3187800" cy="3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880"/>
            <a:ext cx="2340000" cy="3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cc.gov/cgb/consumerfacts/voip91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cc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/2010 Con Cal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version is Geoff's edits as taken in the conferenc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 includes implementation of the editing instructions talked about in the 1/29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urther edits through Feb 4 11:00 AM, 201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ff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dits during conference call Feb 4, 2010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:00 PM – 3:37 PM by Geoff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urther Edits by Geoff Thompson in prep for Con Call 2:00 PM PST Feb 11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urther Edits by Geoff Thompson since posted version and in prep for Con Call 2:00 PM PST Feb 17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Problem lies in Multiple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, routing and higher layer portions of the problem belong to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are being addressed primarily by IETF EC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ow Layer 3 portion of the problem is for 802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802.16 have already done some explicit work in this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handled uniformly across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needs a single standard so that IP applications “should” not need to know which 802 MAC is currently being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nvisioned as a “shim layer” that goes between an 802 end station MAC and its upper layer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similar pieces required for 802.1 relays to add per-hop location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y 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for location back-up information when no end-location information is provi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EMERGENCY SERVICES and THEIR (present and future) REQUIREMENTS FOR PACKET NETWORKS IS A HUGE, COMPLEX PROBLEM FOR WHICH THE PROBLEM ITSELF IS NOT YET FULLY DEFIN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ccessful Emergency Call depends on all layers of th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our proposed scope we feel that the problem is fully defin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57200"/>
            <a:ext cx="9372600" cy="6858000"/>
          </a:xfrm>
          <a:prstGeom prst="line">
            <a:avLst/>
          </a:prstGeom>
          <a:ln w="292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1080" y="1169640"/>
            <a:ext cx="9601200" cy="6181560"/>
          </a:xfrm>
          <a:prstGeom prst="line">
            <a:avLst/>
          </a:prstGeom>
          <a:ln w="292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he full scope of EMERGENCY SERVICES and THEIR (present and future) REGULATORY REQUIREMENTS FOR PACKET NETWORKS IS A HUGE, COMPLEX PROBLEM FOR WHICH THE PROBLEM ITSELF IS NOT YET FULLY DEF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ope for this project is much smaller and well defined i.e.: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ly support VoIP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tizen-to-authority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Complex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ieces of the ES problem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well defined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existing regulatory (or derivative)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 addressed across 80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TORIAL (4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pie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originated (and VoIP originated) “calls” to the PSTN don't carry the information required (e.g. location) for emergency ca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proprietary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ere are uncoordinated pieces within some W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existing IETF requirements for these ES calls that are not being m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(6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bou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VoIP doesn't work for ES calls 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 was designed to be “location neut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“112/911” was designed around and serviced by a localized static wired infrastructure (end office circuit switch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P services are highly decentralized and often cross national bounda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ulatory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TORIAL (7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bout Loc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VoIP doesn't work today (cont'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oIP service provider has no knowledge of the caller's location within the Internet (almost tr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AP has no prior knowledge that a caller is within their servi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ssociating caller and proper PSAP is a bi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service providers are not sufficiently regulated to fully handle the ES problem; there are significant technical, geopolitical and legal jurisdiction problems involv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(language to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IAL (8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ETF &amp; Emergenc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.org/dyn/wg/charter/ecrit-chart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Internet drafts, 7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Requirements”,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” and “Best Current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R. Barnes/Han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chofenig IE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o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riv.dreamhosters.com/esw6/PEACE-Vortrag_v5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8840" y="4172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(9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C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584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needs to liaise with ECR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mplete solution that encompasses 802 end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gree precisely on requirements from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should look the same to ECRIT without regard to which 802 technology is in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MERGENCY SERVICES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802 needs an Emergency Services Project and what we think it should look lik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 ES-ECS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ff Thompson/InterDigi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Henderson/R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thers from .16 </a:t>
            </a:r>
            <a:r>
              <a:rPr b="0" lang="en-US" sz="4000" spc="-1" strike="noStrike">
                <a:solidFill>
                  <a:srgbClr val="23ff23"/>
                </a:solidFill>
                <a:latin typeface="Arial"/>
              </a:rPr>
              <a:t>(Barber)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&amp; .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IAL (10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CRI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159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1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es ECRIT need from 802 to meet these requir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can IEEE 802 provide to ECRIT to meet these requirem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location of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nd/or t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nd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 Layer 1 &amp; 2 element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 LOCAL connec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</a:t>
            </a:r>
            <a:br>
              <a:rPr sz="2600"/>
            </a:b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(Initiate &amp; handover/call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eak up in to separate presentations and pres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 will present for ES and how will the tutorial be broken into presen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ter 1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ter 2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ing for 802.1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ing for 802.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57200"/>
            <a:ext cx="9372600" cy="6858000"/>
          </a:xfrm>
          <a:prstGeom prst="line">
            <a:avLst/>
          </a:prstGeom>
          <a:ln w="292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ing for 802.1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ergency Services EC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ter 1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ter 2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raw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/Regulatory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 Historical Case) 911 Call Origination Identif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based on the wireline legacy incumbent local exchange carriers' databases of thei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cy system in its original form was seriously compromi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hone service ceased to be dominated by a wireline monop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phones became significant. (They had no built-in location mechanism. They also had a weakened sense of just where they wanted to call for 91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P phone services grew. VoIP has no inherent caller or call target physical locatio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herent authentication was weak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tory 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ency Services calls ne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be directed to the appropriate PS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rovide sufficient information for PSAP call-bac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rther (possible future but not current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 are required to provide service to any user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uthorized subscriber or not) some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rioritization capability should be consid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CC Consumer Info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4120" y="1373040"/>
            <a:ext cx="9385200" cy="271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4720" y="463068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cc.gov/cgb/consumerfacts/voip911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xample:) US Requirement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dapted from: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fcc.gov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/ cgb / consumerfacts / voip911.pd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S FCC has imposed the following requirem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interconnected VoIP providers must automatically provide 911 service to all their customers as a standard, mandatory feature without customers having to specifically request this servic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IP provider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ow their customers to “opt-out” of 911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: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ountries have similar require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national differences, especially with respec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mbers other than “911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http://www.sccfd.org/travel.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seve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prohibit location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