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3C5A-396A-4DF9-A4EF-E30E350CA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5584-A97E-4EAA-8937-C855F92063D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맑은 고딕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2901960" y="8853480"/>
            <a:ext cx="792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C8ABFC-1CEC-4880-9BC8-66A3E456E265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A297-8143-4B28-B75F-F08E2FB8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BD18-5039-4894-A015-5A8369E9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7EAA-2A6D-405C-A9C9-A6C1191D4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16EF-978B-48FC-8D40-6BF8A2D3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C67A-1DF4-422A-8322-91EC8F25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C8E5-3573-49B5-B07C-35801C62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7186-70FF-46D1-B3BE-56B5F260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D31B-7065-4EE7-B37E-4C64F526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62B3-8AB1-44D4-8FDD-AB3C775D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F9B7-E3E3-4ED8-9DD2-4C71FE30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1AD1-7104-4321-AAF3-C9625040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05F6-CF01-4AD2-8E51-6DF51F21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ACBE-472D-42C1-86DF-5226E1BE6C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9"/>
          <p:cNvGrpSpPr/>
          <p:nvPr/>
        </p:nvGrpSpPr>
        <p:grpSpPr>
          <a:xfrm>
            <a:off x="347760" y="76320"/>
            <a:ext cx="8491320" cy="6689160"/>
            <a:chOff x="347760" y="76320"/>
            <a:chExt cx="8491320" cy="6689160"/>
          </a:xfrm>
        </p:grpSpPr>
        <p:pic>
          <p:nvPicPr>
            <p:cNvPr id="49" name="Picture 8" descr=""/>
            <p:cNvPicPr/>
            <p:nvPr/>
          </p:nvPicPr>
          <p:blipFill>
            <a:blip r:embed="rId1"/>
            <a:stretch/>
          </p:blipFill>
          <p:spPr>
            <a:xfrm>
              <a:off x="2381040" y="1114560"/>
              <a:ext cx="2523960" cy="41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Oval 6"/>
            <p:cNvSpPr/>
            <p:nvPr/>
          </p:nvSpPr>
          <p:spPr>
            <a:xfrm>
              <a:off x="933480" y="685800"/>
              <a:ext cx="3504960" cy="3429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3"/>
            <p:cNvSpPr/>
            <p:nvPr/>
          </p:nvSpPr>
          <p:spPr>
            <a:xfrm>
              <a:off x="1847880" y="1752480"/>
              <a:ext cx="3581280" cy="350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20"/>
            <p:cNvGrpSpPr/>
            <p:nvPr/>
          </p:nvGrpSpPr>
          <p:grpSpPr>
            <a:xfrm>
              <a:off x="2513880" y="76320"/>
              <a:ext cx="5695200" cy="3352320"/>
              <a:chOff x="2513880" y="76320"/>
              <a:chExt cx="5695200" cy="3352320"/>
            </a:xfrm>
          </p:grpSpPr>
          <p:sp>
            <p:nvSpPr>
              <p:cNvPr id="53" name="TextBox 7"/>
              <p:cNvSpPr/>
              <p:nvPr/>
            </p:nvSpPr>
            <p:spPr>
              <a:xfrm>
                <a:off x="5375160" y="76320"/>
                <a:ext cx="28339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Lucida Sans Unicode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Lucida Sans Unicode"/>
                  </a:rPr>
                  <a:t>Reques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Lucida Sans Unicode"/>
                  </a:rPr>
                  <a:t>, 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Lucida Sans Unicode"/>
                  </a:rPr>
                  <a:t>unicas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8002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Lucida Sans Unicode"/>
                  </a:rPr>
                  <a:t>Payload 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8002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Lucida Sans Unicode"/>
                  </a:rPr>
                  <a:t>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Lucida Sans Unicode"/>
                  </a:rPr>
                  <a:t>ABT sub-block inde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ight Arrow 17"/>
              <p:cNvSpPr/>
              <p:nvPr/>
            </p:nvSpPr>
            <p:spPr>
              <a:xfrm rot="13389000">
                <a:off x="2423880" y="2894400"/>
                <a:ext cx="1113480" cy="177120"/>
              </a:xfrm>
              <a:prstGeom prst="rightArrow">
                <a:avLst>
                  <a:gd name="adj1" fmla="val 50000"/>
                  <a:gd name="adj2" fmla="val 50002"/>
                </a:avLst>
              </a:prstGeom>
              <a:solidFill>
                <a:srgbClr val="4f81b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TextBox 16"/>
            <p:cNvSpPr/>
            <p:nvPr/>
          </p:nvSpPr>
          <p:spPr>
            <a:xfrm>
              <a:off x="385560" y="4810320"/>
              <a:ext cx="35002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ssuming slot (9,14) i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ready assigned by node 0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 transmitting frames to node 3 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nnel 19 is a bad channe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8"/>
            <p:cNvSpPr/>
            <p:nvPr/>
          </p:nvSpPr>
          <p:spPr>
            <a:xfrm>
              <a:off x="399600" y="304920"/>
              <a:ext cx="3321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맑은 고딕"/>
                </a:rPr>
                <a:t>Slot = tuple (time slot, channe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맑은 고딕"/>
                </a:rPr>
                <a:t>MO = 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Box 19"/>
            <p:cNvSpPr/>
            <p:nvPr/>
          </p:nvSpPr>
          <p:spPr>
            <a:xfrm>
              <a:off x="5486400" y="2373480"/>
              <a:ext cx="335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de 3 assigns necessary slot(s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21"/>
            <p:cNvSpPr/>
            <p:nvPr/>
          </p:nvSpPr>
          <p:spPr>
            <a:xfrm>
              <a:off x="347760" y="1227240"/>
              <a:ext cx="2928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very node that hears the broadcasts updates it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lot allocation bitmap (SA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14"/>
            <p:cNvSpPr/>
            <p:nvPr/>
          </p:nvSpPr>
          <p:spPr>
            <a:xfrm>
              <a:off x="5529240" y="2738520"/>
              <a:ext cx="3124080" cy="20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Lucida Sans Unicode"/>
                  <a:ea typeface="SimSun"/>
                </a:rPr>
                <a:t>3. Notify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Sans Unicode"/>
                  <a:ea typeface="SimSun"/>
                </a:rPr>
                <a:t>,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Lucida Sans Unicode"/>
                  <a:ea typeface="SimSun"/>
                </a:rPr>
                <a:t>broadca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SimSun"/>
                </a:rPr>
                <a:t>Payload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SimSun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SimSun"/>
                </a:rPr>
                <a:t>Dst addr  (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SimSun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SimSun"/>
                </a:rPr>
                <a:t>Direction (Tx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SimSun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SimSun"/>
                </a:rPr>
                <a:t>ABT sub-block ind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SimSun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SimSun"/>
                </a:rPr>
                <a:t>newly allocated ABT sub-blo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SimSun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SimSu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{000000000000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11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000000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11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00000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            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11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00000000000000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Box 9"/>
            <p:cNvSpPr/>
            <p:nvPr/>
          </p:nvSpPr>
          <p:spPr>
            <a:xfrm>
              <a:off x="5410080" y="746280"/>
              <a:ext cx="304776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Lucida Sans Unicode"/>
                  <a:ea typeface="SimSun"/>
                </a:rPr>
                <a:t>2. Reply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Sans Unicode"/>
                  <a:ea typeface="SimSun"/>
                </a:rPr>
                <a:t>,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Lucida Sans Unicode"/>
                  <a:ea typeface="SimSun"/>
                </a:rPr>
                <a:t>unica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SimSun"/>
                </a:rPr>
                <a:t>Payload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SimSun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SimSun"/>
                </a:rPr>
                <a:t>ABT sub-block ind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SimSun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SimSun"/>
                </a:rPr>
                <a:t>Current ABT sub-blo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SimSun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SimSu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{000000000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000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0000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0000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000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            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000000000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000000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Box 14"/>
            <p:cNvSpPr/>
            <p:nvPr/>
          </p:nvSpPr>
          <p:spPr>
            <a:xfrm>
              <a:off x="5486400" y="4724640"/>
              <a:ext cx="3124080" cy="20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Lucida Sans Unicode"/>
                  <a:ea typeface="SimSun"/>
                </a:rPr>
                <a:t>4. Confirm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Sans Unicode"/>
                  <a:ea typeface="SimSun"/>
                </a:rPr>
                <a:t>,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Lucida Sans Unicode"/>
                  <a:ea typeface="SimSun"/>
                </a:rPr>
                <a:t>broadca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SimSun"/>
                </a:rPr>
                <a:t>Payload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SimSun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SimSun"/>
                </a:rPr>
                <a:t>Dst addr (3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SimSun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SimSun"/>
                </a:rPr>
                <a:t>Direction (Rx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SimSun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SimSun"/>
                </a:rPr>
                <a:t>ABT sub-block ind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SimSun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SimSun"/>
                </a:rPr>
                <a:t>newly allocated ABT sub-blo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SimSun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SimSu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{000000000000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11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000000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11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00000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            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11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00000000000000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Sans Unicode"/>
                  <a:ea typeface="맑은 고딕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ight Arrow 17"/>
            <p:cNvSpPr/>
            <p:nvPr/>
          </p:nvSpPr>
          <p:spPr>
            <a:xfrm rot="2521800">
              <a:off x="2674800" y="2732040"/>
              <a:ext cx="1081080" cy="201600"/>
            </a:xfrm>
            <a:prstGeom prst="rightArrow">
              <a:avLst>
                <a:gd name="adj1" fmla="val 50000"/>
                <a:gd name="adj2" fmla="val 49702"/>
              </a:avLst>
            </a:prstGeom>
            <a:solidFill>
              <a:srgbClr val="4f81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15"/>
            <p:cNvSpPr/>
            <p:nvPr/>
          </p:nvSpPr>
          <p:spPr>
            <a:xfrm rot="2464200">
              <a:off x="2494080" y="303048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16"/>
            <p:cNvSpPr/>
            <p:nvPr/>
          </p:nvSpPr>
          <p:spPr>
            <a:xfrm rot="2464200">
              <a:off x="3021120" y="2606760"/>
              <a:ext cx="76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p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17"/>
            <p:cNvSpPr/>
            <p:nvPr/>
          </p:nvSpPr>
          <p:spPr>
            <a:xfrm rot="3888600">
              <a:off x="720360" y="2971800"/>
              <a:ext cx="103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fi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18"/>
            <p:cNvSpPr/>
            <p:nvPr/>
          </p:nvSpPr>
          <p:spPr>
            <a:xfrm rot="18369000">
              <a:off x="4579200" y="4142520"/>
              <a:ext cx="103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tif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20:59:05Z</dcterms:created>
  <dc:creator>ahn</dc:creator>
  <dc:description/>
  <dc:language>en-US</dc:language>
  <cp:lastModifiedBy>ahn</cp:lastModifiedBy>
  <dcterms:modified xsi:type="dcterms:W3CDTF">2010-12-22T02:48:57Z</dcterms:modified>
  <cp:revision>333</cp:revision>
  <dc:subject/>
  <dc:title>Weekly Report</dc:title>
</cp:coreProperties>
</file>