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ECE-38D1-4D3F-A22E-F4AA9771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978-9BD0-4415-B63C-1CE11A4F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C80-CE8B-4A82-B3D8-0333C7EC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D11-3FEA-4AAE-87E3-4AF9B024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2DF-F1D8-4BF1-AA84-3C94C7C3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6FF-3B25-48CB-B5D0-CAEEA161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662-9057-4FAE-8163-5441F795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7F1-4DA6-4F97-AD97-6DDA1AD2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C53-0679-4768-8950-D39593ED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0DA-6BD2-4D67-B55D-7BF9BCC9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F32-291F-4006-B9B5-E20CBD15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B73-C76B-43EB-8CB0-10B612FD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 Ho Wong, Institute for Infocomm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4E8A44-835E-4B60-97E0-8AADAC76D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211640" y="396000"/>
            <a:ext cx="424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5-06/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609480"/>
            <a:ext cx="899172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Channel Model Literature Summary &amp; Capacity Calculations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4 January 2006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Sai Ho WONG]  Company [Institute for Infocomm Research, Singap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 [21 Heng Mui Keng Terrace, Singapore 11961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:[(65)-6874568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-Mail:[shwong@i2r.a-star.edu.sg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     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ummary of channel measurements at 60GHz from literatu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Contribution to 802.15.3c task group, January 200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ice  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has been prepared to assist the IEEE P802.15.  It is offered as a basi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ussion and is not binding on the contributing individual(s) or organization(s). The material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is subject to change in form and content after further study. The contributor(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tributor acknowledges and accepts that this contribution becomes the property of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A41-79C6-4E2C-A9EC-6DD9CAC6E9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ty Calculation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x-Rx gain combinations presented in exce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n that for a 2Gbps system, omni-omni is not sufficient for a reasonable operational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igher gain Tx-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multiple ante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6BA-37EF-4635-AF77-4B77CFC89F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d parameters for 60GHz channel modeling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1.75GHz bandwidth, omni-omni is not sufficient to deliver 2G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67E-C30E-4F44-8738-A0ADA2415B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CA1-4A85-466B-85C6-11CC0C4D9D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nel Model Literature Summar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amp; Capacity Calc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72C-7B30-40C8-BB94-0BED5BECEB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pertinent parameters of 60GHz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ference &amp; comparison among various measurement configurations and campa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offer a generic solution to statistical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calculations based on available pathloss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C53-F91E-4CC8-A300-9DEDBB4465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in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and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&amp; Rx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S delay spread (90%tile, if applic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loss ex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6E1-723C-4B63-9803-A4095D1269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 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spread is generally smaller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vity of the objects in the room i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room is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ization is cir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gain is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orientated at the bore-sight (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loss exponent about 1.3-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 distribution follows Rician distribution in LOS and Rayleigh distribution in NLOS, but not very stri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-normal shadowing is commonly used, SD range between 2.2dB-10.6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BDB-DE68-482F-A673-066F6E2B65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nnon Ca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526-00ED-4A32-9F51-40379B944F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685800" y="2438280"/>
            <a:ext cx="7696080" cy="3525840"/>
            <a:chOff x="685800" y="2438280"/>
            <a:chExt cx="7696080" cy="3525840"/>
          </a:xfrm>
        </p:grpSpPr>
        <p:sp>
          <p:nvSpPr>
            <p:cNvPr id="57" name=""/>
            <p:cNvSpPr/>
            <p:nvPr/>
          </p:nvSpPr>
          <p:spPr>
            <a:xfrm>
              <a:off x="685800" y="313056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407484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50194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24080" y="2438280"/>
              <a:ext cx="0" cy="352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0600" y="2438280"/>
              <a:ext cx="0" cy="352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58040" y="2438280"/>
              <a:ext cx="0" cy="352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58040" y="5019480"/>
              <a:ext cx="19238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5019480"/>
              <a:ext cx="16574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1.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5019480"/>
              <a:ext cx="24382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x EIRP (dB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24080" y="4074840"/>
              <a:ext cx="16765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4074840"/>
              <a:ext cx="24382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x Ant. Gain(dB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00600" y="3130560"/>
              <a:ext cx="16574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24080" y="3130560"/>
              <a:ext cx="16765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800" y="3130560"/>
              <a:ext cx="24382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eak Tx Power (dB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58040" y="2438280"/>
              <a:ext cx="19238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s/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0600" y="2438280"/>
              <a:ext cx="16574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4080" y="2438280"/>
              <a:ext cx="16765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2438280"/>
              <a:ext cx="243828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2438280"/>
              <a:ext cx="7696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964120"/>
              <a:ext cx="7696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438280"/>
              <a:ext cx="0" cy="3525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81880" y="2438280"/>
              <a:ext cx="0" cy="3525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477120" y="3124080"/>
            <a:ext cx="19238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ty Calculatio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[596r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58040" y="4075200"/>
            <a:ext cx="19238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124080" y="4075200"/>
            <a:ext cx="3333960" cy="1888560"/>
            <a:chOff x="3124080" y="4075200"/>
            <a:chExt cx="3333960" cy="1888560"/>
          </a:xfrm>
        </p:grpSpPr>
        <p:sp>
          <p:nvSpPr>
            <p:cNvPr id="84" name=""/>
            <p:cNvSpPr/>
            <p:nvPr/>
          </p:nvSpPr>
          <p:spPr>
            <a:xfrm>
              <a:off x="3124080" y="5019480"/>
              <a:ext cx="16765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4075200"/>
              <a:ext cx="16574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1.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552720" y="3200400"/>
            <a:ext cx="1820520" cy="2745000"/>
            <a:chOff x="6552720" y="3200400"/>
            <a:chExt cx="1820520" cy="2745000"/>
          </a:xfrm>
        </p:grpSpPr>
        <p:sp>
          <p:nvSpPr>
            <p:cNvPr id="87" name=""/>
            <p:cNvSpPr/>
            <p:nvPr/>
          </p:nvSpPr>
          <p:spPr>
            <a:xfrm>
              <a:off x="6934320" y="3200400"/>
              <a:ext cx="1066680" cy="236196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52720" y="5546520"/>
              <a:ext cx="18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t Strin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64D-FFB0-44ED-B0DE-0FAB90732A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ty Calculation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channel paper, private home environment, [644r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5264280"/>
            <a:ext cx="4419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67 [Rx Power] – (-81.4[Ambient]) – 8 [NF]– 0 [Other] = 6.4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46846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[Tx Power] + 0 [Tx Gain] + 0 [Rx gain] – 77 [Pathloss] = -67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344840"/>
            <a:ext cx="4419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77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4010040"/>
            <a:ext cx="4419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5843520"/>
            <a:ext cx="441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080" y="1981080"/>
            <a:ext cx="7696440" cy="4218120"/>
            <a:chOff x="838080" y="1981080"/>
            <a:chExt cx="7696440" cy="4218120"/>
          </a:xfrm>
        </p:grpSpPr>
        <p:sp>
          <p:nvSpPr>
            <p:cNvPr id="97" name=""/>
            <p:cNvSpPr/>
            <p:nvPr/>
          </p:nvSpPr>
          <p:spPr>
            <a:xfrm>
              <a:off x="838080" y="5264280"/>
              <a:ext cx="3276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4684680"/>
              <a:ext cx="3276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x Signal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4344840"/>
              <a:ext cx="3276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thloss@1m (Empiric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4010040"/>
              <a:ext cx="3276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thloss Exponent (Empiric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800" y="3675240"/>
              <a:ext cx="4419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dB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3675240"/>
              <a:ext cx="3276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x Antenna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5843520"/>
              <a:ext cx="3276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R (Lin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4800" y="3340080"/>
              <a:ext cx="4419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dB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3340080"/>
              <a:ext cx="3276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x Antenna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14800" y="2987640"/>
              <a:ext cx="44197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2987640"/>
              <a:ext cx="32767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lo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4800" y="2651040"/>
              <a:ext cx="4419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8080" y="2651040"/>
              <a:ext cx="3276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ise Figure (estimat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2316240"/>
              <a:ext cx="4419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81.4dB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2316240"/>
              <a:ext cx="32767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mbient 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1981080"/>
              <a:ext cx="4419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7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1981080"/>
              <a:ext cx="3276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8080" y="1981080"/>
              <a:ext cx="7696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8080" y="231624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265104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298764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334008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367524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6199200"/>
              <a:ext cx="7696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8080" y="1981080"/>
              <a:ext cx="0" cy="4218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1981080"/>
              <a:ext cx="0" cy="421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34520" y="1981080"/>
              <a:ext cx="0" cy="4218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401004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434484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468468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526428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584352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CCC-85B5-44BA-A056-8A12D8C865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ty Calculation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NR, invoke C = B *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+SN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2438280"/>
            <a:ext cx="7543800" cy="3846600"/>
            <a:chOff x="914400" y="2438280"/>
            <a:chExt cx="7543800" cy="3846600"/>
          </a:xfrm>
        </p:grpSpPr>
        <p:graphicFrame>
          <p:nvGraphicFramePr>
            <p:cNvPr id="132" name=""/>
            <p:cNvGraphicFramePr/>
            <p:nvPr/>
          </p:nvGraphicFramePr>
          <p:xfrm>
            <a:off x="914400" y="2438280"/>
            <a:ext cx="7543800" cy="333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438280"/>
                      <a:ext cx="754380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1447920" y="2852640"/>
            <a:ext cx="6172200" cy="3432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7920" y="2852640"/>
                      <a:ext cx="6172200" cy="34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d Fisher,  O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1E3-2BE3-4999-9BE4-1220A7E705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1:49:35Z</dcterms:created>
  <dc:creator>Wong Sai Ho</dc:creator>
  <dc:description>&lt;doc#&gt;</dc:description>
  <dc:language>en-US</dc:language>
  <cp:lastModifiedBy>Wong Sai Ho</cp:lastModifiedBy>
  <cp:lastPrinted>2004-07-16T01:52:29Z</cp:lastPrinted>
  <dcterms:modified xsi:type="dcterms:W3CDTF">2006-01-13T03:28:09Z</dcterms:modified>
  <cp:revision>9</cp:revision>
  <dc:subject>IEEE 802.15 &lt;subject&gt;</dc:subject>
  <dc:title>PowerPoint Presentation</dc:title>
</cp:coreProperties>
</file>