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EE7-AFAF-4100-A37B-0784076B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98C-08C2-4EB2-80F9-D8754DD8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774-A97A-415E-9B8F-7E53DB2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971-79CB-4F4A-BC91-B1022F6D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C8C-6523-423B-BC90-89D74DA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9E1-D63F-41CD-8B13-A87AC3C8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D95-F0B4-4226-AAAA-A790E6B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14A-1C7D-49F3-B909-8AA90EC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69D-A460-4626-96B9-DD0EDFA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862-B7BF-4CC0-9543-0D83EDA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B41-64DB-4EC0-8B3D-84CF90E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16A-14D9-4599-A71E-D1D1FDF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6760"/>
            <a:ext cx="3733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Ikeda, K. Takahashi, Y. Sho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9560" y="6474960"/>
            <a:ext cx="600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85AD48D-C114-409F-A4E9-540EB387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211640" y="396000"/>
            <a:ext cx="424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5-05/0616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609480"/>
            <a:ext cx="899172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ject: IEEE P802.15 Working Group for Wireless Personal Area Networks (WP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TG3c Coexistence Models Calculation Bases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07 March 20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Hideto Ikeda]       Company [Oki Electric Industry Co., Ltd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ress [3-4 Hikarino-oka, Yokosuka-city, Japan 239-0847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[+81-46-847-5149]      E-Mail:[ikeda637@oki.co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Kazuaki Takahashi]  Company [Matsushita Electric Industrial Co., lt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Yozo Shoji]   Organization [National Institute of Information and Communications Technology,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pan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   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cel spreadsheet is attached for convenient use of interference calcu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escription of TG3c Coexistence Victim Receiver models calculation base for Selection Criteria document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Drafting TG3c Selection Criteria documen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ice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has been prepared to assist the IEEE P802.15.  It is offered as a basi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ussion and is not binding on the contributing individual(s) or organization(s). The material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cument is subject to change in form and content after further study. The contributor(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e(s) the right to add, amend or withdraw material contained here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ntributor acknowledges and accepts that this contribution becomes the property of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3CF-1D5F-47A3-BC47-CDC43A95B2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2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600200"/>
            <a:ext cx="7619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3.3 ARIB STD-T74 Vic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riteria: The interference average power generated by the P802.15.3c transmitter and measured in the relevant bandwidth of the victim receiver should be at least 24 dB (A2: Required SIR) below the standard receiving input level (S9) which is 10dB above the minimum sensitivity level (S11) of the STD-T74 device, when the separation between the P802.15.3c transmitter and victim receiver is 1 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shows example of SIR calculatio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06560" y="3200400"/>
            <a:ext cx="7129440" cy="270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5913360"/>
            <a:ext cx="74674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8A1-9E05-4AFB-934C-9B59F6315E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on Bases of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existence Models of Victim Receiver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3c Selection Criteria Documen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6 November,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562720"/>
            <a:ext cx="2590920" cy="83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Co-authors are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Description no changes from 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*Excel spreadsheets are at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8BD-EA96-44ED-94C1-3C3D165217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685800"/>
            <a:ext cx="7315200" cy="151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 Jap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limeter-wave Video Transmission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Specified Low power Radio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Point to Point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8288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268360"/>
            <a:ext cx="7772400" cy="352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E49-C5CE-41ED-B7E6-585014829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685800"/>
            <a:ext cx="7315200" cy="143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74 Jap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llimeter-wave Ultra High Speed Wireless LA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Specified Low power Radio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Point to Multi-Point sys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36232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72400" cy="312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7F9-CB0F-44EA-B2FB-ABFB232C4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90720" y="685800"/>
            <a:ext cx="7315200" cy="105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/ 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ical Victim Receiver Link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335560"/>
            <a:ext cx="762012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ating antennas directions are well aligned each other to get maximum gain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ormal receiving input level is targeted to be approximately 10 dB above the receiving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itivity val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58960" y="2166840"/>
            <a:ext cx="7426080" cy="29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947-9D06-4BEE-99A6-B86321BA4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85800"/>
            <a:ext cx="7315200" cy="105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models of Victim receiver (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IB STD-T69/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mple of Interferenc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145120"/>
            <a:ext cx="77724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R shall be compared in overlapping range of bandwidth between Victim receiver and Interferer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bove example, the result of the SIR (A1) does not meet the Required SIR (A2) valu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fore some countermeasure should be studied by TG-3cWPAN device system for coexist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58960" y="2077920"/>
            <a:ext cx="742608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1E7-2B65-4C40-94CE-A429E8F7FF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00200"/>
            <a:ext cx="7619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2.2 ARIB STD-T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is intended to represent an ARIB STD-T69 device. The following table identifies the relevant parameters of the referenc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01880" y="2666880"/>
            <a:ext cx="713880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3D6-6B8A-4EAB-937A-72769FFFF5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01880" y="3243240"/>
            <a:ext cx="7138800" cy="270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1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630440"/>
            <a:ext cx="7619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3.2 ARIB STD-T69 Vic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riteria: The interference average power generated by the P802.15.3c transmitter and measured in the relevant bandwidth of the victim receiver should be at least 33 dB (A2: Required SIR) below the standard receiving input level (S9) which is 10dB above the minimum sensitivity level (S11) of the STD-T69 device, when the separation between the P802.15.3c transmitter and victim receiver is 1 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shows example of SIR calculatio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989680"/>
            <a:ext cx="754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rections of the Interferer antenna and the Victim receiver antenna are different and not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ing each other, and 0dBi antenna gain is supposed in above case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9819-94F1-40F7-8C27-709649D87C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19320" y="2133720"/>
            <a:ext cx="624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1625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7315200" cy="75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(2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G-3c Coexistence requirements for ARIB STD-T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600200"/>
            <a:ext cx="7619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lection Criteri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tion 4.2.3.2.3 ARIB STD-T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odel is intended to represent an ARIB STD-T74 device. The following table identifies the relevant parameters of the referenc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06560" y="2590920"/>
            <a:ext cx="712944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BF7-0FF9-4303-9343-422453E20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4:50:24Z</dcterms:created>
  <dc:creator/>
  <dc:description>&lt;doc#&gt;</dc:description>
  <dc:language>en-US</dc:language>
  <cp:lastModifiedBy>Ikeda</cp:lastModifiedBy>
  <cp:lastPrinted>2004-07-16T01:52:29Z</cp:lastPrinted>
  <dcterms:modified xsi:type="dcterms:W3CDTF">2006-03-08T09:21:46Z</dcterms:modified>
  <cp:revision>431</cp:revision>
  <dc:subject>IEEE 802.15 &lt;subject&gt;</dc:subject>
  <dc:title>ｽﾗｲﾄﾞ ﾀｲﾄﾙなし</dc:title>
</cp:coreProperties>
</file>