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3197-99E8-46D2-A3A3-A3D26629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598F-74CE-4848-8347-490B6613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40B5-DF0B-4DCD-B521-FAFA0F9E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65E6-B6F9-49A2-A76B-D9C162EF0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16DB-1736-4236-9313-2F3AB037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EA79-0916-4A12-A962-2CD354CF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7761-8F36-4BF4-BE77-D566CFF2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D7B9-E9DD-4464-83DD-1F921554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AAD6-158D-4F60-8443-06A995F0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D077-AB67-46A1-AC87-7B846D1A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C4FD-EA79-451F-897C-946F28E1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02A6-D61F-44AF-9539-F631656B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29200" y="6476760"/>
            <a:ext cx="3733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deto Ikeda, Oki Electric Industry Co.,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9560" y="6474960"/>
            <a:ext cx="600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390B88D-18E3-4387-88DF-9A16C8C60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211640" y="396000"/>
            <a:ext cx="4246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c.: IEEE 802.15-05/0616r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609480"/>
            <a:ext cx="8991720" cy="46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ject: IEEE P802.15 Working Group for Wireless Personal Area Networks (WPA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bmission Titl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[TG3c Coexistence Models Calculation Bases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e Submitted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16 November 2005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[Hideto Ikeda]       Company [Oki Electric Industry Co., Ltd.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ress [3-4 Hikarino-oka, Yokosuka-city, Japan 239-0847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oice:[+81-46-847-5149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-Mail:[ikeda637@oki.com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      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[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bstract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Description of TG3c Coexistence Victim Receiver models calculation base for Selection Criteria document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rpos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Drafting TG3c Selection Criteria document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tice   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cument has been prepared to assist the IEEE P802.15.  It is offered as a basis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cussion and is not binding on the contributing individual(s) or organization(s). The material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cument is subject to change in form and content after further study. The contributor(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erve(s) the right to add, amend or withdraw material contained here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eas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contributor acknowledges and accepts that this contribution becomes the property of IE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may be made publicly available by P802.15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B4E9-2C5F-451A-86FC-7E84D77AE2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219320" y="2133720"/>
            <a:ext cx="624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2057400"/>
            <a:ext cx="7162560" cy="44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685800"/>
            <a:ext cx="7315200" cy="759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S (2-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G-3c Coexistence requirements for ARIB STD-T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600200"/>
            <a:ext cx="76197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lection Criteria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ction 4.2.3.3.3 ARIB STD-T74 Vict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imum Criteria: The interference average power generated by the P802.15.3c transmitter and measured in the relevant bandwidth of the victim receiver should be at least 24 dB (A2: Required SIR) below the standard receiving input level (S9) which is 10dB above the minimum sensitivity level (S11) of the STD-T74 device, when the separation between the P802.15.3c transmitter and victim receiver is 1 me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table shows example of SIR calculation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06560" y="3200400"/>
            <a:ext cx="7129440" cy="2700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90720" y="5913360"/>
            <a:ext cx="746748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・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directions of the Interferer antenna and the Victim receiver antenna are different and not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tching each other, and 0dBi antenna gain is supposed in above ca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77C3-11FB-4AC3-A8CF-4703F5D388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80010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ion Bases of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existence Models of Victim Receiver fo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3c Selection Criteria Document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16 November, 200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90920" y="5562720"/>
            <a:ext cx="4495680" cy="55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*EXCEL FILE ZIPED TOGETHER in posted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*Description no changes from 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9684-7133-410C-B8E9-73C4EB02E9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685800"/>
            <a:ext cx="7315200" cy="151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xistence models of Victim receiver (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RIB STD-T69 Jap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illimeter-wave Video Transmission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r Specified Low power Radio 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Point to Point syst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133720"/>
            <a:ext cx="624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1828800"/>
            <a:ext cx="7162560" cy="44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2268360"/>
            <a:ext cx="7772400" cy="3522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1267-3CB0-41BE-91EC-3B156E2C16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90720" y="685800"/>
            <a:ext cx="7315200" cy="1436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xistence models of Victim receiver (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RIB STD-T74 Jap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illimeter-wave Ultra High Speed Wireless LA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r Specified Low power Radio 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Point to Multi-Point syst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362320"/>
            <a:ext cx="7162560" cy="44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7772400" cy="3124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9750-2E2F-4F61-AF6F-9754CB6E56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90720" y="685800"/>
            <a:ext cx="7315200" cy="105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xistence models of Victim receiver (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RIB STD-T69/ T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ical Victim Receiver Link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5335560"/>
            <a:ext cx="762012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mating antennas directions are well aligned each other to get maximum gain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normal receiving input level is targeted to be approximately 10 dB above the receiving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nsitivity val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58960" y="2166840"/>
            <a:ext cx="7426080" cy="29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EC17-6D06-44C5-A96C-2EDFA63106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19320" y="2133720"/>
            <a:ext cx="624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2057400"/>
            <a:ext cx="7162560" cy="44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685800"/>
            <a:ext cx="7315200" cy="105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xistence models of Victim receiver (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RIB STD-T69/T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mple of Interference Cal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145120"/>
            <a:ext cx="77724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・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directions of the Interferer antenna and the Victim receiver antenna are different and not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tching each other, and 0dBi antenna gain is supposed in above ca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・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R shall be compared in overlapping range of bandwidth between Victim receiver and Interferer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mit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・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above example, the result of the SIR (A1) does not meet the Required SIR (A2) valu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refore some countermeasure should be studied by TG-3cWPAN device system for coexisten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58960" y="2077920"/>
            <a:ext cx="7426080" cy="295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C5D3-C68C-4589-94BE-995C7F8BB3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2133720"/>
            <a:ext cx="624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2057400"/>
            <a:ext cx="7162560" cy="44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685800"/>
            <a:ext cx="7315200" cy="759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S (1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G-3c Coexistence requirements for ARIB STD-T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1600200"/>
            <a:ext cx="761976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lection Criteria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ction 4.2.3.2.2 ARIB STD-T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odel is intended to represent an ARIB STD-T69 device. The following table identifies the relevant parameters of the referenc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01880" y="2666880"/>
            <a:ext cx="7138800" cy="175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2905-8A40-4BBB-9C57-D4CD7E9C36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01880" y="3243240"/>
            <a:ext cx="7138800" cy="2700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219320" y="2133720"/>
            <a:ext cx="624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2057400"/>
            <a:ext cx="7162560" cy="44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685800"/>
            <a:ext cx="7315200" cy="759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S (1-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G-3c Coexistence requirements for ARIB STD-T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1630440"/>
            <a:ext cx="76197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lection Criteria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ction 4.2.3.3.2 ARIB STD-T69 Vict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imum Criteria: The interference average power generated by the P802.15.3c transmitter and measured in the relevant bandwidth of the victim receiver should be at least 33 dB (A2: Required SIR) below the standard receiving input level (S9) which is 10dB above the minimum sensitivity level (S11) of the STD-T69 device, when the separation between the P802.15.3c transmitter and victim receiver is 1 me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table shows example of SIR calculation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5989680"/>
            <a:ext cx="754380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・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directions of the Interferer antenna and the Victim receiver antenna are different and not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tching each other, and 0dBi antenna gain is supposed in above case.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A653-1F2E-47D5-91DF-BB798C11D4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219320" y="2133720"/>
            <a:ext cx="624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2057400"/>
            <a:ext cx="7162560" cy="44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685800"/>
            <a:ext cx="7315200" cy="759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S (2-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G-3c Coexistence requirements for ARIB STD-T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600200"/>
            <a:ext cx="761976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lection Criteria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ction 4.2.3.2.3 ARIB STD-T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odel is intended to represent an ARIB STD-T74 device. The following table identifies the relevant parameters of the referenc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06560" y="2590920"/>
            <a:ext cx="712944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11E5-1421-4EA0-A98A-A846C108BA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04:50:24Z</dcterms:created>
  <dc:creator/>
  <dc:description>&lt;doc#&gt;</dc:description>
  <dc:language>en-US</dc:language>
  <cp:lastModifiedBy>Ikeda</cp:lastModifiedBy>
  <cp:lastPrinted>2004-07-16T01:52:29Z</cp:lastPrinted>
  <dcterms:modified xsi:type="dcterms:W3CDTF">2005-11-16T14:30:24Z</dcterms:modified>
  <cp:revision>420</cp:revision>
  <dc:subject>IEEE 802.15 &lt;subject&gt;</dc:subject>
  <dc:title>ｽﾗｲﾄﾞ ﾀｲﾄﾙなし</dc:title>
</cp:coreProperties>
</file>