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93E-8B06-49D0-A7B0-155CBD8A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C345-9F47-4C9C-9E51-11051C29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A2B-ADB7-407E-96F2-6CDBBD8B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BD2-DA6C-4ABD-9CC5-CA7CF97D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85D-F008-4A05-99C5-7AECC965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63A-A3F3-4F0C-80B5-1F4ED0BF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D46-33A6-4C17-A56B-4E652799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C1C6-9257-4D26-81F5-40F4D0AC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C9E-971A-4FD4-9B0B-EDA39363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C76-18E4-49A0-9653-23BA18C9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E82-D742-43F7-8046-74812CDD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D56-69C8-4318-ABAD-AACC5DC6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3798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5360" y="6474960"/>
            <a:ext cx="465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D47BCD1-97A2-4E9B-BE57-E80DB7AD5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08960" y="396000"/>
            <a:ext cx="26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3/659r0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forcing QAP Policy to Deliver QoS Traff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jad Soom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il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jad Soomro, Phili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ECC-4C5A-48FD-99A1-037CE9FE65A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APSD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cy Power S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very based via DTIM wakeup periods and PS-P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SD Mech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TA requests schedule and QAP responds with a schedule (may be modified) for delivery of all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jad Soomro, Phili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D35-5B09-428D-876A-DC5F68EAA7D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APSD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cheduled Service Peri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demand data delivery by Q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uplink frame by a QSTA requires QAP to deliver all buffered packets for that Q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jad Soomro, Phili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57F7-281F-4C45-B48F-28428DAA49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with the Multiplicity of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AP is required to accept unscheduled data delivery request for all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limit on number of QSTAs asking for such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number of QSTAs using this mechanism could lead to throughput degra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: 11-03-861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ssion control not applicable for power saving de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jad Soomro, Phili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812F-0454-4957-A36D-C69FE8B481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with the Multiplicity of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ects on scheduler design and 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d and unscheduled service periods may happen simultane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r design is made challe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ta delivery through scheduler execution is uncer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he delivery of scheduled data delivery in QBSS is comprom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jad Soomro, Phili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33FC-22A3-48F5-A6BA-13490C1A5D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in the precedence for scheduled data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QAP to accept unscheduled or scheduled power save mech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normative text in 11-03/659r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jad Soomro, Phili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5A17-F2C9-4D3D-93A3-34FC28AEC9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3:17:18Z</dcterms:created>
  <dc:creator>Philips</dc:creator>
  <dc:description/>
  <dc:language>en-US</dc:language>
  <cp:lastModifiedBy>Philips</cp:lastModifiedBy>
  <cp:lastPrinted>1998-02-10T13:28:06Z</cp:lastPrinted>
  <dcterms:modified xsi:type="dcterms:W3CDTF">2003-11-13T15:13:43Z</dcterms:modified>
  <cp:revision>18</cp:revision>
  <dc:subject/>
  <dc:title>PowerPoint Presentation</dc:title>
</cp:coreProperties>
</file>