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4160" y="701280"/>
            <a:ext cx="46260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90037F-FC73-4A91-A243-0529373A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916E4E-171E-4AC3-8897-4CDD9CA7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CC3F5F-2ECE-4AA8-9215-5DDA5942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A1F41C-F19E-4556-A587-859F75E7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20A5FC-DE03-45C7-AC5D-DEF13221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9DF612-BDC1-41A2-A11E-7EE4CE98E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0F2C19-CCAA-4E1E-8066-E8649A42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16B-9ECC-4423-A22C-856AC263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713-3898-4BD2-AAA7-A2FDA6F4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CDC-E3B9-4E61-8747-74FB86F1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3D1-C88E-4357-94C2-28AC0675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5D9-629B-4787-9956-79194B93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546-D167-4851-86E4-8F32D4A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A64-ECCA-40D1-AEC2-CE9C322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616-02B1-406F-A510-4D59A11A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988-B605-49DF-B8E1-508934A1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5A7-F593-48E2-A9AD-C1664FB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F06-20D0-418D-A8EC-3C1DC12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C3C-2D82-443F-9C3D-EDD8A20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B7F7D6-9B14-46EA-9A4A-13C65E88C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71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veniste@ieee.org" TargetMode="External"/><Relationship Id="rId2" Type="http://schemas.openxmlformats.org/officeDocument/2006/relationships/hyperlink" Target="mailto:benveniste@ieee.org" TargetMode="External"/><Relationship Id="rId3" Type="http://schemas.openxmlformats.org/officeDocument/2006/relationships/hyperlink" Target="mailto:benveniste@ieee.org" TargetMode="External"/><Relationship Id="rId4" Type="http://schemas.openxmlformats.org/officeDocument/2006/relationships/hyperlink" Target="mailto:benveniste@ieee.org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802.11e features for the enter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4146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nvenist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iee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vaya Labs -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153-D949-4577-AAF9-2905A940ED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ur Objectiv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802.11e features for APs and clients appropriate for the enterprise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A7F-507C-4F9F-BA91-EE1C9D3E70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erformance criteri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APs must operate with both EDCF and HCF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CF clients used in the home will be brought to the off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ing greatest throughput, subject to QoS requirements, is the ultimate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DCF and HCF protocols must be designed for the greatest channel use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-term implementations will be the future legacy population which, because of backward compatibility requirements, must b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72B-54BB-4DB3-A359-E27C835E29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74916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ket Segmentation vs Technology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480" y="149184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Small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or a few BSSs; single owner; no channel reuse; no BSA overl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idential/Entertainment Center (controlled RF spectrum usage; few traffic streams – some heav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CF (CFBs and HCF poll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HO (controlled RF spectrum usage; few traffic streams)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DCF is adequ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lternatively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data by EDCF or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voice by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terprise segments in b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160-67EF-4BCC-85DF-925BDB9789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nt’ed</a:t>
            </a:r>
            <a:br>
              <a:rPr sz="24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61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Larg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any BSSs reuse channels; overlapping B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1640" indent="-611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terprise/Campus/Public spaces – single owner (controlled RF spectrum usage; multiple traffic streams; heavy load)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data by EDCF or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voice by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11640" indent="-611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ffice park - independent owners (uncontrolled RF spectrum usage; multiple traffic streams; heavy load)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mix of EDCF and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11640" indent="-6116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-dwelling unit – independent BSS ownership (uncontrolled RF spectrum usage; multiple traffic streams; heavy 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mix of EDCF and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1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terprise segments in b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591-3FFF-4D3F-B742-74421A73B4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chnology interests for the enterprise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 Mandator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F CF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ed HC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C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CF-Client Mandator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DCF-RR (QoS null frame sent by WSTA and ShortInactivityTimer at the AP, own top-priority TC with PF=0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to pol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DCF-Client Mandator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Differentiation by AIF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 parameters:  MSDULifetime, CWmin, CWm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121-430E-4AFE-A335-3EEC9B0713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DCF-RR for HCF clients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64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CF-RR enables statistical multiplexing of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t least 2 voice calls can be accommodated in place of 1 voic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CF-RR Mechanism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PEC used to set up sess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rtInactivityTimer is used to drop inactive TID from pol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PEC is not cancelled due to WSTA short-term in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pt of an RR by the AP will cause the return of TID to the pol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R function will be achieved by an WSTA’s QoS null frame, which will use its own top-priority TC (PF=0.5 and the shortest AIF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For more detailed discussion see 01/409r1, 02/525r1, and 02/594r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113-71D6-4DB1-907C-F6C152C844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F for EDCF clients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56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s are needed for priority different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7720" indent="-52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s can be differentiated better (a different PF for each 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7720" indent="-52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PFs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fferenti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Cs above BE i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possi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presence of legacy S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s reduce delay and jitter for high priority T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s are easy to implement (see example for values like 0.5, 1, 1.5, and 2) 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Fs cause no overhead; remain constant over time (PF need not adapt to traff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lternative approach, namely differentiation by CWmax, can increase collisions if there is no contention window adaptation to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For more detailed discussion see 01/409r0 and 01/409r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A85-B397-4B35-BA99-38D435B4DA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chieve enterprise performance goals, it is proposed that 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EDCF/RR mechanism in 02/525r1 for polling-list mana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introduce persistence factors i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implified f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osed in 409r1 for improved EDCF perform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357-3D25-48AA-BB7F-49ECA2990A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8:58:09Z</dcterms:created>
  <dc:creator>Mathilde Benveniste</dc:creator>
  <dc:description/>
  <dc:language>en-US</dc:language>
  <cp:lastModifiedBy>Avayalabs Research</cp:lastModifiedBy>
  <cp:lastPrinted>1998-02-10T13:28:06Z</cp:lastPrinted>
  <dcterms:modified xsi:type="dcterms:W3CDTF">2002-11-13T06:52:32Z</dcterms:modified>
  <cp:revision>40</cp:revision>
  <dc:subject/>
  <dc:title>No Slide Title</dc:title>
</cp:coreProperties>
</file>