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633D-9E48-4227-A825-094734629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A447-3EC5-4E3F-9A14-93B05294E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D92E-9654-4078-AB35-CD6B0C2C4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1819-2C9A-4BA8-AF36-E7996C088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FE1D8-ABBF-40D7-AEA9-9F7F9EFD1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4B992-6954-48E5-82D2-141C7C2B2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3ABD3-AA63-4409-9952-18928AFEC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C3FD8-D22E-4262-8AEA-5E7913D1A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34B5C-746D-430F-A3A2-0A24774B7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C71B8-A6B0-4148-8F08-8F6D0126C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4CF39-B74D-4A3D-9616-D0E6597C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68AD-1F72-40F9-B6E1-E9053F094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8B8A5-0B29-4F92-99EB-4DC96C2AE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55032-5FD3-439F-AB76-BB467E2E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F4E0F-18EE-433F-AD88-1D323BFE4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C6458-D0F7-4651-8002-38BA11201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F8D46-102C-4CD4-948A-9E0571955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8166-11C6-4109-942E-09A79774A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736E-ABE4-49FB-B80E-B0EE2F53C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0194-873A-40BC-BAAE-6F8C8B5D2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5F18-AA83-4981-84CC-7DFB0A447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6C8C-397F-4577-869E-306D4F408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8777-27F9-4838-BEB9-25219B88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5FE2-386C-4A7D-8AC4-260C3A5B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39362-C740-4A92-B64C-AEF7D0A1A5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 Moore, Microso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CAC7D09-C2F1-4EF7-80B4-092BE99E4A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2/547r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67800" y="6477120"/>
            <a:ext cx="101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alidating Disassociate and Deauthenticate mess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 Mo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4B8FC-EEAC-4D16-BD5B-37DA7749D9D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02.11 state mach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143000" y="1981080"/>
          <a:ext cx="6248520" cy="40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981080"/>
                    <a:ext cx="6248520" cy="40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E81E1-5847-4A81-9BA7-B5EA70C995E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ynchronization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 or AP can delete state asynchronous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o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ity check of disassociate and deauthenticate cannot work under all c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ly when keys are avail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AK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ither case 802.11 state machine needs to check if keys available before accepting disassociate or deauthenticate mess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2CE6D-536A-4414-BF04-03AA1058C48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w 802.11 state mach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371600" y="1905120"/>
          <a:ext cx="6400800" cy="412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905120"/>
                    <a:ext cx="6400800" cy="41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60593-41DF-4F2D-B167-A16A5155895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egrity che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format for mess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IE to messages containing Integrity che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TKIP/WRAP/CC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6A007-4460-4E8B-A4B9-C709A61E078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KM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4-way handshake on receiving disassociate or deauthenticate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ge Supplicant and Authenticator state machines to run 4-way handshake on receiving disassociate or deauthentic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ve DeauthenticateRequest from DISCONNECTED state to PTKSTART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lic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 new state DISCONNECT. Sends EAPOL-Key Request. Timeout on completing 4-way handshake. Timeout goes to DISCONNECTED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48B9E-C066-4996-A8F8-663539223AA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6T19:29:32Z</dcterms:created>
  <dc:creator>Tim</dc:creator>
  <dc:description/>
  <dc:language>en-US</dc:language>
  <cp:lastModifiedBy>at&amp;t user</cp:lastModifiedBy>
  <dcterms:modified xsi:type="dcterms:W3CDTF">2002-09-12T04:37:21Z</dcterms:modified>
  <cp:revision>31</cp:revision>
  <dc:subject/>
  <dc:title>Suggested Changes to RSN</dc:title>
</cp:coreProperties>
</file>