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5CA8-2B65-42B1-A3D5-B149C90CF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796F-77A6-4EFF-BE63-FB0A1863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2756-B5E9-4700-B3BC-6ED461584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E5A8D-BB66-420C-8D61-9162702B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E15EE-0A3D-4886-A8BC-444933090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4F423-0A44-4049-8FD4-768CD4A95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55C6A-1F15-4A8F-95B8-55A43F44C3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EDE9B-39AA-44E1-AF64-C50339AF4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EE91-F60C-4EA6-BBE4-ADE700B9F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C2D15-12A0-4BE6-89F3-A58E5F43B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063D7-42EB-43D7-8F91-DD6301AFF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9529-FD91-4CBE-BBB8-3577F0D1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CD0E2-6902-4A42-9ADF-ACBC5108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04F2B-EEC6-43FD-BD4B-FBE51FB77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45512-26DD-4D39-A2EC-AECE51923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3B91-08E3-4212-A733-64F109744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1AECC-72AB-4A62-945E-AADE57C05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87C7-5FAC-476F-92F4-208AD21EF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034D-6F78-4249-8DD4-526746EE5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809A2-120B-4CDA-AFD6-2E91147A0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4995E-FA6D-42A8-A478-E3195C8D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021CA-5864-4CCE-8225-81B9B2F5D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6262F-1433-4545-AA69-63103B35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8E04-1FA2-46C0-A2F9-A08D4F457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36067-8FEE-4D8A-94C2-46934A794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480" y="2286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eptember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5486400" y="6399360"/>
            <a:ext cx="31240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3657600" y="6399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lide </a:t>
            </a:r>
            <a:fld id="{3D8F77A7-B3BE-4A23-8491-17B4F6372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495680" y="228600"/>
            <a:ext cx="3962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080" rIns="19080" tIns="0" bIns="0" anchor="ctr">
            <a:noAutofit/>
          </a:bodyPr>
          <a:p>
            <a:pPr lvl="4" marL="1828800" algn="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oc.: IEEE 802.11-02/545r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609480"/>
            <a:ext cx="7772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5800" y="6477120"/>
            <a:ext cx="78487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67800" y="6477120"/>
            <a:ext cx="1018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ubmiss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apping password to PS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m Moore, Microsof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g Whiting, HiF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sse Walker, Int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BF429-7880-4B2F-B6C9-5C98DBF59A41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ize how to generate a 256 bit PSK from an ASCII 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proposal uses PBKDF2 from PKCS #5 v2.0: Password-based Cryptography Standard, also RFC289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SK = PBKDF2 (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Password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GB" sz="2000" spc="-1" strike="noStrike">
                <a:solidFill>
                  <a:srgbClr val="000000"/>
                </a:solidFill>
                <a:latin typeface="Times New Roman"/>
              </a:rPr>
              <a:t>ssid, ssidlength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Times New Roman"/>
              </a:rPr>
              <a:t>4096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, 25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alt is the SSID so PSK different for different SSI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once when password is sa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cument includes example code and test vec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DB464-FDA4-4285-9C2B-059D3BF3CE1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DK = T1 || T2 – concatenate to 256 b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1) 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2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x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x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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xo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 = HMAC-Sha1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|| Int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) ,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 = HMAC-Sha1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) ,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= HMAC-Sha1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U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1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 is 40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A09C90-4960-497A-A4BC-EE16DF3DEC0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tion to incorporate document 545 as an normative anne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3CB12-DDDD-43FF-8C4B-E1823C64C4D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06T19:29:32Z</dcterms:created>
  <dc:creator>Tim</dc:creator>
  <dc:description/>
  <dc:language>en-US</dc:language>
  <cp:lastModifiedBy>at&amp;t user</cp:lastModifiedBy>
  <dcterms:modified xsi:type="dcterms:W3CDTF">2002-09-12T04:35:06Z</dcterms:modified>
  <cp:revision>37</cp:revision>
  <dc:subject/>
  <dc:title>Suggested Changes to RSN</dc:title>
</cp:coreProperties>
</file>