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F174-0733-416C-8C75-CB7E4D029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2F21-BCE3-44F1-B3D9-7BC59AC0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8190-4C2F-4D9E-81F0-75F18BB90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363C-D590-45E3-A1B2-A3ECD851E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908E-A15F-449B-A5F3-899E34FB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8E7B-8CF7-49BF-9BAB-EC44284F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4836-FC1C-485A-B086-1CD31D4C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9CE1-179E-4D1D-94BF-2CCAC032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A675-B2E3-49AD-9D26-BC6F8EA5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D4C2-B97D-4B97-B466-FE7F2A8D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4D70-0D47-4E29-B482-39A8B72B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7998-E1A8-4B3D-90D8-CD87D7CA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D7A5C59-242D-4E00-8E45-52B87D2CE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808960" y="396000"/>
            <a:ext cx="2657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oc.: IEEE 802.11-02/415r0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1676160"/>
            <a:ext cx="67053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voiding scrambler seed transmission err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43200" y="4800600"/>
            <a:ext cx="350532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ricsson Microelectronics AB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safjordsgatan 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-164 81 Kista, Swe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46 8 7575018,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ke.lewis@mic.ericsson.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3276720"/>
            <a:ext cx="67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ke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ireless System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Lewis, Ericsson Microelectronics A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63FA-B7A3-4CF2-86EC-4FFB1461631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crambler seed requir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rambler seed for 802.11a shall “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be set to a pseudo random non-zero state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ansmission errors of the seed information cause well-known problems combined with MAC-level F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lution: provide the receiver with a way to deduce the initial stat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other than the transmitted informatio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Lewis, Ericsson Microelectronics 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4E8A-4CD5-47C3-B1C4-75FD6D94E4A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Preconditions for 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t sender: possibility to set OFDM PHY scrambler initial state prior to T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t receiver: possibility to determine initial state used by Rx descrambler in OFDM PH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tirely optional at receiver, maintains current (draft 3.0) MAC FEC frame stru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Lewis, Ericsson Microelectronics 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5216-0FA0-451A-A1F1-76C1F76E3DE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Proposed method: transmit s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intain a list of &lt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ddress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e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&gt; pairs  for each recipient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ddress1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DA / RA / BSSID) to which FEC traffic has been s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n be a unicast, broadcast or multicast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en sending FEC traffic, for each MPDU sent, check for a list entry corresponding to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ddress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f list entry does not exist, initialise it with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ddress1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d set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eed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o a pseudo-random non-zero val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e value of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e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corresponding to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ddress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to initialise the OFDM PHY layer scrambler for sending the MPD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pdate the value of 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eed,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to be the state of the OFDM PHY scrambler after one iteration with initial state set to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e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ee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s, as required, a pseudo-random non-zero val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Lewis, Ericsson Microelectronics 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F94C-9D51-425C-BB5E-E04770C008B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Proposed method: receive s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intain a list of &lt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ddress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ddress2, se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&gt; triplets for each recipient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ddress1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DA/RA/BSSID) and sender Address2 (SA/BSSID/TA) for which FEC traffic has been receiv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ddress1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n be a unicast, broadcast or multicast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ddress2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s always an individual addr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an MPDU is received successfully (after possible error corre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pdate (or create if it does not exist) an entry in the list corresponding to &lt;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ddress1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ddress2, seed’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gt;.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eed’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s generated by taking the value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rx_seed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sed to initialise the OFDM PHY descrambler and updating it according to the algorithm used to generate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eed’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t the transmit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is causes seed generation at the receiver to be synchronised with that at the transmitter for all &lt;receiver,transmitter&gt; combin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Lewis, Ericsson Microelectronics 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6B63-B4FE-48F6-9EA7-EFCC700A8B6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Proposed method: receive s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an MPDU cannot be received correctly, even after attempted error correction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ssume that the cause is scrambler error propag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etermine the received scrambler seed value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rx_see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used to initialise the 802.11a PHY descrambl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n’t read address fields in corrupted message, so must search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erform an intelligent search of the &lt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ddress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ddress2, se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&gt; 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or each entry searched, compensate the received MPDU for the difference in descrambler output when using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ee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nstead of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rx_seed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 the 802.11a PHY lay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e if the compensated MPDU is successfully error-corrected by F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compensated MPDU is successfully corrected and 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pdate &lt;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ddress1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ddress2, seed’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gt; based on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ee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value used to successfully decode the messa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Lewis, Ericsson Microelectronics 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DB8B-3A01-4A1A-8212-D5C60DB4DB5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Performance of meth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all &lt;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ddress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ddress2, se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&gt;  values are stored, and a full search is performed, seed errors can always be corrected for if the previous MPDU was successfully receiv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erformance can be modelled as a 2-state Markov ch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obability of error in current MPDU depends only on whether last MPDU was successfully received or not (seed values synchronis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sulting packet error rate is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ery clos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 performance of FEC code without scrambler probl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Lewis, Ericsson Microelectronics 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403E-93DB-49D2-B877-93F90AAD5D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Performance of meth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90480" y="1676520"/>
          <a:ext cx="776304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1676520"/>
                    <a:ext cx="776304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884880" y="4965840"/>
            <a:ext cx="557856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ER based on 1000 byte packets, with independent bit erro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ER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FEC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: ideal PER with FEC and no scrambler propagation err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ER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Markov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: Steady-state PER with full search method implemen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Lewis, Ericsson Microelectronics A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9713-AE1D-4470-A79C-0B0FF51EE0C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Limiting search ext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nly maintain records for FEC frames directed to the 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nly try to correct header part of message while searching: look for matching receive address after compensation / error corre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duces number of entries for a WSTA to 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ccept loss of NAV data for a small number of fra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arch through all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&lt;Address1,Address2&gt;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pairs rarely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QSTA will often be receiving data from Q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QAP will often be receiving data after granting a TX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ther similar MAC-level information can be used to guide 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an also search based on minimum non-zero Hamming distance between stored and received see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Lewis, Ericsson Microelectronics 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8D91-387D-4606-8A47-81918854383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2T12:56:43Z</dcterms:created>
  <dc:creator>Mike Lewis</dc:creator>
  <dc:description/>
  <dc:language>en-US</dc:language>
  <cp:lastModifiedBy>at&amp;t user</cp:lastModifiedBy>
  <cp:lastPrinted>1998-02-10T13:28:06Z</cp:lastPrinted>
  <dcterms:modified xsi:type="dcterms:W3CDTF">2002-07-05T18:32:55Z</dcterms:modified>
  <cp:revision>16</cp:revision>
  <dc:subject/>
  <dc:title>Avoiding scrambler seed propagation errors</dc:title>
</cp:coreProperties>
</file>