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FB31-7735-454E-ABA4-20B991529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223B-3D92-4558-9187-D319A1CF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E268-021D-4E28-9290-F24B855D1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6A7A-A00C-44F2-9855-302BF92D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D579-D928-49B4-988E-5B69CF13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0DD3-6131-4A5D-A2B4-064F2FCE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30F6-8031-4B74-BC4F-5469DE4C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E258-31F1-4797-A80D-96FB4055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D8B8-A215-4B5D-A1B9-2112531C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CA6B-AFD8-4AF9-82FE-07DF49F5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310B-6214-4CAB-81F2-6E625219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64D7-CC8B-4493-9AA2-6BB8AB2A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5320"/>
            <a:ext cx="31240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ham Melville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Mobilian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B3D6D05-02EE-4CBA-990C-AC267C967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962520" y="396000"/>
            <a:ext cx="449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2/406r0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esentation on Normative Text for TSPEC in support of Coexis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713800" cy="346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aham Melville, Symbol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melville@sj.symbo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rian Stephens, Mobilian Cor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rian.stephens@mobilia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ation associated with draft normative text located in document 11-02-406r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0200" y="5013360"/>
            <a:ext cx="87138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ff"/>
                </a:solidFill>
                <a:latin typeface="Arial"/>
              </a:rPr>
              <a:t>\\</a:t>
            </a:r>
            <a:r>
              <a:rPr b="0" lang="en-GB" sz="3200" spc="-1" strike="noStrike">
                <a:solidFill>
                  <a:srgbClr val="00cc99"/>
                </a:solidFill>
                <a:latin typeface="Arial"/>
              </a:rPr>
              <a:t>Venus1\Documents\802-11Documents\July2002\Pre-Meeting\11-02-406r0-E-Normative Text for TSP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1ADA-AE83-41D9-BC41-55D6C4D4673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ehavioura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 for AWMA is optional in both HC and 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C provides NAV protection of any schedules it 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WMA stations share the same schedule, identified by a well-defined ID (actually a particular registered multicast MAC address) in the schedule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28C5-45B0-4FEB-9373-EF49FBCD6B3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Why is this relevant to TGe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02.15.2 has defined mechanisms that reduce interference to both 802.15.1 and 802.11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duced interference means more predictability and a better chance of meeting QoS commi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duced interference means more available band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E72C-1DBE-4ABD-A22A-D6A97EFBC35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89520" y="258768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26280" y="258768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7720" y="5224320"/>
            <a:ext cx="7999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556240" y="3200400"/>
            <a:ext cx="3587760" cy="2365200"/>
            <a:chOff x="5556240" y="3200400"/>
            <a:chExt cx="3587760" cy="2365200"/>
          </a:xfrm>
        </p:grpSpPr>
        <p:sp>
          <p:nvSpPr>
            <p:cNvPr id="54" name=""/>
            <p:cNvSpPr/>
            <p:nvPr/>
          </p:nvSpPr>
          <p:spPr>
            <a:xfrm>
              <a:off x="5600520" y="3219480"/>
              <a:ext cx="3440160" cy="234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602320" y="3200400"/>
              <a:ext cx="354168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acket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M5, 2871 bi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fered Loa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O Packet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V1, 366 bi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x Powe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 m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Rat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 Mbits/s, 1 Mbits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e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rect Sequence, F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cket Siz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000 bi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fered Loa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x Powe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 m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6240" y="4273560"/>
              <a:ext cx="34686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702480" y="1498680"/>
            <a:ext cx="2147760" cy="1575000"/>
            <a:chOff x="6702480" y="1498680"/>
            <a:chExt cx="2147760" cy="1575000"/>
          </a:xfrm>
        </p:grpSpPr>
        <p:sp>
          <p:nvSpPr>
            <p:cNvPr id="58" name=""/>
            <p:cNvSpPr/>
            <p:nvPr/>
          </p:nvSpPr>
          <p:spPr>
            <a:xfrm>
              <a:off x="7566120" y="1609560"/>
              <a:ext cx="1440" cy="108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19880" y="2523960"/>
              <a:ext cx="12049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7651800" y="1696680"/>
              <a:ext cx="1440" cy="4064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948360" y="2614680"/>
              <a:ext cx="891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Sla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916760" y="2577960"/>
              <a:ext cx="933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Bluetoot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Mast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775560" y="1498680"/>
              <a:ext cx="676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cc33"/>
                  </a:solidFill>
                  <a:latin typeface="Arial"/>
                </a:rPr>
                <a:t>802.11 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702480" y="2073240"/>
              <a:ext cx="698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cc33"/>
                  </a:solidFill>
                  <a:latin typeface="Arial"/>
                </a:rPr>
                <a:t>802.11 Mobi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7862760" y="1688760"/>
              <a:ext cx="1800" cy="406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296840" y="2206440"/>
              <a:ext cx="654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Arial"/>
                </a:rPr>
                <a:t>d=1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04920" y="2514600"/>
            <a:ext cx="5257440" cy="3886200"/>
            <a:chOff x="304920" y="2514600"/>
            <a:chExt cx="5257440" cy="3886200"/>
          </a:xfrm>
        </p:grpSpPr>
        <p:sp>
          <p:nvSpPr>
            <p:cNvPr id="68" name=""/>
            <p:cNvSpPr/>
            <p:nvPr/>
          </p:nvSpPr>
          <p:spPr>
            <a:xfrm>
              <a:off x="4346640" y="5627520"/>
              <a:ext cx="1011240" cy="38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5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38640" y="5627520"/>
              <a:ext cx="1007640" cy="38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Arial"/>
                </a:rPr>
                <a:t>2.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25600" y="5627520"/>
              <a:ext cx="1013040" cy="38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o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6640" y="4851720"/>
              <a:ext cx="10112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4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338640" y="4851720"/>
              <a:ext cx="10076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25600" y="4851720"/>
              <a:ext cx="10130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o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46640" y="4075920"/>
              <a:ext cx="101124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38640" y="4075920"/>
              <a:ext cx="100764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25600" y="4075920"/>
              <a:ext cx="101304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o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46640" y="6014160"/>
              <a:ext cx="10112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338640" y="6014160"/>
              <a:ext cx="10076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Arial"/>
                </a:rPr>
                <a:t>2.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25600" y="6014160"/>
              <a:ext cx="10130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4920" y="5627520"/>
              <a:ext cx="2020680" cy="77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Mbit/s F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4920" y="4075920"/>
              <a:ext cx="2020680" cy="77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Mbit/s 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920" y="4851720"/>
              <a:ext cx="2020680" cy="77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 Mbit/s 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346640" y="5239440"/>
              <a:ext cx="101124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38640" y="5239440"/>
              <a:ext cx="100764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Arial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325600" y="5239440"/>
              <a:ext cx="101304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46640" y="4464000"/>
              <a:ext cx="101124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3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338640" y="4464000"/>
              <a:ext cx="100764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Arial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25600" y="4464000"/>
              <a:ext cx="101304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312440" y="3130920"/>
              <a:ext cx="124992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2.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38640" y="3130920"/>
              <a:ext cx="100764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325600" y="3130920"/>
              <a:ext cx="128448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T Traff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3130920"/>
              <a:ext cx="202068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2.11 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3130920"/>
              <a:ext cx="50529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4920" y="6400800"/>
              <a:ext cx="50529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4920" y="3130920"/>
              <a:ext cx="0" cy="32695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38640" y="3130920"/>
              <a:ext cx="0" cy="326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346640" y="3130920"/>
              <a:ext cx="0" cy="326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57880" y="3130920"/>
              <a:ext cx="0" cy="32695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25600" y="3130920"/>
              <a:ext cx="0" cy="326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4920" y="5627520"/>
              <a:ext cx="505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4920" y="4851720"/>
              <a:ext cx="505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4920" y="4075920"/>
              <a:ext cx="505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25600" y="4464000"/>
              <a:ext cx="303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25600" y="5239440"/>
              <a:ext cx="303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25600" y="6014160"/>
              <a:ext cx="303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67280" y="2514600"/>
              <a:ext cx="306576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% of Packet Lo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67280" y="2514600"/>
              <a:ext cx="30657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67280" y="3168720"/>
              <a:ext cx="30657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67280" y="2514600"/>
              <a:ext cx="0" cy="654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333040" y="2514600"/>
              <a:ext cx="0" cy="654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ical Modeling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546F-C173-4DD6-9B3F-0BDB0DA4E884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00000" y="981000"/>
            <a:ext cx="7696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5.2 Alternating Wireless Medium Access – What is 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060640"/>
            <a:ext cx="7772400" cy="36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802.15.2 Collaborative Coexistence Mechanism for Collocated IEEE 802.11b and Blueto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in the same laptop or handh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minates WLAN/WPAN interference due to no temporal overl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for high-density of WLAN/WPAN un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F2D4-A70A-4162-A128-DFE33B81B9A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38080" y="685800"/>
            <a:ext cx="7696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ternating Wireless Medium Access (AWMA) – How does it wor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19051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d (collocated) MAC La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ared Time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divided WLAN Beacon Inter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LAN Inter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PAN Inter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27BC-C750-484B-BB8A-EFF1DE31CA21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quirements for Support in 802.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common time-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predictable periodic allocation for AWMA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ression of 802.11 transmission during this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alling of the AWMA timing by the HC to AWMA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quest for AWMA period by STA or a MIB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7F5D-56FA-41FB-89AF-AA3F11A578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roposed TSPEC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 Traffic Type (not specific to AW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heduled”.  A repeating time period relative to the CFP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FP Offset,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 TSPEC structure (“Field Map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avoid overhead for stations that don’t support AW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8E82-F417-4736-AA03-C4748DF7EA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ther “Almost Editorial” TSPEC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ime fields in the same units (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bular definitions of f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fields shown as Optional/Mandatory/Not-permitted according to traffic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495C-6A08-4040-88C9-1D9A7331260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SPEC El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4360" y="1989000"/>
          <a:ext cx="7772400" cy="1438200"/>
        </p:xfrm>
        <a:graphic>
          <a:graphicData uri="http://schemas.openxmlformats.org/drawingml/2006/table">
            <a:tbl>
              <a:tblPr/>
              <a:tblGrid>
                <a:gridCol w="1366920"/>
                <a:gridCol w="1244520"/>
                <a:gridCol w="1254240"/>
                <a:gridCol w="1954080"/>
                <a:gridCol w="1952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tets: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ement I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S Info</a:t>
                      </a:r>
                      <a:br>
                        <a:rPr sz="2000"/>
                      </a:b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eld M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S Fields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5C1C-6F03-4F37-A525-4CD39362ECC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Steve Shellhammer</dc:creator>
  <dc:description>&lt;doc#&gt;</dc:description>
  <dc:language>en-US</dc:language>
  <cp:lastModifiedBy>Adrian P Stephens</cp:lastModifiedBy>
  <cp:lastPrinted>2002-03-08T20:04:23Z</cp:lastPrinted>
  <dcterms:modified xsi:type="dcterms:W3CDTF">2002-07-09T18:59:09Z</dcterms:modified>
  <cp:revision>442</cp:revision>
  <dc:subject>IEEE 802.15 &lt;subject&gt;</dc:subject>
  <dc:title>IEEE P802.15 Working Group for Wireless Personal Area Networks</dc:title>
</cp:coreProperties>
</file>