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2EDA-41F0-4B86-ADA2-E9B64BBE2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70B8-7DB2-43D1-AA61-FA23D40C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9B78-BC5A-4E68-AD9B-70AB0B48F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08B4-C725-4728-B375-0C3D0619B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92F9-0BAD-4E0A-AA97-E14FCEBC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2848-547D-4E7F-ADDE-014031B2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49EC-CDAA-440E-B1D8-E6CC3F67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7A7E-B9CD-4BAF-A06D-4DBDA06A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225F-220D-4FD9-A1AB-628BF942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E670-6CFB-4BB8-ADE1-39D24167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C413-7B0C-49D6-A3F8-8B4005BB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F145-9526-42A1-AAEB-9B593074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EACC637-D187-464B-B4FB-4874E7D0B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2/389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67800" y="6477120"/>
            <a:ext cx="101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.1X Pre-Authent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rnard Abo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0701-5AE6-4E52-9AC4-E04C203B9BD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2.11 EAP Method Requi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1376280"/>
            <a:ext cx="853272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“What role does EAP have in 802.11 security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less method requirements (from RFC 2284bi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ual 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deri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ctionary attack res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for fast reconn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stion: is 2.5 round trips “fast”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cted EAP conver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discu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phersuite negotia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activation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9893-4281-438E-A08E-7494B358D67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ats Addressed by EAP Reqm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19280" y="16653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ooping, modification or injection of data packets (802.11 ciph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ersonation of legitimate 802.11 STA or AP (802.11 ciph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Modification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or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control/management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Injection of forg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or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control/management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enial of service, including resource sta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isruption of security negoti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Capabilities advertis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Ciphersuit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authentication negot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AEF8-33F6-4536-8B54-C1008569357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Mandatory Auth Method: Im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76360" y="1267920"/>
            <a:ext cx="7772400" cy="49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oper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uarantee that STA and AP can successfully authentic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figurations without a backend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enticator can’t just implement the mandatory method; needs to support commonly deployed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ult: AP may need constant code changes to support new auth methods – what EAP was designed to preven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ss through” configuration is easier to imp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BSS 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uarantee that two STAs can authenticate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ects on 802.1X 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end authentication server originally an optional 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ally possible to “Colocate AS and AP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EAP, AS and client are assumed to be extensible but AP is n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rmative discussion of AAA attributes and protoco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longs in a non-normative Appendix, not within the main specific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B94B-51B7-461C-8A70-A1C52E6C784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5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ion of Management Fr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772400" cy="51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c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ociation/Reassociation Request/Response, Deauthenticate, Disassoc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protec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acon, Probe Request/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uld need to protect Beacon with multicast key; would not prevent forg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protect contents of Beacon, Probe Response later on in order to detect forg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dling of unauthenticated management 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 can discard unauthenticated Deauthenticate 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 M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s change to key hierarch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w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KIP/WRAP applied to MP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change required to key hierarch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s changes to ciph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7500-250B-4B8A-B5D2-AC14E8A134D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tection of Control Fra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64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issues to management frame protection but fewer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frames are higher band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ance penalty of not reusing TKIP and WRAP ciphersuites is prohib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 MIC not a viable o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ntrol frame protection,  need ciphersuites operating on MP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0051-40A9-4390-ABFC-B6C6D443F52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ats Addressed by Mgmt/Cntrl Pro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19280" y="16653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ooping, modification or injection of data 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ersonation of legitimate 802.11 STA or 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cation of authentication or control/management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jection of forged authentication or control/management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enial of service, including resource sta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isruption of security negoti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Capabilities advertis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Ciphersuit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authentication negot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C01A-FB9E-4E6C-BF89-AE5448A2A01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5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ed Negot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304640"/>
            <a:ext cx="7772400" cy="48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phersuite nego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phersuite negotiation needs to occur before ciphersuites are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ciphersuite used to protect management messages, then negotiation needs to occur prior to Association/Reassociation Request/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enticated Association/Reassociation Request/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o late if Assoc/Reassoc protected by TKIP or WRAP ciphersu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-way handsh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rly in conver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c to 802.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ed to create new EAP method to handle th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s support for multiple media (PPP, 802.11, et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nego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dled by EAP protection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5E01-6C47-4377-AEC1-4DFFEC9B254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ats Addressed by Protected Nego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19280" y="16653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ooping, modification or injection of data 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ersonation of legitimate 802.11 STA or 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cation of authentication or control/management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jection of forged authentication or control/management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enial of service, including resource sta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ruption of security negoti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bilities advertis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phersuite or authentication negot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A3CA-1CF0-4198-9AF5-6D8B49DB215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ey Activ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15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s when “FC” WEP bit can be set to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way handsh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bles “FC” WEP bit to be turned on prior to completion of EAP exchange (e.g. to cover Success/Failure 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ed Association/Reassociation e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C” WEP bit only turned on in “associated” pre-au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P protection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activate keys in 802.11-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781C-38EA-49A1-A4D3-588E4CB0EA7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5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85800" y="1305000"/>
          <a:ext cx="7772400" cy="48243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hre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itigation alternati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hent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802.1X pre-authent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2.1X post-authent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cted capabilities negoti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-way handsha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henticated Association/Reassoci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activ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-way handsha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henticated Association/Reassoci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frame authent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iphers operating over MPD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henticator Information El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 frame authent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iphers operating over MPD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Micro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A6CA-7503-4A9F-862B-613EBD1B017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view of pre-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at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P requir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 frame 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frame 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cted negoti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9BE0-B68A-45D6-8413-97244D14040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944800" y="1941480"/>
            <a:ext cx="2922480" cy="34686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067200" y="838080"/>
            <a:ext cx="257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bac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Microsof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BDBF-6490-4DC9-A90C-DA23BA388B91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present a strawman threat model for IEEE 802.11 T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 Moore to present detailed threat analysis on Thurs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understand the implications of IEEE 802.1X pre-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authentication supported in 802.11i Draft 2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nalyze solutions to potential thre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cted capabilities negot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acti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ment frame 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 frame 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59FC-E9AC-4D9D-B8B9-050AF4D44C0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6360" y="1233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802.11i needs a threat mod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out a threat model, you never know when you’re don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EEE 802.1X could use a formal threat model too (to avoid misunderstandings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802.1X pre-authentication with 802.11 introduces some new wrink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licant-only init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ion authenticated to multiple Authenticators simultaneous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controlled and uncontrolled 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02.11 state machine controls access, not 802.1X state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EEE 802.1X frames have a unicast DA and may be forwar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802.1X pre-authentication has substantial advantages for 802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-authentication enables a station to authenticate to multiple APs, which is not possible when 802.1X occur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ssoci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imizes connectivity loss during roa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EEE 802.1X pre-auth makes it possible to authenticate and derive keys early on, use keys to protect as many messages as po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st management and control frames can be protected, with the exception of Beacon and Probe Request/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508C-F359-4A9E-859D-527D11CA28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87280" y="1376280"/>
            <a:ext cx="3743640" cy="374328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248000" y="1305000"/>
            <a:ext cx="3743640" cy="374328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2.1X Pre-Authent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735280" y="2673360"/>
          <a:ext cx="635040" cy="35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5280" y="2673360"/>
                    <a:ext cx="63504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176720" y="2889360"/>
            <a:ext cx="855720" cy="696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5940360" y="2709720"/>
          <a:ext cx="635040" cy="355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940360" y="2709720"/>
                    <a:ext cx="63504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682560" y="3395520"/>
            <a:ext cx="712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24360" y="2997360"/>
            <a:ext cx="0" cy="396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64360" y="2997360"/>
            <a:ext cx="0" cy="396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816000" y="328464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01080" y="159372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nel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40720" y="1630440"/>
            <a:ext cx="15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nel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70520" y="35384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95240" y="3538440"/>
            <a:ext cx="8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71640" y="4005360"/>
            <a:ext cx="7772400" cy="16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6000"/>
          </a:bodyPr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 authenticates and associates to AP A on Channel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02.1X data frames with “From DS” and “To DS” set to false (Class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 does passive or active scan, moves, selects AP B as “potential roam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 authenticates to AP B before connectivity is lost to AP A (i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&lt; c/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send unicast 802.1X data frames to AP B, forwarded by AP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716400" indent="-15084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om DS” or “To DS” set to true (Class 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tune radio to Channel 11 (if B &gt;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 reassociates to AP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79240" y="353700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97440" y="2851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28720" y="2133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284360" y="260028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150560" y="3465360"/>
            <a:ext cx="37450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45440" y="342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Micro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6BB6-5C4F-464C-B46E-DE1E036E01D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69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roblem Sp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42920" y="1341360"/>
            <a:ext cx="0" cy="3238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42920" y="4581360"/>
            <a:ext cx="684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17840" y="5805360"/>
            <a:ext cx="21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on Velo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1800" y="526572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74880" y="526572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destr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47600" y="5265720"/>
            <a:ext cx="14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hi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216720" y="212976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42920" y="3465360"/>
            <a:ext cx="28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924360" y="1449000"/>
            <a:ext cx="0" cy="30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3573360"/>
            <a:ext cx="21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 t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85840" y="2457360"/>
            <a:ext cx="258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+ Pre-auth 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 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5440" y="3033720"/>
            <a:ext cx="55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10160" y="4545000"/>
            <a:ext cx="55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32360" y="2852640"/>
            <a:ext cx="205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 authentication &amp; Advertisement over 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43280" y="4976640"/>
            <a:ext cx="50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920" y="3465360"/>
            <a:ext cx="50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119640" y="1449000"/>
            <a:ext cx="0" cy="30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54320" y="4616280"/>
            <a:ext cx="104472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T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ass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504972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84720" y="281628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ociation not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00680" y="526572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Micro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85BB-7B4B-4E98-A691-F625D366529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5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Mach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24000" y="1233360"/>
          <a:ext cx="4494240" cy="514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233360"/>
                    <a:ext cx="4494240" cy="51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59280" y="1268280"/>
            <a:ext cx="45007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 802.11 state machine can b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X data frames can be sent in State 1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S, From DS 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associated pre-aut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X data frames can be sent in Stat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S or From DS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ociated Pre-aut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uthenticated Deauth can be silently discarded by 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4401-A968-46FD-8DD8-298F72E582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-Authentication State Mach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47640" y="1449360"/>
            <a:ext cx="7772400" cy="47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“controlled” and “uncontrolled”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fact, no “ports” at al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t doesn’t exist until Association/Reassociation ex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DIUS Access-Request contains no NAS-Port attrib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ounting START sent after successful Association/Reassociation Response w/NAS-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licant initiation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licant authenticates to APs that it is likely to roam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nce roaming decision made by STA, it also handle auth init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solicited EAP-Request/Identity frames are silently discar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 state machine governs frame trea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02.11-1999 state machine already supports pre-authentication, no changes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02.1X “auth complete” an input to 802.11 state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erse of 802.1X after Association, where 802.11 events are inputs to 802.1X state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CAC2-595D-49CC-92A5-88FC1B7E772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awman Threat Model for 802.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19280" y="16653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ooping, modification or injection of data 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ersonation of legitimate 802.11 STA or 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cation of authentication or control/management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jection of forged authentication or control/management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ial of service, including resource sta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ruption of security negoti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bilities advertis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phersuite or authentication negot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5D28-3CB9-47BF-9D01-9FADF7BD2AB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Bernard Aboba</dc:creator>
  <dc:description/>
  <dc:language>en-US</dc:language>
  <cp:lastModifiedBy>at&amp;t user</cp:lastModifiedBy>
  <cp:lastPrinted>2000-08-12T19:25:02Z</cp:lastPrinted>
  <dcterms:modified xsi:type="dcterms:W3CDTF">2002-07-15T19:02:54Z</dcterms:modified>
  <cp:revision>539</cp:revision>
  <dc:subject/>
  <dc:title>Issues with 802.1X State Machine</dc:title>
</cp:coreProperties>
</file>