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691-4704-441E-8C62-10256BEE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331-38C0-4F9F-A4F3-E95CE1B3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394-6311-488F-9B1A-122C0CBE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996-B201-4D83-8000-DC0B168B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3ADF-46F1-4EB6-BAF7-DDD81F70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9746-4376-4EE5-A4E2-35A7AED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0AD8-2B1B-4633-99CE-618F772B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89A7-14DC-4F32-B7D2-DBBC0A3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2F9C-6C9C-486F-AB0C-B3BA0AC4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22E3-6FF3-40B3-AAD3-056C9E9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359A-70EC-4A42-95E3-1F5325E7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B76-1DC4-4AC0-B1D0-5D12CC89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B897-C403-49DE-A9DA-EEB49FAD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214-6481-4CD8-A3E4-94EB04E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4214-CF92-4B88-95B2-9FFE431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AFB2-D11E-4BF9-8C51-DBE939E6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3AFF-F680-40D9-A619-DD718730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7C1-1AD9-4307-8767-0E313AE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012-E222-40EE-A31F-6807FB68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FF1-3F21-403B-A76E-BDD32F10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0BA-1D88-4A48-B6F2-DD3DD7F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70D-41F0-4A3D-953E-F378E0E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C2A-47EF-47FF-A3BA-2E070A9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F63-4F9D-4438-8756-643CEA0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A5E6-93BB-4381-87CE-2D1FA6E5B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024F22-9A70-4898-89FF-3D0D2A10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243-973D-4486-B4E7-6C5AE506CC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s from r3 to r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integrity reporting clar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confusing, rewrote with help from Doro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key sequence counter security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g/Jesse pointed out problem with Group key for stations associating sometime after GTK generated. Fix to pass sequence counter in Group key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a parameter to the EAPOL-Key message to pass the Sequenc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 parameter to SetKeys to pass receive sequence cou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Tx/Rx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chael key selection logic didn’t work for Group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use supplicant/authenticator to select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a parameter to SetKeys to pass supplicant/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F9D3-63BE-41DC-B3A8-85031DCE3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s from r3 to r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y use of multicast cipher in associat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be the same as from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ixes in the Authenticator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on no key in 802.1X authentication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/Octet convention issue, 298 referred to 802.11 for one field but one others, 802.1X uses a different convention for other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elds EAPOL-Key use 802.1X conv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EAPOL-Key MIC to HMAC-MD5 for AE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sse pointed out a problem. When added information element to 4-way handshake to fix the negotiation security problem caused a problem with using AES-CBC for EAPOL-Key MIC. Fix change it to use HMAC-MD5 same as TKIP EAPOL-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801-5E97-428D-8FC6-941D0D929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to incorporate changes in 02-298r4 into TGi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F631-77EB-42EB-8920-31A137EA5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1T22:09:16Z</dcterms:modified>
  <cp:revision>23</cp:revision>
  <dc:subject/>
  <dc:title>Suggested Changes to RSN</dc:title>
</cp:coreProperties>
</file>