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2C4-32BE-44A9-9565-10C571A50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1A03-05C4-45F1-A649-51E488A0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F41-1EA2-4839-B042-E66E8C853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16A7-CF8A-4126-A572-9CC0F19B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C0D7-91F7-4471-BD3E-536A6901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4F94-B34A-4B69-BF7F-1DA531F2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CD60-0D29-427C-8E20-BA9BE805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5D982-9ADC-4AA9-9CAF-7EE22829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15EA-88DA-4BF0-8D03-D769F93C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9D62-D753-4B93-B569-5DAEDEDA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5D64-47A1-41C0-AE1E-C461F736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E8A-2A5F-40E8-B8F3-4357010F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1E4B-09DD-4097-A12E-F3288E33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0806-046E-4726-B4E4-30D62C3F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E9C7-7DD9-458A-AE16-0A455EBF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8351-BA13-4FA4-A67C-177C129E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98C4-B640-4611-A052-BAE122A3E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E2C0-6086-474E-98D6-4EB0F037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7EA7-6DAE-4EFF-9A28-5B9F64349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FF4-203E-4019-A092-7924397E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05B-9A11-45CC-9F47-7227B3E2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3FDC-DBBC-4BCA-895B-1EA6C3A4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C3E9-A8B1-4264-A458-7483F0FB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6FBC-A4DC-4B59-84E3-5CC720A7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F4D3-3551-48C9-8037-2D70BD282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 Moore, Microso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D4F3FEB-CE9E-4147-BD1E-6C451B5CD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298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ggested Changes to RS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Mo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560E-1EAA-4AEF-B768-8F2C3EE504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implementation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k TGi draf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48bit IV TKIP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d 1X rekeying for Pairwise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ed to imp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iting document as ran in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AD94-F9BA-4E16-AB5F-14563F3385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 com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fo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wrote large pieces of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clarifications for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cy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to specify what combinations of legacy/RSN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5E83-8A2A-4050-A2A0-9F01F02C4A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nt back to 802.11 open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erted 802.11 state machine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d 1X as an authenticated key management protocol over a 802.11 data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ssues in 1X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issues in the way eapol-key message wa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 1X with key mapping key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’t start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sociation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C6A5-0886-40E6-B814-AF9BCFD06C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ormation el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icult to work out valid combi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able of combinations and referen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nd pre-shared key is a special case fo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to add an auth type to make this easy for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9405-70CF-4C3A-A512-2E70C5884B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reference code and test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2395-886F-4700-AB7F-E1E340DFE0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K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48 bit 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ram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DFB1-1353-4818-A4B0-BED0EF740C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ha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s unicast keys with a different integrity in each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ntegrity key since can’t use different integrity keys for broadcast in IB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er 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ing to stop handling out new keys for the attacker to at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her than stopping the MAC, stop handing out k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ttacker is attacking one station doesn’t affect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C071-9533-461A-A459-42A56FDB08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itional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SN information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rify which fields are 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rify that it is also in the re-association request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rify the use of WEP for multicast cipher suite is for legacy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.1X ke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ed ReAuthenticationRequest event to Authenticator key state machine to trigger 4-way handshake on 802.1X re-authentic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ed the RSN IE in the 2nd and 3rd EAPOL-Key message of the 4-way handshake to fix a security issue of attacking security by modifying the RSN 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lso required for pre-authentication so new AP knows the cipher to allow it to send the correct keying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some text about the checks the Supplicant and Authenticator should carry out as part of the keying state mach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pdated Authenticator state machine to correct an error in the handling of the EAPOL-Key message with the Request bit set to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rify the use of the secure bit in the EAPOL-Key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K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anged the TKIP frame format to send RC4KEY[0-2] in the WEP IV field and the upper 4 octets of the TSC in the E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Document 02/281 was different than suggested in 02/282 (TKIP 48bit IV)(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d text noting the increased data payload length due to the MIC and fragmentation may occur because of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dded a table of Required, Recommended, Optional functionali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neral editorial clar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2D68-05C6-4F36-B172-DBA0B9A69E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9:29:32Z</dcterms:created>
  <dc:creator>Tim</dc:creator>
  <dc:description/>
  <dc:language>en-US</dc:language>
  <cp:lastModifiedBy>at&amp;t user</cp:lastModifiedBy>
  <dcterms:modified xsi:type="dcterms:W3CDTF">2002-07-09T00:28:39Z</dcterms:modified>
  <cp:revision>14</cp:revision>
  <dc:subject/>
  <dc:title>Suggested Changes to RSN</dc:title>
</cp:coreProperties>
</file>