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EDE-192F-4FF0-9D4A-77719702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8FD-407D-4F8B-9030-17A1583B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6D0-0329-4AA6-B8D4-39F4FB7A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109-69BA-4A48-B6D9-4211EA2A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82B-702F-4197-A11E-3ED28CFB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CB5-FC5C-4F89-BCE0-E6EAB1EA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0DD-3574-47FA-9022-3B220489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971-47B6-4981-8691-04960053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050-D79C-4E60-8A7D-FFC45A88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46D-DA1E-45D7-A24E-FF10B5E2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6D5-D0EF-4E44-920F-288C05B0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C70-26E3-49F5-97A5-22F62DA2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9FB7FF-32D4-4327-B838-1A1620DB2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298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gested Changes to RS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656-7C6F-4B22-A728-35EBC4F289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implementation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k TGi draf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48bit IV TKIP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d 1X rekeying for Pairwis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ed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ing document as ran in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81C-137B-4A6F-ACE1-B210FCB15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ote large pieces of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clarifications for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to specify what combinations of legacy/RS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D4B-5D00-4C2D-B6A5-5807DAF6B5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nt back to 802.11 ope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ted 802.11 state machine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1X as an authenticated key management protocol over a 802.11 data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ssues in 1X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ssues in the way eapol-key message wa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 1X with key mapping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’t start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sociation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15D-987B-46C3-980F-41316A6B28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tion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work out valid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able of combinations and referen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pre-shared key is a special case fo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to add an auth type to make this easy for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F603-8DD2-4A9B-BD0C-2AA4B988C6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reference code and test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5E3-6D48-49C2-A563-589E80A390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K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48 bi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ram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070-11B9-4859-ADE8-CCDD9DD878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unicast keys with a different integrity in each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ntegrity key since can’t use different integrity keys for broadcast in I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ing to stop handling out new keys for the attacker to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stopping the MAC, stop handing out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ttacker is attacking one station doesn’t affec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E35-60CA-451E-ADB1-57A30A983E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17:56:19Z</dcterms:created>
  <dc:creator>Tim</dc:creator>
  <dc:description/>
  <dc:language>en-US</dc:language>
  <cp:lastModifiedBy>at&amp;t user</cp:lastModifiedBy>
  <dcterms:modified xsi:type="dcterms:W3CDTF">2002-05-14T06:44:58Z</dcterms:modified>
  <cp:revision>24</cp:revision>
  <dc:subject/>
  <dc:title>AP to AP security</dc:title>
</cp:coreProperties>
</file>