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355-E424-4A67-B395-F866C76C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33A-1627-4E81-9C94-D04C3F23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975-F198-4CE4-ABFA-0F53388E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5EA-CF22-4B26-A840-4DCB6BE3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47C-F45B-458C-8384-5C4FD5D8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812-7262-4F7C-AEF8-2A892B8D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B66-8816-46E4-8A43-D18B17C0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0EA-C58A-4C88-A282-C08740C3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32B-E70B-4278-8817-06A0AD13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0B9-2BBE-41A2-A733-8EDCF4C6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B1F-C91A-4474-BFD0-121E20D5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944-8929-430B-BC34-F6C508AF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25CE21-99FD-4784-829B-90C3A04B2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08960" y="396000"/>
            <a:ext cx="26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161r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imon.black@qosine.co.uk" TargetMode="External"/><Relationship Id="rId2" Type="http://schemas.openxmlformats.org/officeDocument/2006/relationships/hyperlink" Target="mailto:mika.kasslin@nokia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simon.black@qosine.co.uk" TargetMode="External"/><Relationship Id="rId2" Type="http://schemas.openxmlformats.org/officeDocument/2006/relationships/hyperlink" Target="mailto:mika.kasslin@nokia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posal for Dynamic Frequency Selection (D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on Black, Qos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ka Kasslin, Nok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imon.black@qosine.co.uk</a:t>
            </a:r>
            <a:br>
              <a:rPr sz="1800"/>
            </a:b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ika.kasslin@nokia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150-7F8B-4973-AD43-1E5ABD4AE5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Channel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s of a set of flags to signal various measuremen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and Not-Supported flags are used to signal the significance of the report in Channel Maps for IBSS D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4508640"/>
          <a:ext cx="8458200" cy="890280"/>
        </p:xfrm>
        <a:graphic>
          <a:graphicData uri="http://schemas.openxmlformats.org/drawingml/2006/table">
            <a:tbl>
              <a:tblPr/>
              <a:tblGrid>
                <a:gridCol w="941400"/>
                <a:gridCol w="1003320"/>
                <a:gridCol w="936720"/>
                <a:gridCol w="877680"/>
                <a:gridCol w="939960"/>
                <a:gridCol w="880920"/>
                <a:gridCol w="982800"/>
                <a:gridCol w="1123920"/>
                <a:gridCol w="771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-fi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683-4E16-4AAD-A224-22E9C286FB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ganization Specific Request/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tainer mechanism for any Organization Specific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90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619280" y="3573360"/>
            <a:ext cx="4780440" cy="1339560"/>
            <a:chOff x="1619280" y="3573360"/>
            <a:chExt cx="4780440" cy="1339560"/>
          </a:xfrm>
        </p:grpSpPr>
        <p:sp>
          <p:nvSpPr>
            <p:cNvPr id="94" name=""/>
            <p:cNvSpPr/>
            <p:nvPr/>
          </p:nvSpPr>
          <p:spPr>
            <a:xfrm>
              <a:off x="2575800" y="4242960"/>
              <a:ext cx="1528560" cy="66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04720" y="4242960"/>
              <a:ext cx="2293920" cy="66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ganization Specific Request/Re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74720" y="3573360"/>
              <a:ext cx="152964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04720" y="3573360"/>
              <a:ext cx="229500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19280" y="3573360"/>
              <a:ext cx="134064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ctet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0" y="39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47F-B989-41D5-B2F5-237E790757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mary User Det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 stops transmission of data and control type frames within a period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efined within the MIB and set to meet regulatory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 stops transmission of management frames within an extended period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gain defined within the MIB and set to meet regulatory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tended management period allows channel measurement reporting and channel switch signa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6021360"/>
            <a:ext cx="525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51960" y="575460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5589720"/>
            <a:ext cx="1008000" cy="431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5589720"/>
            <a:ext cx="2087640" cy="431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AGEMENT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5013360"/>
            <a:ext cx="144720" cy="1008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42120" y="445788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mary Us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515772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5445000"/>
            <a:ext cx="30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3440" y="52293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5800" y="49417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776-FF90-4F3B-862D-C0E8A62F20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FS in a BSS – Admission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MIB attribute dot11SpectrumManagementEnabled is set equal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the MLME-START.request primitive is issued, then the BSS will be spectrum manag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s dot11SpectrumManagementEnabled is set equal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ll not join non-spectrum managed B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 operating in a spectrum managed BSS shall not permit a STA to associate or re-associate unless the STA is has spectrum management ena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6E4-8838-4566-94F2-BF4D0F34FF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FS in a BSS –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Points may use the measurement request/report mechanism to collect data from associated 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rimary user is detected by an associated STA an best effort attempt is made to send an autonomous channel report to the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EDE-5D18-4D38-BCD4-AE75A5F625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FS in a BSS – Channel Swit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empt to move the STAs that are associated in its BSS to a new channel by advertising a channel switch using the Channel Switch Announcement element in Beacon and Probe Respons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nel Switch shall be scheduled to give the best chance for all STAs to receive the new channe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new channel advertised shall comply with the regulatory rules regarding measurement &amp;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nnel Switch event is equivalent to a dwell time in IEEE 802.11-1999 claus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417-DE6B-4DC7-9FB0-3F31F91DC3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FS in an IBSS –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S in an IBSS requires additional functions si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no central AP function for collating measurements, or channel switching, e.g. if STAs make independent decisions to move channel in the presence of a primary signal, there is a danger that all STAs will announce a switch to differing channels if several of them detect a primary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no association protocol that can be used to (a) determine membership of the BSS at a given instant, or (b) establish the supported channel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coning is a shared process and therefore it cannot be guaranteed that an STA that has something to send such as a channel switch message will be the next STA to beac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366-382B-4998-9DFE-4057B55AE2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FS in an IBSS – St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 that starts the I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s whether the IBSS is to be spectrum man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the initial operating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the supported channel set – communicated in channel 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initi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FS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parameters for default measurement interval and DFS recovery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7B7-E7DE-4BAB-AD71-2792F49A7C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BSS DFS El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3357720"/>
          <a:ext cx="7772400" cy="1031760"/>
        </p:xfrm>
        <a:graphic>
          <a:graphicData uri="http://schemas.openxmlformats.org/drawingml/2006/table">
            <a:tbl>
              <a:tblPr/>
              <a:tblGrid>
                <a:gridCol w="1003320"/>
                <a:gridCol w="976320"/>
                <a:gridCol w="904680"/>
                <a:gridCol w="974880"/>
                <a:gridCol w="1285920"/>
                <a:gridCol w="1314360"/>
                <a:gridCol w="13129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nel 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et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* 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the DFS process in an I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250-7FC1-422F-9FAB-1FD7A1D8C2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FS in an IBSS – The DFS Ow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 within the IBSS that is responsible for coordinating the switch to a new channel in the case that a primary user is de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FS recovery ensures that the DFS owner function is regenerated if the DFS owner leaves, or cannot hear the report indicating detection of a primary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718-4EA6-4577-B74E-436D5B420E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asonably complete and self-consistent proposal for D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 BSS and I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comments made during the presentation of the 11-01-532 IBSS DFS proposal presented in Jan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 to limit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 to write the submission in a draft-ready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E1B-AB4B-4FE5-ABF1-B809E23763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FS in an IBSS –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s share information concerning supported channels and channel measurements via the channel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hannel map provides an equivalent mechanism to  the supported channel information in association for infrastructure BS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STAs joining the IBSS have a baseline set of measurements and can take on the DFS owner role if DFS owner recovery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 request-report frames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STA that detects a primary user signals that immediately in an autonomous measurement report and via its channel 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02B-1AA7-4D1E-98BC-AD61CC120C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FS in an IBSS – Channel Swit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S owner is responsible for selecting and advertising a new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rect channel switch advertisement frame is defined to overcome the fact that the DFS owner may not be the next STA to bea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nel switch advertisement is further communicated in beacon and probe respons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TAs that hear the primary user notification do not hear a channel switch within DFS recovery time, the first of those STAs to beacon shall assume the DFS owner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may be multiple new DFS owners, so a resolution process is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96E-566A-45BA-BDCB-56107D6F5B0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yer Management Exten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3500280"/>
            <a:ext cx="1584360" cy="1081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4581360"/>
            <a:ext cx="1584360" cy="1081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L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16720" y="3500280"/>
            <a:ext cx="1584360" cy="1081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4581360"/>
            <a:ext cx="1584360" cy="1081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L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89440" y="515772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60000" y="5229360"/>
            <a:ext cx="165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ement Fra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2360" y="429264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81440" y="429264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51640" y="429264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40720" y="429264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1600" y="4221000"/>
            <a:ext cx="225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ment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ment Re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 Switch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ME Primitive additions for clause 10 to support channel measurements and channel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805-F328-4453-AFB7-72A4A423285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posal for Dynamic Frequency Selection (D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on Black, Qos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ka Kasslin, Nok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imon.black@qosine.co.uk</a:t>
            </a:r>
            <a:br>
              <a:rPr sz="1800"/>
            </a:b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ika.kasslin@nokia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435-3001-4703-92D2-BEBB85F7C7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P802.11h/D1.1, January 2002, Spectrum and Transmit Power Management extensions in the 5GHz band i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-01-532r0, Dynamic Frequency Selection (DFS) in an Independent BSS, S. Black/S. Gray – Nokia, S. Choi/A. Soomro – Phi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-01-533r0, An IEEE802.11h MIB Definition, S. Black – No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-01-538r0, Layer Management Extensions for Spectrum Management, S. Black – Nokia, S. Choi/A. Soomro – Phi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-02-154r2, Proposed DFS text, A. Myles – C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28A-6D55-4D5D-AACD-DC07BA761D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Principles – Role of IEEE802.11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 of IEEE802.11h is to ensure that IEEE802.11a systems meet the regulatory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 of BSS operating channel should meet regulatory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evice should adhere to the regulatory rules when a primary user is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s should be provided to assist in making accurate channel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EEE802.11 user should ideally not be aware that a primary user was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ling of primary user detection within a B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sed re-location to an alternative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144-830B-428F-9034-B5636DD793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principles – Device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IEEE802.11h device is responsible for adhering to the regulatory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he ability to measure a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some algorithm to detect primary users that is compliant with the appropriate regulations and passes the relevant conformanc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s transmission on the channel within the appropriate time after detection of a primary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E9B-C3A5-4DF8-8D71-D92386622B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Principles – This 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eting channels for meas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ing and reporting of channel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ing licensed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tinuing operations after detecting licensed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ng and advertising a new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909-4660-4133-87FE-0AD3277632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nnel Measurements – Quiet Peri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BSS-wide channel quiet period to assist in making accurate channel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led using an element in Beacon and Probe Response Management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behaviour around a channel quiet period is as defined for a dwell period in clause 9 of IEEE802.11-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4797360"/>
          <a:ext cx="7704000" cy="879480"/>
        </p:xfrm>
        <a:graphic>
          <a:graphicData uri="http://schemas.openxmlformats.org/drawingml/2006/table">
            <a:tbl>
              <a:tblPr/>
              <a:tblGrid>
                <a:gridCol w="863640"/>
                <a:gridCol w="1279440"/>
                <a:gridCol w="1390680"/>
                <a:gridCol w="1387440"/>
                <a:gridCol w="1392120"/>
                <a:gridCol w="1390680"/>
              </a:tblGrid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ment 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asurement 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asurement Peri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asurement 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ctet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875-C335-4D0C-801F-A306638BCC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 Measurements – Requests/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71640" y="2708280"/>
          <a:ext cx="7270560" cy="871560"/>
        </p:xfrm>
        <a:graphic>
          <a:graphicData uri="http://schemas.openxmlformats.org/drawingml/2006/table">
            <a:tbl>
              <a:tblPr/>
              <a:tblGrid>
                <a:gridCol w="833400"/>
                <a:gridCol w="1111320"/>
                <a:gridCol w="1176120"/>
                <a:gridCol w="1382760"/>
                <a:gridCol w="1384200"/>
                <a:gridCol w="138276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ment 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asure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qu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ctet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71640" y="4724280"/>
          <a:ext cx="7273440" cy="863640"/>
        </p:xfrm>
        <a:graphic>
          <a:graphicData uri="http://schemas.openxmlformats.org/drawingml/2006/table">
            <a:tbl>
              <a:tblPr/>
              <a:tblGrid>
                <a:gridCol w="832320"/>
                <a:gridCol w="1128960"/>
                <a:gridCol w="1161360"/>
                <a:gridCol w="1383120"/>
                <a:gridCol w="1384560"/>
                <a:gridCol w="13831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ment 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easure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ctet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3128760" y="213192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Elemen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9480" y="421956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Elemen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47E-B2B3-4B14-A052-973C34964E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Channel Measurement Request/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5640" y="2133720"/>
            <a:ext cx="6752880" cy="1444320"/>
            <a:chOff x="755640" y="2133720"/>
            <a:chExt cx="6752880" cy="1444320"/>
          </a:xfrm>
        </p:grpSpPr>
        <p:grpSp>
          <p:nvGrpSpPr>
            <p:cNvPr id="67" name=""/>
            <p:cNvGrpSpPr/>
            <p:nvPr/>
          </p:nvGrpSpPr>
          <p:grpSpPr>
            <a:xfrm>
              <a:off x="755640" y="2133720"/>
              <a:ext cx="6752880" cy="1444320"/>
              <a:chOff x="755640" y="2133720"/>
              <a:chExt cx="6752880" cy="1444320"/>
            </a:xfrm>
          </p:grpSpPr>
          <p:sp>
            <p:nvSpPr>
              <p:cNvPr id="68" name=""/>
              <p:cNvSpPr/>
              <p:nvPr/>
            </p:nvSpPr>
            <p:spPr>
              <a:xfrm>
                <a:off x="1549800" y="2615040"/>
                <a:ext cx="1269000" cy="48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easur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uration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818800" y="2615040"/>
                <a:ext cx="1220040" cy="48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umber of Channe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041000" y="2615040"/>
                <a:ext cx="1158840" cy="48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hannel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07840" y="2133720"/>
                <a:ext cx="111096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26800" y="2133720"/>
                <a:ext cx="11120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041000" y="2133720"/>
                <a:ext cx="111096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151960" y="2133720"/>
                <a:ext cx="11120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5640" y="2133720"/>
                <a:ext cx="111276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Octets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021920" y="3508920"/>
                <a:ext cx="34790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99840" y="2615040"/>
                <a:ext cx="1158120" cy="48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hannel 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1480" y="2615040"/>
                <a:ext cx="1157040" cy="48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hannel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41080" y="3096000"/>
                <a:ext cx="1427760" cy="48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960" rIns="8496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hannel Li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6354360" y="2133720"/>
              <a:ext cx="11106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0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58920" y="4508640"/>
          <a:ext cx="5614920" cy="1901520"/>
        </p:xfrm>
        <a:graphic>
          <a:graphicData uri="http://schemas.openxmlformats.org/drawingml/2006/table">
            <a:tbl>
              <a:tblPr/>
              <a:tblGrid>
                <a:gridCol w="1224000"/>
                <a:gridCol w="2201760"/>
                <a:gridCol w="2189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ment 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nel Number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ic Channel Report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nel Number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ic Channel Report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nel Number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ic Channel Report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et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335680" y="1628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Measurement Reques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08040" y="393372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Measurement Respons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lack, Mika Kassl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717-1604-4BAD-8F05-0F6F9ED5C3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22:06:47Z</dcterms:created>
  <dc:creator>Simon Black</dc:creator>
  <dc:description/>
  <dc:language>en-US</dc:language>
  <cp:lastModifiedBy>Simon Black</cp:lastModifiedBy>
  <cp:lastPrinted>1998-02-10T13:28:06Z</cp:lastPrinted>
  <dcterms:modified xsi:type="dcterms:W3CDTF">2002-03-12T15:19:11Z</dcterms:modified>
  <cp:revision>14</cp:revision>
  <dc:subject/>
  <dc:title>A Proposal for Dynamic Frequency Selection (DFS)</dc:title>
</cp:coreProperties>
</file>