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4F962-F825-4AB3-8EB5-17E766F9C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C835F-7D16-4702-9B5A-C44E8A8C7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5F9E4-8AAA-451A-B03F-A5DF5C1A9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6B43A-CEB4-44C1-9488-94C538BAF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184D3-5B17-4321-B10B-2567B9747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D04F5-5F3D-4AD6-BB87-2F25347C6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2397E-8363-4734-9D43-195A0B68C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241DE-B694-41EC-B119-0E11953C0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F0490-9C74-46D5-ACDC-9AC7FC920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06BD9-C4B4-417A-AFA1-627C5F24B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57ED7-FC26-45BB-9F48-A78729055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E6C6A-1606-4041-8FDB-4FBA10DE9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BE949-B58E-4977-96DB-BEA0F2730D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
          <p:cNvSpPr/>
          <p:nvPr/>
        </p:nvSpPr>
        <p:spPr>
          <a:xfrm>
            <a:off x="609480" y="2286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2</a:t>
            </a:r>
            <a:endParaRPr b="0" lang="en-US" sz="1400" spc="-1" strike="noStrike">
              <a:solidFill>
                <a:srgbClr val="000000"/>
              </a:solidFill>
              <a:latin typeface="Times New Roman"/>
            </a:endParaRPr>
          </a:p>
        </p:txBody>
      </p:sp>
      <p:sp>
        <p:nvSpPr>
          <p:cNvPr id="6" name=""/>
          <p:cNvSpPr/>
          <p:nvPr/>
        </p:nvSpPr>
        <p:spPr>
          <a:xfrm>
            <a:off x="5492880" y="6399360"/>
            <a:ext cx="31240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n-Meng Ho, Texas Instruments</a:t>
            </a:r>
            <a:endParaRPr b="0" lang="en-US" sz="1200" spc="-1" strike="noStrike">
              <a:solidFill>
                <a:srgbClr val="000000"/>
              </a:solidFill>
              <a:latin typeface="Times New Roman"/>
            </a:endParaRPr>
          </a:p>
        </p:txBody>
      </p:sp>
      <p:sp>
        <p:nvSpPr>
          <p:cNvPr id="7" name=""/>
          <p:cNvSpPr/>
          <p:nvPr/>
        </p:nvSpPr>
        <p:spPr>
          <a:xfrm>
            <a:off x="365760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 </a:t>
            </a:r>
            <a:fld id="{41D97162-ACC8-4D66-82DF-36B6854BCC51}"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2/004r3</a:t>
            </a:r>
            <a:endParaRPr b="0" lang="en-US" sz="1400" spc="-1" strike="noStrike">
              <a:solidFill>
                <a:srgbClr val="000000"/>
              </a:solidFill>
              <a:latin typeface="Times New Roman"/>
            </a:endParaRPr>
          </a:p>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592200" y="6446880"/>
            <a:ext cx="898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1"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8120" y="1190520"/>
            <a:ext cx="8832960" cy="96228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rst Transmission and Acknowledgment  </a:t>
            </a:r>
            <a:endParaRPr b="0" lang="en-US" sz="4400" spc="-1" strike="noStrike">
              <a:solidFill>
                <a:srgbClr val="000000"/>
              </a:solidFill>
              <a:latin typeface="Times New Roman"/>
            </a:endParaRPr>
          </a:p>
        </p:txBody>
      </p:sp>
      <p:sp>
        <p:nvSpPr>
          <p:cNvPr id="49" name=""/>
          <p:cNvSpPr/>
          <p:nvPr/>
        </p:nvSpPr>
        <p:spPr>
          <a:xfrm>
            <a:off x="600120" y="2895480"/>
            <a:ext cx="7908840" cy="228456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Meng Ho,  Jie Liang, Sid Schrum</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Yasuo Harada, Isaac Lim Wei Lih </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Yoshihiro Ohtani, Srinivas Kandala</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aarten Hoeben</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uncan Kitchin</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Motion</a:t>
            </a:r>
            <a:endParaRPr b="0" lang="en-US" sz="3200" spc="-1" strike="noStrike">
              <a:solidFill>
                <a:srgbClr val="000000"/>
              </a:solidFill>
              <a:latin typeface="Times New Roman"/>
            </a:endParaRPr>
          </a:p>
        </p:txBody>
      </p:sp>
      <p:sp>
        <p:nvSpPr>
          <p:cNvPr id="79" name=""/>
          <p:cNvSpPr/>
          <p:nvPr/>
        </p:nvSpPr>
        <p:spPr>
          <a:xfrm>
            <a:off x="609480" y="1428840"/>
            <a:ext cx="7950240" cy="2698560"/>
          </a:xfrm>
          <a:prstGeom prst="rect">
            <a:avLst/>
          </a:prstGeom>
          <a:noFill/>
          <a:ln w="0">
            <a:noFill/>
          </a:ln>
        </p:spPr>
        <p:style>
          <a:lnRef idx="0"/>
          <a:fillRef idx="0"/>
          <a:effectRef idx="0"/>
          <a:fontRef idx="minor"/>
        </p:style>
        <p:txBody>
          <a:bodyPr lIns="92160" rIns="92160" tIns="46080" bIns="46080" anchor="t">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place the frame formats, figures, and text pertaining to the Burst Acknowledgment mechanism in Draft 2.0 with those provided in this docu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802.11e/D2.0 Burst Request/Ack Issues</a:t>
            </a:r>
            <a:endParaRPr b="0" lang="en-US" sz="3200" spc="-1" strike="noStrike">
              <a:solidFill>
                <a:srgbClr val="000000"/>
              </a:solidFill>
              <a:latin typeface="Times New Roman"/>
            </a:endParaRPr>
          </a:p>
        </p:txBody>
      </p:sp>
      <p:sp>
        <p:nvSpPr>
          <p:cNvPr id="51" name=""/>
          <p:cNvSpPr/>
          <p:nvPr/>
        </p:nvSpPr>
        <p:spPr>
          <a:xfrm>
            <a:off x="544680" y="1382760"/>
            <a:ext cx="7949880" cy="510228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resource issue:</a:t>
            </a:r>
            <a:endParaRPr b="0" lang="en-US" sz="20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large should a burst be before the transmitting station requests a burst ack from the receiving station?</a:t>
            </a:r>
            <a:endParaRPr b="0" lang="en-US" sz="1800" spc="-1" strike="noStrike">
              <a:solidFill>
                <a:srgbClr val="000000"/>
              </a:solidFill>
              <a:latin typeface="Times New Roman"/>
            </a:endParaRPr>
          </a:p>
          <a:p>
            <a:pPr lvl="2" marL="909720" indent="-22392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large burst may exceed the buffer capacity at the receiving station, resulting in the loss of some frames that were received correctly.</a:t>
            </a:r>
            <a:endParaRPr b="0" lang="en-US" sz="1600" spc="-1" strike="noStrike">
              <a:solidFill>
                <a:srgbClr val="000000"/>
              </a:solidFill>
              <a:latin typeface="Times New Roman"/>
            </a:endParaRPr>
          </a:p>
          <a:p>
            <a:pPr lvl="2" marL="909720" indent="-22392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ordering and delay issue:</a:t>
            </a:r>
            <a:endParaRPr b="0" lang="en-US" sz="20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long should the receiving station hold correctly received higher sequence number frames to wait for missing lower sequence number frames?</a:t>
            </a:r>
            <a:endParaRPr b="0" lang="en-US" sz="1800" spc="-1" strike="noStrike">
              <a:solidFill>
                <a:srgbClr val="000000"/>
              </a:solidFill>
              <a:latin typeface="Times New Roman"/>
            </a:endParaRPr>
          </a:p>
          <a:p>
            <a:pPr lvl="2" marL="909720" indent="-22392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missing frames may have been discarded by the transmitting station and unnecessarily delay the delivery of frames correctly received by the receiving station to the upper lay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 Request Frame (1)</a:t>
            </a:r>
            <a:endParaRPr b="0" lang="en-US" sz="3200" spc="-1" strike="noStrike">
              <a:solidFill>
                <a:srgbClr val="000000"/>
              </a:solidFill>
              <a:latin typeface="Times New Roman"/>
            </a:endParaRPr>
          </a:p>
        </p:txBody>
      </p:sp>
      <p:graphicFrame>
        <p:nvGraphicFramePr>
          <p:cNvPr id="53" name=""/>
          <p:cNvGraphicFramePr/>
          <p:nvPr/>
        </p:nvGraphicFramePr>
        <p:xfrm>
          <a:off x="554040" y="1494000"/>
          <a:ext cx="8031240" cy="1877760"/>
        </p:xfrm>
        <a:graphic>
          <a:graphicData uri="http://schemas.openxmlformats.org/presentationml/2006/ole">
            <p:oleObj progId="Word.Document.12" r:id="rId1" spid="">
              <p:embed/>
              <p:pic>
                <p:nvPicPr>
                  <p:cNvPr id="54" name="" descr=""/>
                  <p:cNvPicPr/>
                  <p:nvPr/>
                </p:nvPicPr>
                <p:blipFill>
                  <a:blip r:embed="rId2"/>
                  <a:stretch/>
                </p:blipFill>
                <p:spPr>
                  <a:xfrm>
                    <a:off x="554040" y="1494000"/>
                    <a:ext cx="8031240" cy="1877760"/>
                  </a:xfrm>
                  <a:prstGeom prst="rect">
                    <a:avLst/>
                  </a:prstGeom>
                  <a:ln w="0">
                    <a:noFill/>
                  </a:ln>
                </p:spPr>
              </p:pic>
            </p:oleObj>
          </a:graphicData>
        </a:graphic>
      </p:graphicFrame>
      <p:sp>
        <p:nvSpPr>
          <p:cNvPr id="55" name=""/>
          <p:cNvSpPr/>
          <p:nvPr/>
        </p:nvSpPr>
        <p:spPr>
          <a:xfrm>
            <a:off x="8577360" y="1494000"/>
            <a:ext cx="0" cy="17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09480" y="3398760"/>
            <a:ext cx="8207640" cy="299736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st Ack Starting Sequence Control:</a:t>
            </a:r>
            <a:endParaRPr b="0" lang="en-US" sz="2000" spc="-1" strike="noStrike">
              <a:solidFill>
                <a:srgbClr val="000000"/>
              </a:solidFill>
              <a:latin typeface="Times New Roman"/>
            </a:endParaRPr>
          </a:p>
          <a:p>
            <a:pPr lvl="1" marL="57168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dicating the sequence number for the starting MPDU from which the transmitter is requesting ACK status. This number can not be decreasing (sequence number may wrap around 4096) for the subsequent Burst Ack Request frame for the same TID. This number shall not be offset by more than 128 from the latest sequence number for the same traffic stream, and shall also be limited by the receiver buffer size. MSDUs of sequence number smaller than this number have been discarded by the transmitting MAC entity and are not to be awaited by the receiving MAC ent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 Request Frame (2)</a:t>
            </a:r>
            <a:endParaRPr b="0" lang="en-US" sz="3200" spc="-1" strike="noStrike">
              <a:solidFill>
                <a:srgbClr val="000000"/>
              </a:solidFill>
              <a:latin typeface="Times New Roman"/>
            </a:endParaRPr>
          </a:p>
        </p:txBody>
      </p:sp>
      <p:sp>
        <p:nvSpPr>
          <p:cNvPr id="58" name=""/>
          <p:cNvSpPr/>
          <p:nvPr/>
        </p:nvSpPr>
        <p:spPr>
          <a:xfrm>
            <a:off x="557280" y="3114720"/>
            <a:ext cx="8207280" cy="347328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D (4 bits): </a:t>
            </a:r>
            <a:endParaRPr b="0" lang="en-US" sz="2000" spc="-1" strike="noStrike">
              <a:solidFill>
                <a:srgbClr val="000000"/>
              </a:solidFill>
              <a:latin typeface="Times New Roman"/>
            </a:endParaRPr>
          </a:p>
          <a:p>
            <a:pPr marL="22860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ID of the traffic stream for which the burst Ack request is intended.</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st Ack Stop (1 bit): </a:t>
            </a:r>
            <a:endParaRPr b="0" lang="en-US" sz="20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set to 1, indicates that the transmitter is terminating burst ack for this TID and the receiver can release relevant resources.</a:t>
            </a:r>
            <a:endParaRPr b="0" lang="en-US" sz="18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set to 0, indicates that the transmitter will continue burst ack for this TID</a:t>
            </a:r>
            <a:endParaRPr b="0" lang="en-US" sz="1800" spc="-1" strike="noStrike">
              <a:solidFill>
                <a:srgbClr val="000000"/>
              </a:solidFill>
              <a:latin typeface="Times New Roman"/>
            </a:endParaRPr>
          </a:p>
        </p:txBody>
      </p:sp>
      <p:graphicFrame>
        <p:nvGraphicFramePr>
          <p:cNvPr id="59" name=""/>
          <p:cNvGraphicFramePr/>
          <p:nvPr/>
        </p:nvGraphicFramePr>
        <p:xfrm>
          <a:off x="477720" y="1209600"/>
          <a:ext cx="8031240" cy="1878120"/>
        </p:xfrm>
        <a:graphic>
          <a:graphicData uri="http://schemas.openxmlformats.org/presentationml/2006/ole">
            <p:oleObj progId="Word.Document.12" r:id="rId1" spid="">
              <p:embed/>
              <p:pic>
                <p:nvPicPr>
                  <p:cNvPr id="60" name="" descr=""/>
                  <p:cNvPicPr/>
                  <p:nvPr/>
                </p:nvPicPr>
                <p:blipFill>
                  <a:blip r:embed="rId2"/>
                  <a:stretch/>
                </p:blipFill>
                <p:spPr>
                  <a:xfrm>
                    <a:off x="477720" y="1209600"/>
                    <a:ext cx="8031240" cy="1878120"/>
                  </a:xfrm>
                  <a:prstGeom prst="rect">
                    <a:avLst/>
                  </a:prstGeom>
                  <a:ln w="0">
                    <a:noFill/>
                  </a:ln>
                </p:spPr>
              </p:pic>
            </p:oleObj>
          </a:graphicData>
        </a:graphic>
      </p:graphicFrame>
      <p:sp>
        <p:nvSpPr>
          <p:cNvPr id="61" name=""/>
          <p:cNvSpPr/>
          <p:nvPr/>
        </p:nvSpPr>
        <p:spPr>
          <a:xfrm>
            <a:off x="8512200" y="1211400"/>
            <a:ext cx="0" cy="1712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 Request/Response Sequence</a:t>
            </a:r>
            <a:endParaRPr b="0" lang="en-US" sz="3200" spc="-1" strike="noStrike">
              <a:solidFill>
                <a:srgbClr val="000000"/>
              </a:solidFill>
              <a:latin typeface="Times New Roman"/>
            </a:endParaRPr>
          </a:p>
        </p:txBody>
      </p:sp>
      <p:sp>
        <p:nvSpPr>
          <p:cNvPr id="63" name=""/>
          <p:cNvSpPr/>
          <p:nvPr/>
        </p:nvSpPr>
        <p:spPr>
          <a:xfrm>
            <a:off x="660240" y="1530360"/>
            <a:ext cx="8232840" cy="460836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QSTA must respond to a Burst Ack Request frame addressed to itself after SIFS. It can respond either with a BurstAck response frame or with a regular Ack frame. If the QSTA has the capability of responding with a BurstAck frame after SIFS, it is recommended to do so.</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QSTA responds to a BurstAck Request frame with an regular Ack frame, it means the corresponding BurstAck Response frame will be delivered in subsequent available TXOP. The receiver shall set the delivery priority of the pending BurstAck frame to the highest, and put it to the head of the highest delivery priority queue as soon as the BurstAck frame is available.</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QSTA responds with a Burst Ack Response frame and the Wait subfield is 1, the BurstAck bitmap in the BurstAck Response frame is reserved and set to 0, however the Re-ordering buffer size is valid.</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transmitter is to initiate a Burst transmission for a TS, it shall first use Burst Ack Request to get the resource constraint from the recei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nowledgment (BurstAck) Frame (1)</a:t>
            </a:r>
            <a:endParaRPr b="0" lang="en-US" sz="3200" spc="-1" strike="noStrike">
              <a:solidFill>
                <a:srgbClr val="000000"/>
              </a:solidFill>
              <a:latin typeface="Times New Roman"/>
            </a:endParaRPr>
          </a:p>
        </p:txBody>
      </p:sp>
      <p:sp>
        <p:nvSpPr>
          <p:cNvPr id="65" name=""/>
          <p:cNvSpPr/>
          <p:nvPr/>
        </p:nvSpPr>
        <p:spPr>
          <a:xfrm>
            <a:off x="609480" y="3179880"/>
            <a:ext cx="7950240" cy="299700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uration field is set to the value obtained from the duration field of the immediately previous frame, subtracted by a SIFS period and the time required to transmit a BurstAck frame.</a:t>
            </a:r>
            <a:endParaRPr b="0" lang="en-US" sz="20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f the calculated duration includes a fractional microsecond, that value is rounded up to the next higher integer.</a:t>
            </a:r>
            <a:endParaRPr b="0" lang="en-US" sz="18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 field is copied from the TA field of the corresponding previous Burst Ack Request frame:</a:t>
            </a:r>
            <a:endParaRPr b="0" lang="en-US" sz="20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frame acknowledges the frames belonging to the same TID as contained in this frame.</a:t>
            </a:r>
            <a:endParaRPr b="0" lang="en-US" sz="1800" spc="-1" strike="noStrike">
              <a:solidFill>
                <a:srgbClr val="000000"/>
              </a:solidFill>
              <a:latin typeface="Times New Roman"/>
            </a:endParaRPr>
          </a:p>
        </p:txBody>
      </p:sp>
      <p:graphicFrame>
        <p:nvGraphicFramePr>
          <p:cNvPr id="66" name=""/>
          <p:cNvGraphicFramePr/>
          <p:nvPr/>
        </p:nvGraphicFramePr>
        <p:xfrm>
          <a:off x="289080" y="1263600"/>
          <a:ext cx="9036000" cy="2097000"/>
        </p:xfrm>
        <a:graphic>
          <a:graphicData uri="http://schemas.openxmlformats.org/presentationml/2006/ole">
            <p:oleObj progId="Word.Document.12" r:id="rId1" spid="">
              <p:embed/>
              <p:pic>
                <p:nvPicPr>
                  <p:cNvPr id="67" name="" descr=""/>
                  <p:cNvPicPr/>
                  <p:nvPr/>
                </p:nvPicPr>
                <p:blipFill>
                  <a:blip r:embed="rId2"/>
                  <a:stretch/>
                </p:blipFill>
                <p:spPr>
                  <a:xfrm>
                    <a:off x="289080" y="1263600"/>
                    <a:ext cx="9036000" cy="209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31428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nowledgment (BurstAck) Frame (2)</a:t>
            </a:r>
            <a:endParaRPr b="0" lang="en-US" sz="3200" spc="-1" strike="noStrike">
              <a:solidFill>
                <a:srgbClr val="000000"/>
              </a:solidFill>
              <a:latin typeface="Times New Roman"/>
            </a:endParaRPr>
          </a:p>
        </p:txBody>
      </p:sp>
      <p:sp>
        <p:nvSpPr>
          <p:cNvPr id="69" name=""/>
          <p:cNvSpPr/>
          <p:nvPr/>
        </p:nvSpPr>
        <p:spPr>
          <a:xfrm>
            <a:off x="190440" y="2860560"/>
            <a:ext cx="8953560" cy="318780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urst Control field is 2-octet field that contains a Buffer subfield in bits 0-7 , a Wait subfield in bit 8, a Fragmentation subfield in Bit 9, and TID in bit 12-15.</a:t>
            </a:r>
            <a:endParaRPr b="0" lang="en-US" sz="20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uffer indicates the buffer space, in units of MSDUs, that the acknowledging station has, at the time of transmitting this BurstAck frame, for receiving MSDUs belonging to the same TID as contained in this frame.</a:t>
            </a:r>
            <a:endParaRPr b="0" lang="en-US" sz="16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ait subfield, if set to 0, indicates that this frame contains a valid Burst Ack Bitmap, and if set to 1, indicates that a valid Burst Ack Bitmap cannot be sent with this Burst Ack frame.  The value of the Wait subfield does not affect the meaning of the Buffer subfield.</a:t>
            </a:r>
            <a:endParaRPr b="0" lang="en-US" sz="16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Fragmentation bit is 1, each bit in the Burst Ack Bitmap indicates the status for each fragmentation of a MSDU. When Fragmentation bit is 0, each bit of the Burst Ack bitmap indicates the receiving status for a single MSDU. </a:t>
            </a:r>
            <a:endParaRPr b="0" lang="en-US" sz="16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D: TID of the traffic stream for which the burst Ack request is intended.</a:t>
            </a:r>
            <a:endParaRPr b="0" lang="en-US" sz="16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70" name=""/>
          <p:cNvGraphicFramePr/>
          <p:nvPr/>
        </p:nvGraphicFramePr>
        <p:xfrm>
          <a:off x="277920" y="1081080"/>
          <a:ext cx="9036000" cy="2097000"/>
        </p:xfrm>
        <a:graphic>
          <a:graphicData uri="http://schemas.openxmlformats.org/presentationml/2006/ole">
            <p:oleObj progId="Word.Document.12" r:id="rId1" spid="">
              <p:embed/>
              <p:pic>
                <p:nvPicPr>
                  <p:cNvPr id="71" name="" descr=""/>
                  <p:cNvPicPr/>
                  <p:nvPr/>
                </p:nvPicPr>
                <p:blipFill>
                  <a:blip r:embed="rId2"/>
                  <a:stretch/>
                </p:blipFill>
                <p:spPr>
                  <a:xfrm>
                    <a:off x="277920" y="1081080"/>
                    <a:ext cx="9036000" cy="209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nowledgment (BurstAck) Frame (3)</a:t>
            </a:r>
            <a:endParaRPr b="0" lang="en-US" sz="3200" spc="-1" strike="noStrike">
              <a:solidFill>
                <a:srgbClr val="000000"/>
              </a:solidFill>
              <a:latin typeface="Times New Roman"/>
            </a:endParaRPr>
          </a:p>
        </p:txBody>
      </p:sp>
      <p:sp>
        <p:nvSpPr>
          <p:cNvPr id="73" name=""/>
          <p:cNvSpPr/>
          <p:nvPr/>
        </p:nvSpPr>
        <p:spPr>
          <a:xfrm>
            <a:off x="636480" y="2965320"/>
            <a:ext cx="7950240" cy="389268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urst Ack Bitmap is a 16-octet field that indicates sequentially the reception status of MSDUs with consecutive sequence numbers and with the TID as contained in this frame.</a:t>
            </a:r>
            <a:endParaRPr b="0" lang="en-US" sz="20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the Bitmap Fragmentation Indication bit is set to 1, every two octets relate to one MSDU, with the 16 bits corresponding to the 16 fragments of that MSDU in the same sequentially asending order; Otherwise, each bit corresponds to an MSDU.</a:t>
            </a:r>
            <a:endParaRPr b="0" lang="en-US" sz="16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bit in this bitmap is set to 1 if the corresponding fragment or MSDU is received correctly (after FEC decoding if appropriate), or otherwise the bit is set to 0.  Some bits in the bitmap may correspond to fragments that did not exist or have not been transmitted; these bits are set to 0.</a:t>
            </a:r>
            <a:endParaRPr b="0" lang="en-US" sz="16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ing Sequence Control corresponds to the first MPDU/MSDU that is Acked in the Burst Ack Bitmap.</a:t>
            </a:r>
            <a:endParaRPr b="0" lang="en-US" sz="1800" spc="-1" strike="noStrike">
              <a:solidFill>
                <a:srgbClr val="000000"/>
              </a:solidFill>
              <a:latin typeface="Times New Roman"/>
            </a:endParaRPr>
          </a:p>
        </p:txBody>
      </p:sp>
      <p:graphicFrame>
        <p:nvGraphicFramePr>
          <p:cNvPr id="74" name=""/>
          <p:cNvGraphicFramePr/>
          <p:nvPr/>
        </p:nvGraphicFramePr>
        <p:xfrm>
          <a:off x="108000" y="1224000"/>
          <a:ext cx="9036000" cy="2097000"/>
        </p:xfrm>
        <a:graphic>
          <a:graphicData uri="http://schemas.openxmlformats.org/presentationml/2006/ole">
            <p:oleObj progId="Word.Document.12" r:id="rId1" spid="">
              <p:embed/>
              <p:pic>
                <p:nvPicPr>
                  <p:cNvPr id="75" name="" descr=""/>
                  <p:cNvPicPr/>
                  <p:nvPr/>
                </p:nvPicPr>
                <p:blipFill>
                  <a:blip r:embed="rId2"/>
                  <a:stretch/>
                </p:blipFill>
                <p:spPr>
                  <a:xfrm>
                    <a:off x="108000" y="1224000"/>
                    <a:ext cx="9036000" cy="209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Normative Text</a:t>
            </a:r>
            <a:endParaRPr b="0" lang="en-US" sz="3200" spc="-1" strike="noStrike">
              <a:solidFill>
                <a:srgbClr val="000000"/>
              </a:solidFill>
              <a:latin typeface="Times New Roman"/>
            </a:endParaRPr>
          </a:p>
        </p:txBody>
      </p:sp>
      <p:sp>
        <p:nvSpPr>
          <p:cNvPr id="77" name=""/>
          <p:cNvSpPr/>
          <p:nvPr/>
        </p:nvSpPr>
        <p:spPr>
          <a:xfrm>
            <a:off x="700200" y="1941480"/>
            <a:ext cx="7950240" cy="389268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ed in 02/004r3a.do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7T23:52:08Z</dcterms:created>
  <dc:creator>Jin-Meng Ho</dc:creator>
  <dc:description/>
  <dc:language>en-US</dc:language>
  <cp:lastModifiedBy>Srinivas Kandala</cp:lastModifiedBy>
  <cp:lastPrinted>2002-01-15T00:38:54Z</cp:lastPrinted>
  <dcterms:modified xsi:type="dcterms:W3CDTF">2002-01-24T07:36:19Z</dcterms:modified>
  <cp:revision>717</cp:revision>
  <dc:subject/>
  <dc:title>No Slide Title</dc:title>
</cp:coreProperties>
</file>