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C0E-EC06-4B6C-9E6C-9575541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C6-6E52-4814-8B97-84008A6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143-699A-4AFC-AF72-E8AB4054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91D-F99C-42CD-9BAB-EFDE1AD4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D91-9A32-4E30-978B-6CBE886D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587-821D-4D36-9A4D-806989BF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817-B6E3-4582-BE9A-2E7DA77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6AF-3690-4C57-902C-428325AB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C2C-A84C-4B57-B940-B923DF1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DE0-EF87-4179-ADF9-FA741E7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F38-4D52-4810-A622-67DD1B6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067-D871-4BB9-9309-061A6CA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84880" y="6474960"/>
            <a:ext cx="1425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u Ueda et al, Shar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EE130E-36A3-4071-AA8F-F37F6601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1/475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Synchronization Function f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ow Jitte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ru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oshihiro Oh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royuki Naka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arp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ara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-Mail: ueda@slab.tnr.sharp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3600" y="335268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sue for very short jitter applications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276720"/>
            <a:ext cx="10666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19720" y="2819520"/>
            <a:ext cx="8668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32767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3352680"/>
            <a:ext cx="30492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35268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82840" y="3421440"/>
            <a:ext cx="214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ynchron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3048120"/>
            <a:ext cx="1981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135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90920"/>
            <a:ext cx="9144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080" y="181188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DVD player with fil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4320" y="13705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mportant AV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52960" y="4113360"/>
            <a:ext cx="64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he receiver will request data whenever it w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60880"/>
            <a:ext cx="38088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6920" y="5261040"/>
            <a:ext cx="546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no jitte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ecause the receiver controls the data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77120" y="3657600"/>
            <a:ext cx="533160" cy="533160"/>
            <a:chOff x="6477120" y="3657600"/>
            <a:chExt cx="533160" cy="533160"/>
          </a:xfrm>
        </p:grpSpPr>
        <p:sp>
          <p:nvSpPr>
            <p:cNvPr id="64" name=""/>
            <p:cNvSpPr/>
            <p:nvPr/>
          </p:nvSpPr>
          <p:spPr>
            <a:xfrm>
              <a:off x="6711480" y="3690720"/>
              <a:ext cx="73440" cy="33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54600" y="3657600"/>
              <a:ext cx="187560" cy="33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120" y="3716640"/>
              <a:ext cx="533160" cy="474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3720" y="3776040"/>
              <a:ext cx="3999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6600240" y="3789720"/>
              <a:ext cx="297720" cy="335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79720" y="3957840"/>
              <a:ext cx="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8160" y="3957840"/>
              <a:ext cx="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747840" y="4072680"/>
              <a:ext cx="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747840" y="3808080"/>
              <a:ext cx="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608520" y="3825360"/>
              <a:ext cx="81000" cy="262800"/>
              <a:chOff x="6608520" y="3825360"/>
              <a:chExt cx="81000" cy="26280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6609600" y="3825360"/>
                <a:ext cx="79920" cy="71640"/>
                <a:chOff x="6609600" y="3825360"/>
                <a:chExt cx="79920" cy="71640"/>
              </a:xfrm>
            </p:grpSpPr>
            <p:sp>
              <p:nvSpPr>
                <p:cNvPr id="75" name=""/>
                <p:cNvSpPr/>
                <p:nvPr/>
              </p:nvSpPr>
              <p:spPr>
                <a:xfrm flipH="1" flipV="1">
                  <a:off x="6609600" y="3875040"/>
                  <a:ext cx="3024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71520" y="382536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608520" y="4016520"/>
                <a:ext cx="79920" cy="71640"/>
                <a:chOff x="6608520" y="4016520"/>
                <a:chExt cx="79920" cy="7164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6608520" y="4016520"/>
                  <a:ext cx="3024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6670440" y="406008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6807240" y="3825360"/>
              <a:ext cx="79920" cy="263520"/>
              <a:chOff x="6807240" y="3825360"/>
              <a:chExt cx="79920" cy="2635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6807240" y="3825360"/>
                <a:ext cx="78840" cy="71280"/>
                <a:chOff x="6807240" y="3825360"/>
                <a:chExt cx="78840" cy="71280"/>
              </a:xfrm>
            </p:grpSpPr>
            <p:sp>
              <p:nvSpPr>
                <p:cNvPr id="82" name=""/>
                <p:cNvSpPr/>
                <p:nvPr/>
              </p:nvSpPr>
              <p:spPr>
                <a:xfrm flipV="1">
                  <a:off x="6856200" y="3875400"/>
                  <a:ext cx="2988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6807240" y="382536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808320" y="4017600"/>
                <a:ext cx="78840" cy="71280"/>
                <a:chOff x="6808320" y="4017600"/>
                <a:chExt cx="78840" cy="71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857280" y="4017600"/>
                  <a:ext cx="2988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flipV="1">
                  <a:off x="6808320" y="406080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 rot="4326600">
              <a:off x="6811560" y="3841560"/>
              <a:ext cx="31680" cy="16776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9400">
              <a:off x="6682680" y="3937320"/>
              <a:ext cx="37440" cy="133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42080" y="3823200"/>
              <a:ext cx="1548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69920" y="3733920"/>
            <a:ext cx="468360" cy="533160"/>
            <a:chOff x="1969920" y="3733920"/>
            <a:chExt cx="468360" cy="533160"/>
          </a:xfrm>
        </p:grpSpPr>
        <p:sp>
          <p:nvSpPr>
            <p:cNvPr id="91" name=""/>
            <p:cNvSpPr/>
            <p:nvPr/>
          </p:nvSpPr>
          <p:spPr>
            <a:xfrm>
              <a:off x="2162160" y="37767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9920" y="37972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2760" y="38401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317000">
              <a:off x="2220840" y="38466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372200">
              <a:off x="2234880" y="40143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37339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055240" y="39682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5000" y="38401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1814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2760" y="40323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52600" y="40323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35440" y="3872880"/>
              <a:ext cx="337320" cy="93960"/>
              <a:chOff x="2035440" y="3872880"/>
              <a:chExt cx="337320" cy="939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282400" y="3873960"/>
                <a:ext cx="90360" cy="92880"/>
                <a:chOff x="2282400" y="3873960"/>
                <a:chExt cx="90360" cy="9288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2282400" y="38739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337120" y="3944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035440" y="3872880"/>
                <a:ext cx="90360" cy="92880"/>
                <a:chOff x="2035440" y="3872880"/>
                <a:chExt cx="90360" cy="92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 flipV="1">
                  <a:off x="2100600" y="38728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35440" y="39430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2035440" y="4099320"/>
              <a:ext cx="338400" cy="92880"/>
              <a:chOff x="2035440" y="4099320"/>
              <a:chExt cx="338400" cy="928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284200" y="4099320"/>
                <a:ext cx="89640" cy="91800"/>
                <a:chOff x="2284200" y="4099320"/>
                <a:chExt cx="89640" cy="91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84200" y="41569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2338200" y="40993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035440" y="4100400"/>
                <a:ext cx="89640" cy="91800"/>
                <a:chOff x="2035440" y="4100400"/>
                <a:chExt cx="89640" cy="918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2100600" y="41580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2035440" y="4100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95440" y="2438280"/>
            <a:ext cx="354240" cy="561960"/>
          </a:xfrm>
          <a:custGeom>
            <a:avLst/>
            <a:gdLst/>
            <a:ahLst/>
            <a:rect l="l" t="t" r="r" b="b"/>
            <a:pathLst>
              <a:path w="431" h="354">
                <a:moveTo>
                  <a:pt x="2" y="0"/>
                </a:moveTo>
                <a:cubicBezTo>
                  <a:pt x="5" y="21"/>
                  <a:pt x="0" y="45"/>
                  <a:pt x="11" y="63"/>
                </a:cubicBezTo>
                <a:cubicBezTo>
                  <a:pt x="18" y="74"/>
                  <a:pt x="35" y="72"/>
                  <a:pt x="48" y="73"/>
                </a:cubicBezTo>
                <a:cubicBezTo>
                  <a:pt x="151" y="79"/>
                  <a:pt x="254" y="79"/>
                  <a:pt x="357" y="82"/>
                </a:cubicBezTo>
                <a:cubicBezTo>
                  <a:pt x="393" y="94"/>
                  <a:pt x="408" y="105"/>
                  <a:pt x="429" y="136"/>
                </a:cubicBezTo>
                <a:cubicBezTo>
                  <a:pt x="426" y="191"/>
                  <a:pt x="431" y="246"/>
                  <a:pt x="420" y="300"/>
                </a:cubicBezTo>
                <a:cubicBezTo>
                  <a:pt x="417" y="316"/>
                  <a:pt x="375" y="315"/>
                  <a:pt x="375" y="35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sue for very short jitter applications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14440" y="2895480"/>
            <a:ext cx="10670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971800"/>
            <a:ext cx="30492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0960" y="297180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90600" y="266688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0240" y="3047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ochron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2896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2362320"/>
            <a:ext cx="990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124080"/>
            <a:ext cx="68580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76920" y="2514600"/>
            <a:ext cx="304560" cy="228600"/>
            <a:chOff x="4876920" y="2514600"/>
            <a:chExt cx="304560" cy="228600"/>
          </a:xfrm>
        </p:grpSpPr>
        <p:sp>
          <p:nvSpPr>
            <p:cNvPr id="129" name=""/>
            <p:cNvSpPr/>
            <p:nvPr/>
          </p:nvSpPr>
          <p:spPr>
            <a:xfrm>
              <a:off x="4876920" y="2514600"/>
              <a:ext cx="30456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2514600"/>
              <a:ext cx="30456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523880" y="1828800"/>
            <a:ext cx="4572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828800" y="160020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9800" y="1814400"/>
            <a:ext cx="361800" cy="19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23840" y="1828800"/>
            <a:ext cx="361800" cy="185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560" y="2056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480" y="2589120"/>
            <a:ext cx="1851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/BS tu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V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-V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080" y="114192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Tuner type applications(MPEG2TS/D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38280" y="3962520"/>
            <a:ext cx="468360" cy="533160"/>
            <a:chOff x="2438280" y="3962520"/>
            <a:chExt cx="468360" cy="533160"/>
          </a:xfrm>
        </p:grpSpPr>
        <p:sp>
          <p:nvSpPr>
            <p:cNvPr id="139" name=""/>
            <p:cNvSpPr/>
            <p:nvPr/>
          </p:nvSpPr>
          <p:spPr>
            <a:xfrm>
              <a:off x="2630520" y="40053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40258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1120" y="40687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17000">
              <a:off x="2689200" y="40752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372200">
              <a:off x="2703240" y="42429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5360" y="39625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2523600" y="41968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73360" y="4068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3360" y="44100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096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503800" y="4101480"/>
              <a:ext cx="337320" cy="93960"/>
              <a:chOff x="2503800" y="4101480"/>
              <a:chExt cx="337320" cy="939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750760" y="4102560"/>
                <a:ext cx="90360" cy="92880"/>
                <a:chOff x="2750760" y="4102560"/>
                <a:chExt cx="90360" cy="9288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2750760" y="41025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2805480" y="4172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503800" y="4101480"/>
                <a:ext cx="90360" cy="92880"/>
                <a:chOff x="2503800" y="4101480"/>
                <a:chExt cx="90360" cy="92880"/>
              </a:xfrm>
            </p:grpSpPr>
            <p:sp>
              <p:nvSpPr>
                <p:cNvPr id="155" name=""/>
                <p:cNvSpPr/>
                <p:nvPr/>
              </p:nvSpPr>
              <p:spPr>
                <a:xfrm flipH="1" flipV="1">
                  <a:off x="2568960" y="41014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03800" y="41716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2503800" y="4327920"/>
              <a:ext cx="338400" cy="92880"/>
              <a:chOff x="2503800" y="4327920"/>
              <a:chExt cx="338400" cy="928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752560" y="4327920"/>
                <a:ext cx="89640" cy="91800"/>
                <a:chOff x="2752560" y="4327920"/>
                <a:chExt cx="89640" cy="918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752560" y="43855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2806560" y="43279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03800" y="4329000"/>
                <a:ext cx="89640" cy="91800"/>
                <a:chOff x="2503800" y="4329000"/>
                <a:chExt cx="89640" cy="9180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2568960" y="43866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2503800" y="4329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858000" y="3962520"/>
            <a:ext cx="468360" cy="533160"/>
            <a:chOff x="6858000" y="3962520"/>
            <a:chExt cx="468360" cy="533160"/>
          </a:xfrm>
        </p:grpSpPr>
        <p:sp>
          <p:nvSpPr>
            <p:cNvPr id="165" name=""/>
            <p:cNvSpPr/>
            <p:nvPr/>
          </p:nvSpPr>
          <p:spPr>
            <a:xfrm>
              <a:off x="7050240" y="40053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0" y="40258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00840" y="40687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317000">
              <a:off x="7108920" y="40752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372200">
              <a:off x="7122960" y="42429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5080" y="39625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943320" y="41968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3080" y="4068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93080" y="44100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084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4068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923520" y="4101480"/>
              <a:ext cx="337320" cy="93960"/>
              <a:chOff x="6923520" y="4101480"/>
              <a:chExt cx="337320" cy="939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170480" y="4102560"/>
                <a:ext cx="90360" cy="92880"/>
                <a:chOff x="7170480" y="4102560"/>
                <a:chExt cx="90360" cy="9288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7170480" y="41025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7225200" y="4172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923520" y="4101480"/>
                <a:ext cx="90360" cy="92880"/>
                <a:chOff x="6923520" y="4101480"/>
                <a:chExt cx="90360" cy="92880"/>
              </a:xfrm>
            </p:grpSpPr>
            <p:sp>
              <p:nvSpPr>
                <p:cNvPr id="181" name=""/>
                <p:cNvSpPr/>
                <p:nvPr/>
              </p:nvSpPr>
              <p:spPr>
                <a:xfrm flipH="1" flipV="1">
                  <a:off x="6988680" y="41014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23520" y="41716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6923520" y="4327920"/>
              <a:ext cx="338400" cy="92880"/>
              <a:chOff x="6923520" y="4327920"/>
              <a:chExt cx="338400" cy="928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7172280" y="4327920"/>
                <a:ext cx="89640" cy="91800"/>
                <a:chOff x="7172280" y="4327920"/>
                <a:chExt cx="89640" cy="91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172280" y="43855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7226280" y="43279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923520" y="4329000"/>
                <a:ext cx="89640" cy="91800"/>
                <a:chOff x="6923520" y="4329000"/>
                <a:chExt cx="89640" cy="91800"/>
              </a:xfrm>
            </p:grpSpPr>
            <p:sp>
              <p:nvSpPr>
                <p:cNvPr id="188" name=""/>
                <p:cNvSpPr/>
                <p:nvPr/>
              </p:nvSpPr>
              <p:spPr>
                <a:xfrm flipH="1">
                  <a:off x="6988680" y="43866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923520" y="4329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" name=""/>
          <p:cNvSpPr/>
          <p:nvPr/>
        </p:nvSpPr>
        <p:spPr>
          <a:xfrm>
            <a:off x="1214640" y="4621320"/>
            <a:ext cx="7116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The source and destination time should be synchron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for isochronous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426708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91200" y="5637600"/>
            <a:ext cx="61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’s jitter requirements should be k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890600">
            <a:off x="1981080" y="2209320"/>
            <a:ext cx="6098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9545600">
            <a:off x="2147400" y="2118960"/>
            <a:ext cx="763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transmitting MPEG2-TS over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88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0200" y="2133720"/>
            <a:ext cx="3048120" cy="761760"/>
            <a:chOff x="1600200" y="2133720"/>
            <a:chExt cx="3048120" cy="761760"/>
          </a:xfrm>
        </p:grpSpPr>
        <p:sp>
          <p:nvSpPr>
            <p:cNvPr id="207" name=""/>
            <p:cNvSpPr/>
            <p:nvPr/>
          </p:nvSpPr>
          <p:spPr>
            <a:xfrm>
              <a:off x="160020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688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83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514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2096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-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96" idx="0"/>
            <a:endCxn id="197" idx="1"/>
          </p:cNvCxnSpPr>
          <p:nvPr/>
        </p:nvCxnSpPr>
        <p:spPr>
          <a:xfrm flipH="1" flipV="1" rot="5400000">
            <a:off x="1752120" y="1904400"/>
            <a:ext cx="3052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26708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4648320"/>
            <a:ext cx="30456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257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267080" y="4572000"/>
            <a:ext cx="3048120" cy="762120"/>
            <a:chOff x="4267080" y="4572000"/>
            <a:chExt cx="3048120" cy="762120"/>
          </a:xfrm>
        </p:grpSpPr>
        <p:sp>
          <p:nvSpPr>
            <p:cNvPr id="228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376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952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648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-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51055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350532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 Transmission via 802.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486400"/>
            <a:ext cx="457200" cy="38088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1295280"/>
            <a:ext cx="19814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752480"/>
            <a:ext cx="457200" cy="38124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3048120"/>
            <a:ext cx="457200" cy="38088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038480"/>
            <a:ext cx="457200" cy="38124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267080"/>
            <a:ext cx="243864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CR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+/- 500ns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 = 1us 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f clock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( ISO/IEC 13818-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6019920"/>
            <a:ext cx="19814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PEG2-TS packet incl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CR ( Program Clock Referenc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0"/>
          </p:cNvCxnSpPr>
          <p:nvPr/>
        </p:nvCxnSpPr>
        <p:spPr>
          <a:xfrm flipH="1" flipV="1" rot="5400000">
            <a:off x="4838400" y="1866600"/>
            <a:ext cx="305280" cy="381600"/>
          </a:xfrm>
          <a:prstGeom prst="curvedConnector2">
            <a:avLst/>
          </a:prstGeom>
          <a:ln w="9360">
            <a:solidFill>
              <a:srgbClr val="ff33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for transmitting MPEG2-TS over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1360" y="327672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9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4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2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67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84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612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375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13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898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661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42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184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4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70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470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33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59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756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2286000"/>
            <a:ext cx="759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2960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592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4382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1" idx="3"/>
            <a:endCxn id="347" idx="1"/>
          </p:cNvCxnSpPr>
          <p:nvPr/>
        </p:nvCxnSpPr>
        <p:spPr>
          <a:xfrm>
            <a:off x="2209320" y="2438280"/>
            <a:ext cx="381960" cy="191520"/>
          </a:xfrm>
          <a:prstGeom prst="curvedConnector5">
            <a:avLst>
              <a:gd name="adj1" fmla="val 50000"/>
              <a:gd name="adj2" fmla="val 49905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09480" y="35053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+/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P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0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, Max.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us jitter (&gt;&gt; 1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is jitter value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IEEE802.11 is much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 acceptable to MPEG2 System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22096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38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0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48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81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34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214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77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500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263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86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49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3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96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01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77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153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29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05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58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4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86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182880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81480" y="18288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13372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1814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2296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14479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9810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44720" y="2895480"/>
            <a:ext cx="468000" cy="533520"/>
            <a:chOff x="1044720" y="2895480"/>
            <a:chExt cx="468000" cy="533520"/>
          </a:xfrm>
        </p:grpSpPr>
        <p:sp>
          <p:nvSpPr>
            <p:cNvPr id="451" name=""/>
            <p:cNvSpPr/>
            <p:nvPr/>
          </p:nvSpPr>
          <p:spPr>
            <a:xfrm>
              <a:off x="1236600" y="293832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44720" y="295884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7560" y="300168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17000">
              <a:off x="1295280" y="300816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9372200">
              <a:off x="1309320" y="317628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71440" y="289548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1130400" y="313056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79440" y="300168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79440" y="33433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87560" y="31939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27040" y="31939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110240" y="3034440"/>
              <a:ext cx="336960" cy="93960"/>
              <a:chOff x="1110240" y="3034440"/>
              <a:chExt cx="336960" cy="939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357200" y="3035520"/>
                <a:ext cx="90000" cy="92880"/>
                <a:chOff x="1357200" y="3035520"/>
                <a:chExt cx="90000" cy="9288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1357200" y="30355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1411560" y="31057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110240" y="3034440"/>
                <a:ext cx="90000" cy="92880"/>
                <a:chOff x="1110240" y="3034440"/>
                <a:chExt cx="90000" cy="92880"/>
              </a:xfrm>
            </p:grpSpPr>
            <p:sp>
              <p:nvSpPr>
                <p:cNvPr id="467" name=""/>
                <p:cNvSpPr/>
                <p:nvPr/>
              </p:nvSpPr>
              <p:spPr>
                <a:xfrm flipH="1" flipV="1">
                  <a:off x="1175400" y="30344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110240" y="3104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1110240" y="3260880"/>
              <a:ext cx="338400" cy="92880"/>
              <a:chOff x="1110240" y="3260880"/>
              <a:chExt cx="338400" cy="9288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359000" y="3260880"/>
                <a:ext cx="89640" cy="91800"/>
                <a:chOff x="1359000" y="3260880"/>
                <a:chExt cx="89640" cy="91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359000" y="33184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flipV="1">
                  <a:off x="1413000" y="32608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110240" y="3261960"/>
                <a:ext cx="89640" cy="91800"/>
                <a:chOff x="1110240" y="3261960"/>
                <a:chExt cx="89640" cy="9180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1175400" y="33195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1110240" y="3261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6" name=""/>
          <p:cNvGrpSpPr/>
          <p:nvPr/>
        </p:nvGrpSpPr>
        <p:grpSpPr>
          <a:xfrm>
            <a:off x="1055520" y="1828800"/>
            <a:ext cx="468000" cy="533520"/>
            <a:chOff x="1055520" y="1828800"/>
            <a:chExt cx="468000" cy="533520"/>
          </a:xfrm>
        </p:grpSpPr>
        <p:sp>
          <p:nvSpPr>
            <p:cNvPr id="477" name=""/>
            <p:cNvSpPr/>
            <p:nvPr/>
          </p:nvSpPr>
          <p:spPr>
            <a:xfrm>
              <a:off x="1247400" y="18716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55520" y="18921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98360" y="19350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317000">
              <a:off x="1306080" y="19414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9372200">
              <a:off x="1320120" y="21096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2240" y="18288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1141200" y="20638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90240" y="19350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240" y="22766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9836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3784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1121040" y="1967760"/>
              <a:ext cx="336960" cy="93960"/>
              <a:chOff x="1121040" y="1967760"/>
              <a:chExt cx="336960" cy="9396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1368000" y="1968840"/>
                <a:ext cx="90000" cy="92880"/>
                <a:chOff x="1368000" y="1968840"/>
                <a:chExt cx="90000" cy="92880"/>
              </a:xfrm>
            </p:grpSpPr>
            <p:sp>
              <p:nvSpPr>
                <p:cNvPr id="490" name=""/>
                <p:cNvSpPr/>
                <p:nvPr/>
              </p:nvSpPr>
              <p:spPr>
                <a:xfrm flipV="1">
                  <a:off x="1368000" y="1968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1422360" y="2039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121040" y="1967760"/>
                <a:ext cx="90000" cy="92880"/>
                <a:chOff x="1121040" y="1967760"/>
                <a:chExt cx="90000" cy="92880"/>
              </a:xfrm>
            </p:grpSpPr>
            <p:sp>
              <p:nvSpPr>
                <p:cNvPr id="493" name=""/>
                <p:cNvSpPr/>
                <p:nvPr/>
              </p:nvSpPr>
              <p:spPr>
                <a:xfrm flipH="1" flipV="1">
                  <a:off x="1186200" y="19677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121040" y="2037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1121040" y="2194200"/>
              <a:ext cx="338400" cy="92880"/>
              <a:chOff x="1121040" y="2194200"/>
              <a:chExt cx="338400" cy="9288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369800" y="2194200"/>
                <a:ext cx="89640" cy="91800"/>
                <a:chOff x="1369800" y="2194200"/>
                <a:chExt cx="89640" cy="918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369800" y="22518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1423800" y="21942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121040" y="2195280"/>
                <a:ext cx="89640" cy="91800"/>
                <a:chOff x="1121040" y="2195280"/>
                <a:chExt cx="89640" cy="91800"/>
              </a:xfrm>
            </p:grpSpPr>
            <p:sp>
              <p:nvSpPr>
                <p:cNvPr id="500" name=""/>
                <p:cNvSpPr/>
                <p:nvPr/>
              </p:nvSpPr>
              <p:spPr>
                <a:xfrm flipH="1">
                  <a:off x="1186200" y="2252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1121040" y="2195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Solutions (1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the clock accuracy of each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11360" y="38098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2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19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29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19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95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29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1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38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2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81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62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91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20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84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612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8375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13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898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661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142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184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2947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70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470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233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599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6756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8195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28195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29600" y="28195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5780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0592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971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5" idx="3"/>
            <a:endCxn id="601" idx="1"/>
          </p:cNvCxnSpPr>
          <p:nvPr/>
        </p:nvCxnSpPr>
        <p:spPr>
          <a:xfrm>
            <a:off x="2209320" y="2971440"/>
            <a:ext cx="381960" cy="191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685800" y="3505320"/>
            <a:ext cx="7620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/-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P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0ms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, Max. jitter become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ever, getting the +/-5PPM is ver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clock accuracy of AP station cannot be impr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25146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5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35053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5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00200" y="27432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2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43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8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62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9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81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4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6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91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43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72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24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00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3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05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81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214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977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7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500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263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402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786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549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631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96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72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48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24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77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153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05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534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610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686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23623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81480" y="236232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33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81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229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38280" y="19810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044720" y="3429000"/>
            <a:ext cx="468000" cy="533520"/>
            <a:chOff x="1044720" y="3429000"/>
            <a:chExt cx="468000" cy="533520"/>
          </a:xfrm>
        </p:grpSpPr>
        <p:sp>
          <p:nvSpPr>
            <p:cNvPr id="705" name=""/>
            <p:cNvSpPr/>
            <p:nvPr/>
          </p:nvSpPr>
          <p:spPr>
            <a:xfrm>
              <a:off x="1236600" y="34718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44720" y="34923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87560" y="35352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17000">
              <a:off x="1295280" y="35416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9372200">
              <a:off x="1309320" y="37098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71440" y="34290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130400" y="36640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79440" y="35352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79440" y="38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87560" y="37274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27040" y="37274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110240" y="3567960"/>
              <a:ext cx="336960" cy="93960"/>
              <a:chOff x="1110240" y="3567960"/>
              <a:chExt cx="336960" cy="939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1357200" y="3569040"/>
                <a:ext cx="90000" cy="92880"/>
                <a:chOff x="1357200" y="3569040"/>
                <a:chExt cx="90000" cy="92880"/>
              </a:xfrm>
            </p:grpSpPr>
            <p:sp>
              <p:nvSpPr>
                <p:cNvPr id="718" name=""/>
                <p:cNvSpPr/>
                <p:nvPr/>
              </p:nvSpPr>
              <p:spPr>
                <a:xfrm flipV="1">
                  <a:off x="1357200" y="35690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1411560" y="36392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1110240" y="3567960"/>
                <a:ext cx="90000" cy="92880"/>
                <a:chOff x="1110240" y="3567960"/>
                <a:chExt cx="90000" cy="92880"/>
              </a:xfrm>
            </p:grpSpPr>
            <p:sp>
              <p:nvSpPr>
                <p:cNvPr id="721" name=""/>
                <p:cNvSpPr/>
                <p:nvPr/>
              </p:nvSpPr>
              <p:spPr>
                <a:xfrm flipH="1" flipV="1">
                  <a:off x="1175400" y="35679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110240" y="3638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1110240" y="3794400"/>
              <a:ext cx="338400" cy="92880"/>
              <a:chOff x="1110240" y="3794400"/>
              <a:chExt cx="338400" cy="9288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1359000" y="3794400"/>
                <a:ext cx="89640" cy="91800"/>
                <a:chOff x="1359000" y="3794400"/>
                <a:chExt cx="89640" cy="91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59000" y="38520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1413000" y="3794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0240" y="3795480"/>
                <a:ext cx="89640" cy="91800"/>
                <a:chOff x="1110240" y="3795480"/>
                <a:chExt cx="89640" cy="91800"/>
              </a:xfrm>
            </p:grpSpPr>
            <p:sp>
              <p:nvSpPr>
                <p:cNvPr id="728" name=""/>
                <p:cNvSpPr/>
                <p:nvPr/>
              </p:nvSpPr>
              <p:spPr>
                <a:xfrm flipH="1">
                  <a:off x="1175400" y="38530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1110240" y="37954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0" name=""/>
          <p:cNvGrpSpPr/>
          <p:nvPr/>
        </p:nvGrpSpPr>
        <p:grpSpPr>
          <a:xfrm>
            <a:off x="1055520" y="2362320"/>
            <a:ext cx="468000" cy="532800"/>
            <a:chOff x="1055520" y="2362320"/>
            <a:chExt cx="468000" cy="532800"/>
          </a:xfrm>
        </p:grpSpPr>
        <p:sp>
          <p:nvSpPr>
            <p:cNvPr id="731" name=""/>
            <p:cNvSpPr/>
            <p:nvPr/>
          </p:nvSpPr>
          <p:spPr>
            <a:xfrm>
              <a:off x="1247400" y="2404800"/>
              <a:ext cx="8424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55520" y="2425320"/>
              <a:ext cx="468000" cy="469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8360" y="2468160"/>
              <a:ext cx="38232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17000">
              <a:off x="1306080" y="2474640"/>
              <a:ext cx="41400" cy="19188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9372200">
              <a:off x="1320480" y="2642760"/>
              <a:ext cx="42840" cy="17100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82240" y="2362320"/>
              <a:ext cx="21456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1141200" y="2596680"/>
              <a:ext cx="14904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90240" y="246816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90240" y="28098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8360" y="26604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37840" y="26604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121040" y="2500920"/>
              <a:ext cx="336960" cy="93600"/>
              <a:chOff x="1121040" y="2500920"/>
              <a:chExt cx="336960" cy="9360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1368000" y="2502000"/>
                <a:ext cx="90000" cy="92520"/>
                <a:chOff x="1368000" y="2502000"/>
                <a:chExt cx="90000" cy="9252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1368000" y="25020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1422360" y="25718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1121040" y="2500920"/>
                <a:ext cx="90000" cy="92520"/>
                <a:chOff x="1121040" y="2500920"/>
                <a:chExt cx="90000" cy="9252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1186200" y="25009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121040" y="2570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1121040" y="2727000"/>
              <a:ext cx="338400" cy="92520"/>
              <a:chOff x="1121040" y="2727000"/>
              <a:chExt cx="338400" cy="925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369800" y="2727000"/>
                <a:ext cx="89640" cy="91440"/>
                <a:chOff x="1369800" y="2727000"/>
                <a:chExt cx="89640" cy="91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369800" y="27842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>
                  <a:off x="1423800" y="2727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1121040" y="2728080"/>
                <a:ext cx="89640" cy="91440"/>
                <a:chOff x="1121040" y="2728080"/>
                <a:chExt cx="89640" cy="91440"/>
              </a:xfrm>
            </p:grpSpPr>
            <p:sp>
              <p:nvSpPr>
                <p:cNvPr id="754" name=""/>
                <p:cNvSpPr/>
                <p:nvPr/>
              </p:nvSpPr>
              <p:spPr>
                <a:xfrm flipH="1">
                  <a:off x="1186200" y="27853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121040" y="27280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00200" y="25146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28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81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57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09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14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90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66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48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05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8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91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43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19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95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24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52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5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1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57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10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86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38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91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67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43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5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72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00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77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53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81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934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214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977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174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500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263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402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4786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549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3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96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72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48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924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001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077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53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229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05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1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58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34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610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86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611360" y="35812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28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05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33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09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62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38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14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666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19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71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76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429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05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581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09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6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038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67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43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8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24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52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05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4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10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86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1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867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43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95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172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48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24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77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5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81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34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086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2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91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67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43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84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612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375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913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9898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661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142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2184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2947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370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4470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5233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599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6756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33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81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209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24080" y="2133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80988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14600" y="16765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5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37339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+/-100 PPM and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, then, Max. jitter beco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5ms beacon interval leads to inefficient media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beacon interval of AP station cannot be short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62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38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90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9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95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71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8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24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05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81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57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33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862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625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384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670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24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0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76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4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86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2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38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1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67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943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58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485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244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08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771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530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81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34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10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86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238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15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67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0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96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772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924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01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77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153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29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05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65760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9880" y="2133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2860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2767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Solutions (2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en the beaco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044720" y="3200400"/>
            <a:ext cx="468000" cy="533520"/>
            <a:chOff x="1044720" y="3200400"/>
            <a:chExt cx="468000" cy="533520"/>
          </a:xfrm>
        </p:grpSpPr>
        <p:sp>
          <p:nvSpPr>
            <p:cNvPr id="1032" name=""/>
            <p:cNvSpPr/>
            <p:nvPr/>
          </p:nvSpPr>
          <p:spPr>
            <a:xfrm>
              <a:off x="1236600" y="32432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44720" y="32637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87560" y="33066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317000">
              <a:off x="1295280" y="33130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9372200">
              <a:off x="1309320" y="34812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71440" y="32004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1130400" y="34354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79440" y="33066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79440" y="36482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87560" y="34988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27040" y="34988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10240" y="3339360"/>
              <a:ext cx="336960" cy="93960"/>
              <a:chOff x="1110240" y="3339360"/>
              <a:chExt cx="336960" cy="9396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1357200" y="3340440"/>
                <a:ext cx="90000" cy="92880"/>
                <a:chOff x="1357200" y="3340440"/>
                <a:chExt cx="90000" cy="92880"/>
              </a:xfrm>
            </p:grpSpPr>
            <p:sp>
              <p:nvSpPr>
                <p:cNvPr id="1045" name=""/>
                <p:cNvSpPr/>
                <p:nvPr/>
              </p:nvSpPr>
              <p:spPr>
                <a:xfrm flipV="1">
                  <a:off x="1357200" y="33404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>
                  <a:off x="1411560" y="3410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1110240" y="3339360"/>
                <a:ext cx="90000" cy="92880"/>
                <a:chOff x="1110240" y="3339360"/>
                <a:chExt cx="90000" cy="92880"/>
              </a:xfrm>
            </p:grpSpPr>
            <p:sp>
              <p:nvSpPr>
                <p:cNvPr id="1048" name=""/>
                <p:cNvSpPr/>
                <p:nvPr/>
              </p:nvSpPr>
              <p:spPr>
                <a:xfrm flipH="1" flipV="1">
                  <a:off x="1175400" y="33393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110240" y="34095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"/>
            <p:cNvGrpSpPr/>
            <p:nvPr/>
          </p:nvGrpSpPr>
          <p:grpSpPr>
            <a:xfrm>
              <a:off x="1110240" y="3565800"/>
              <a:ext cx="338400" cy="92880"/>
              <a:chOff x="1110240" y="3565800"/>
              <a:chExt cx="338400" cy="9288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359000" y="3565800"/>
                <a:ext cx="89640" cy="91800"/>
                <a:chOff x="1359000" y="3565800"/>
                <a:chExt cx="89640" cy="918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359000" y="36234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 flipV="1">
                  <a:off x="1413000" y="35658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110240" y="3566880"/>
                <a:ext cx="89640" cy="91800"/>
                <a:chOff x="1110240" y="3566880"/>
                <a:chExt cx="89640" cy="91800"/>
              </a:xfrm>
            </p:grpSpPr>
            <p:sp>
              <p:nvSpPr>
                <p:cNvPr id="1055" name=""/>
                <p:cNvSpPr/>
                <p:nvPr/>
              </p:nvSpPr>
              <p:spPr>
                <a:xfrm flipH="1">
                  <a:off x="1175400" y="36244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1110240" y="35668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7" name=""/>
          <p:cNvGrpSpPr/>
          <p:nvPr/>
        </p:nvGrpSpPr>
        <p:grpSpPr>
          <a:xfrm>
            <a:off x="1055520" y="2133720"/>
            <a:ext cx="468000" cy="532800"/>
            <a:chOff x="1055520" y="2133720"/>
            <a:chExt cx="468000" cy="532800"/>
          </a:xfrm>
        </p:grpSpPr>
        <p:sp>
          <p:nvSpPr>
            <p:cNvPr id="1058" name=""/>
            <p:cNvSpPr/>
            <p:nvPr/>
          </p:nvSpPr>
          <p:spPr>
            <a:xfrm>
              <a:off x="1247400" y="2176200"/>
              <a:ext cx="8424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55520" y="2196720"/>
              <a:ext cx="468000" cy="469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98360" y="2239560"/>
              <a:ext cx="38232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317000">
              <a:off x="1306080" y="2246040"/>
              <a:ext cx="41400" cy="19188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9372200">
              <a:off x="1320480" y="2414160"/>
              <a:ext cx="42840" cy="17100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82240" y="2133720"/>
              <a:ext cx="21456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1141200" y="2368080"/>
              <a:ext cx="14904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90240" y="223956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90240" y="25812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8360" y="2431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37840" y="2431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1121040" y="2272320"/>
              <a:ext cx="336960" cy="93600"/>
              <a:chOff x="1121040" y="2272320"/>
              <a:chExt cx="336960" cy="9360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1368000" y="2273400"/>
                <a:ext cx="90000" cy="92520"/>
                <a:chOff x="1368000" y="2273400"/>
                <a:chExt cx="90000" cy="92520"/>
              </a:xfrm>
            </p:grpSpPr>
            <p:sp>
              <p:nvSpPr>
                <p:cNvPr id="1071" name=""/>
                <p:cNvSpPr/>
                <p:nvPr/>
              </p:nvSpPr>
              <p:spPr>
                <a:xfrm flipV="1">
                  <a:off x="1368000" y="22734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1422360" y="23432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121040" y="2272320"/>
                <a:ext cx="90000" cy="92520"/>
                <a:chOff x="1121040" y="2272320"/>
                <a:chExt cx="90000" cy="92520"/>
              </a:xfrm>
            </p:grpSpPr>
            <p:sp>
              <p:nvSpPr>
                <p:cNvPr id="1074" name=""/>
                <p:cNvSpPr/>
                <p:nvPr/>
              </p:nvSpPr>
              <p:spPr>
                <a:xfrm flipH="1" flipV="1">
                  <a:off x="1186200" y="22723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121040" y="2342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21040" y="2498400"/>
              <a:ext cx="338400" cy="92520"/>
              <a:chOff x="1121040" y="2498400"/>
              <a:chExt cx="338400" cy="9252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1369800" y="2498400"/>
                <a:ext cx="89640" cy="91440"/>
                <a:chOff x="1369800" y="2498400"/>
                <a:chExt cx="89640" cy="914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1369800" y="25556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flipV="1">
                  <a:off x="1423800" y="2498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1121040" y="2499480"/>
                <a:ext cx="89640" cy="91440"/>
                <a:chOff x="1121040" y="2499480"/>
                <a:chExt cx="89640" cy="9144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1186200" y="25567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121040" y="24994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457200" y="46483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C send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oS TSF 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ormation in every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F Pol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QoS TSF Timer value is not necessary to be synchron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SF Timer in AP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C sends CF Poll Packe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 least once in an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ms for MPEG2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oS TSF Timer information in QoS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11360" y="327672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0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57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09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86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38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14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90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66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19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95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48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24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00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52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57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62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38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95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572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48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24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29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5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34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10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86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62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6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15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19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095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72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48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00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477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629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705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81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858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34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086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62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315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391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84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7612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8375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913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898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0661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42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2184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294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370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470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5233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59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6756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133720" y="2286000"/>
            <a:ext cx="759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8148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22960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968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5780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0592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590920" y="24382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4" name=""/>
          <p:cNvCxnSpPr>
            <a:stCxn id="1177" idx="3"/>
            <a:endCxn id="1183" idx="1"/>
          </p:cNvCxnSpPr>
          <p:nvPr/>
        </p:nvCxnSpPr>
        <p:spPr>
          <a:xfrm>
            <a:off x="2209320" y="2438280"/>
            <a:ext cx="381960" cy="191520"/>
          </a:xfrm>
          <a:prstGeom prst="curvedConnector5">
            <a:avLst>
              <a:gd name="adj1" fmla="val 50000"/>
              <a:gd name="adj2" fmla="val 49905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600200" y="22096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28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057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33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09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86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362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438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514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590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666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971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048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12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00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76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429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57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733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09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62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38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1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7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43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95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48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24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0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76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05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57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4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410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486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638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791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943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95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72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48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24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00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53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29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81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34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214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0977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2500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263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4786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549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3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96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772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848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924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01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077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53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229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305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534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610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686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182880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181480" y="18288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213372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51814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82296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438280" y="14479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044720" y="2666880"/>
            <a:ext cx="468000" cy="533520"/>
            <a:chOff x="1044720" y="2666880"/>
            <a:chExt cx="468000" cy="533520"/>
          </a:xfrm>
        </p:grpSpPr>
        <p:sp>
          <p:nvSpPr>
            <p:cNvPr id="1284" name=""/>
            <p:cNvSpPr/>
            <p:nvPr/>
          </p:nvSpPr>
          <p:spPr>
            <a:xfrm>
              <a:off x="1236600" y="270972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44720" y="273024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87560" y="277308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317000">
              <a:off x="1295280" y="277956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9372200">
              <a:off x="1309320" y="294768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71440" y="266688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1130400" y="290196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79440" y="277308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79440" y="3114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87560" y="29653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27040" y="29653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1110240" y="2805840"/>
              <a:ext cx="336960" cy="93960"/>
              <a:chOff x="1110240" y="2805840"/>
              <a:chExt cx="336960" cy="9396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1357200" y="2806920"/>
                <a:ext cx="90000" cy="92880"/>
                <a:chOff x="1357200" y="2806920"/>
                <a:chExt cx="90000" cy="92880"/>
              </a:xfrm>
            </p:grpSpPr>
            <p:sp>
              <p:nvSpPr>
                <p:cNvPr id="1297" name=""/>
                <p:cNvSpPr/>
                <p:nvPr/>
              </p:nvSpPr>
              <p:spPr>
                <a:xfrm flipV="1">
                  <a:off x="1357200" y="28069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1411560" y="28771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1110240" y="2805840"/>
                <a:ext cx="90000" cy="92880"/>
                <a:chOff x="1110240" y="2805840"/>
                <a:chExt cx="90000" cy="92880"/>
              </a:xfrm>
            </p:grpSpPr>
            <p:sp>
              <p:nvSpPr>
                <p:cNvPr id="1300" name=""/>
                <p:cNvSpPr/>
                <p:nvPr/>
              </p:nvSpPr>
              <p:spPr>
                <a:xfrm flipH="1" flipV="1">
                  <a:off x="1175400" y="2805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110240" y="2876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" name=""/>
            <p:cNvGrpSpPr/>
            <p:nvPr/>
          </p:nvGrpSpPr>
          <p:grpSpPr>
            <a:xfrm>
              <a:off x="1110240" y="3032280"/>
              <a:ext cx="338400" cy="92880"/>
              <a:chOff x="1110240" y="3032280"/>
              <a:chExt cx="338400" cy="9288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1359000" y="3032280"/>
                <a:ext cx="89640" cy="91800"/>
                <a:chOff x="1359000" y="3032280"/>
                <a:chExt cx="89640" cy="9180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1359000" y="3089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 flipV="1">
                  <a:off x="1413000" y="3032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1110240" y="3033360"/>
                <a:ext cx="89640" cy="91800"/>
                <a:chOff x="1110240" y="3033360"/>
                <a:chExt cx="89640" cy="91800"/>
              </a:xfrm>
            </p:grpSpPr>
            <p:sp>
              <p:nvSpPr>
                <p:cNvPr id="1307" name=""/>
                <p:cNvSpPr/>
                <p:nvPr/>
              </p:nvSpPr>
              <p:spPr>
                <a:xfrm flipH="1">
                  <a:off x="1175400" y="30909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V="1">
                  <a:off x="1110240" y="30333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9" name=""/>
          <p:cNvSpPr/>
          <p:nvPr/>
        </p:nvSpPr>
        <p:spPr>
          <a:xfrm>
            <a:off x="380880" y="19810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880" y="30481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11360" y="43434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828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05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981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057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09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286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362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438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90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666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3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819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95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71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48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00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52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29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05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657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09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86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962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91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7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43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24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800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6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952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9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05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181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257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0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86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62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15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867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943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19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95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172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48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324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400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77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553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629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858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934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010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62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238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315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91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67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620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84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612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75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13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9898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0661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142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2184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2947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370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4470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5233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99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6756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1028880" y="3276720"/>
            <a:ext cx="523080" cy="558720"/>
            <a:chOff x="1028880" y="3276720"/>
            <a:chExt cx="523080" cy="558720"/>
          </a:xfrm>
        </p:grpSpPr>
        <p:sp>
          <p:nvSpPr>
            <p:cNvPr id="1404" name=""/>
            <p:cNvSpPr/>
            <p:nvPr/>
          </p:nvSpPr>
          <p:spPr>
            <a:xfrm>
              <a:off x="1247760" y="3319200"/>
              <a:ext cx="8424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55520" y="3340080"/>
              <a:ext cx="468360" cy="469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82600" y="3276720"/>
              <a:ext cx="21420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7977800">
              <a:off x="1099080" y="338184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9294800">
              <a:off x="1209240" y="3401640"/>
              <a:ext cx="41400" cy="19152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15750600">
              <a:off x="1353600" y="3475440"/>
              <a:ext cx="42480" cy="17136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1161000" y="3573360"/>
              <a:ext cx="1288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90600" y="338292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90600" y="37242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98360" y="3574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38200" y="3574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1121040" y="3415320"/>
              <a:ext cx="337320" cy="93960"/>
              <a:chOff x="1121040" y="3415320"/>
              <a:chExt cx="337320" cy="93960"/>
            </a:xfrm>
          </p:grpSpPr>
          <p:grpSp>
            <p:nvGrpSpPr>
              <p:cNvPr id="1416" name=""/>
              <p:cNvGrpSpPr/>
              <p:nvPr/>
            </p:nvGrpSpPr>
            <p:grpSpPr>
              <a:xfrm>
                <a:off x="1368360" y="3416400"/>
                <a:ext cx="90000" cy="92880"/>
                <a:chOff x="1368360" y="3416400"/>
                <a:chExt cx="90000" cy="92880"/>
              </a:xfrm>
            </p:grpSpPr>
            <p:sp>
              <p:nvSpPr>
                <p:cNvPr id="1417" name=""/>
                <p:cNvSpPr/>
                <p:nvPr/>
              </p:nvSpPr>
              <p:spPr>
                <a:xfrm flipV="1">
                  <a:off x="1368360" y="34164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1422720" y="34866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1121040" y="3415320"/>
                <a:ext cx="90000" cy="92880"/>
                <a:chOff x="1121040" y="3415320"/>
                <a:chExt cx="90000" cy="92880"/>
              </a:xfrm>
            </p:grpSpPr>
            <p:sp>
              <p:nvSpPr>
                <p:cNvPr id="1420" name=""/>
                <p:cNvSpPr/>
                <p:nvPr/>
              </p:nvSpPr>
              <p:spPr>
                <a:xfrm flipH="1" flipV="1">
                  <a:off x="1186200" y="34153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1121040" y="34855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2" name=""/>
            <p:cNvGrpSpPr/>
            <p:nvPr/>
          </p:nvGrpSpPr>
          <p:grpSpPr>
            <a:xfrm>
              <a:off x="1121040" y="3641760"/>
              <a:ext cx="338400" cy="92880"/>
              <a:chOff x="1121040" y="3641760"/>
              <a:chExt cx="338400" cy="92880"/>
            </a:xfrm>
          </p:grpSpPr>
          <p:grpSp>
            <p:nvGrpSpPr>
              <p:cNvPr id="1423" name=""/>
              <p:cNvGrpSpPr/>
              <p:nvPr/>
            </p:nvGrpSpPr>
            <p:grpSpPr>
              <a:xfrm>
                <a:off x="1369800" y="3641760"/>
                <a:ext cx="89640" cy="91800"/>
                <a:chOff x="1369800" y="3641760"/>
                <a:chExt cx="89640" cy="9180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1369800" y="36993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1423800" y="3641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1121040" y="3642840"/>
                <a:ext cx="89640" cy="91800"/>
                <a:chOff x="1121040" y="3642840"/>
                <a:chExt cx="89640" cy="9180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1186200" y="37004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1121040" y="36428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9" name=""/>
          <p:cNvSpPr/>
          <p:nvPr/>
        </p:nvSpPr>
        <p:spPr>
          <a:xfrm>
            <a:off x="2209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57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62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14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19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71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124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276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429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33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862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0384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911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3434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495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648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800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52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105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10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562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15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867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19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1722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3244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6294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781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934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086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391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43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96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848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001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153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305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80880" y="40384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34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438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590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048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00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352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505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809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9625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2670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876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29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486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638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791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2485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008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5530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057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62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315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467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620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772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924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77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229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381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055520" y="1828800"/>
            <a:ext cx="468000" cy="533520"/>
            <a:chOff x="1055520" y="1828800"/>
            <a:chExt cx="468000" cy="533520"/>
          </a:xfrm>
        </p:grpSpPr>
        <p:sp>
          <p:nvSpPr>
            <p:cNvPr id="1513" name=""/>
            <p:cNvSpPr/>
            <p:nvPr/>
          </p:nvSpPr>
          <p:spPr>
            <a:xfrm>
              <a:off x="1247400" y="18716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55520" y="18921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98360" y="19350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1317000">
              <a:off x="1306080" y="19414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19372200">
              <a:off x="1320120" y="21096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82240" y="18288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1141200" y="20638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90240" y="19350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90240" y="22766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9836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3784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121040" y="1967760"/>
              <a:ext cx="336960" cy="93960"/>
              <a:chOff x="1121040" y="1967760"/>
              <a:chExt cx="336960" cy="93960"/>
            </a:xfrm>
          </p:grpSpPr>
          <p:grpSp>
            <p:nvGrpSpPr>
              <p:cNvPr id="1525" name=""/>
              <p:cNvGrpSpPr/>
              <p:nvPr/>
            </p:nvGrpSpPr>
            <p:grpSpPr>
              <a:xfrm>
                <a:off x="1368000" y="1968840"/>
                <a:ext cx="90000" cy="92880"/>
                <a:chOff x="1368000" y="1968840"/>
                <a:chExt cx="90000" cy="92880"/>
              </a:xfrm>
            </p:grpSpPr>
            <p:sp>
              <p:nvSpPr>
                <p:cNvPr id="1526" name=""/>
                <p:cNvSpPr/>
                <p:nvPr/>
              </p:nvSpPr>
              <p:spPr>
                <a:xfrm flipV="1">
                  <a:off x="1368000" y="1968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>
                  <a:off x="1422360" y="2039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1121040" y="1967760"/>
                <a:ext cx="90000" cy="92880"/>
                <a:chOff x="1121040" y="1967760"/>
                <a:chExt cx="90000" cy="92880"/>
              </a:xfrm>
            </p:grpSpPr>
            <p:sp>
              <p:nvSpPr>
                <p:cNvPr id="1529" name=""/>
                <p:cNvSpPr/>
                <p:nvPr/>
              </p:nvSpPr>
              <p:spPr>
                <a:xfrm flipH="1" flipV="1">
                  <a:off x="1186200" y="19677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121040" y="2037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1121040" y="2194200"/>
              <a:ext cx="338400" cy="92880"/>
              <a:chOff x="1121040" y="2194200"/>
              <a:chExt cx="338400" cy="928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369800" y="2194200"/>
                <a:ext cx="89640" cy="91800"/>
                <a:chOff x="1369800" y="2194200"/>
                <a:chExt cx="89640" cy="9180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369800" y="22518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flipV="1">
                  <a:off x="1423800" y="21942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1121040" y="2195280"/>
                <a:ext cx="89640" cy="91800"/>
                <a:chOff x="1121040" y="2195280"/>
                <a:chExt cx="89640" cy="91800"/>
              </a:xfrm>
            </p:grpSpPr>
            <p:sp>
              <p:nvSpPr>
                <p:cNvPr id="1536" name=""/>
                <p:cNvSpPr/>
                <p:nvPr/>
              </p:nvSpPr>
              <p:spPr>
                <a:xfrm flipH="1">
                  <a:off x="1186200" y="2252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>
                  <a:off x="1121040" y="2195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38" name=""/>
          <p:cNvGrpSpPr/>
          <p:nvPr/>
        </p:nvGrpSpPr>
        <p:grpSpPr>
          <a:xfrm>
            <a:off x="1028880" y="3962520"/>
            <a:ext cx="523080" cy="558720"/>
            <a:chOff x="1028880" y="3962520"/>
            <a:chExt cx="523080" cy="558720"/>
          </a:xfrm>
        </p:grpSpPr>
        <p:sp>
          <p:nvSpPr>
            <p:cNvPr id="1539" name=""/>
            <p:cNvSpPr/>
            <p:nvPr/>
          </p:nvSpPr>
          <p:spPr>
            <a:xfrm>
              <a:off x="1247760" y="4005000"/>
              <a:ext cx="8424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55520" y="4025880"/>
              <a:ext cx="468360" cy="469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82600" y="3962520"/>
              <a:ext cx="21420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7977800">
              <a:off x="1099080" y="406764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294800">
              <a:off x="1209240" y="4087440"/>
              <a:ext cx="41400" cy="19152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5750600">
              <a:off x="1353600" y="4161240"/>
              <a:ext cx="42480" cy="17136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1161000" y="4259160"/>
              <a:ext cx="1288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90600" y="406872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90600" y="44100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98360" y="42606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38200" y="42606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121040" y="4101120"/>
              <a:ext cx="337320" cy="93960"/>
              <a:chOff x="1121040" y="4101120"/>
              <a:chExt cx="337320" cy="93960"/>
            </a:xfrm>
          </p:grpSpPr>
          <p:grpSp>
            <p:nvGrpSpPr>
              <p:cNvPr id="1551" name=""/>
              <p:cNvGrpSpPr/>
              <p:nvPr/>
            </p:nvGrpSpPr>
            <p:grpSpPr>
              <a:xfrm>
                <a:off x="1368360" y="4102200"/>
                <a:ext cx="90000" cy="92880"/>
                <a:chOff x="1368360" y="4102200"/>
                <a:chExt cx="90000" cy="92880"/>
              </a:xfrm>
            </p:grpSpPr>
            <p:sp>
              <p:nvSpPr>
                <p:cNvPr id="1552" name=""/>
                <p:cNvSpPr/>
                <p:nvPr/>
              </p:nvSpPr>
              <p:spPr>
                <a:xfrm flipV="1">
                  <a:off x="1368360" y="41022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>
                  <a:off x="1422720" y="4172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1121040" y="4101120"/>
                <a:ext cx="90000" cy="92880"/>
                <a:chOff x="1121040" y="4101120"/>
                <a:chExt cx="90000" cy="92880"/>
              </a:xfrm>
            </p:grpSpPr>
            <p:sp>
              <p:nvSpPr>
                <p:cNvPr id="1555" name=""/>
                <p:cNvSpPr/>
                <p:nvPr/>
              </p:nvSpPr>
              <p:spPr>
                <a:xfrm flipH="1" flipV="1">
                  <a:off x="1186200" y="41011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121040" y="41713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7" name=""/>
            <p:cNvGrpSpPr/>
            <p:nvPr/>
          </p:nvGrpSpPr>
          <p:grpSpPr>
            <a:xfrm>
              <a:off x="1121040" y="4327560"/>
              <a:ext cx="338400" cy="92880"/>
              <a:chOff x="1121040" y="4327560"/>
              <a:chExt cx="338400" cy="9288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1369800" y="4327560"/>
                <a:ext cx="89640" cy="91800"/>
                <a:chOff x="1369800" y="4327560"/>
                <a:chExt cx="89640" cy="9180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1369800" y="43851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flipV="1">
                  <a:off x="1423800" y="43275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1121040" y="4328640"/>
                <a:ext cx="89640" cy="91800"/>
                <a:chOff x="1121040" y="4328640"/>
                <a:chExt cx="89640" cy="91800"/>
              </a:xfrm>
            </p:grpSpPr>
            <p:sp>
              <p:nvSpPr>
                <p:cNvPr id="1562" name=""/>
                <p:cNvSpPr/>
                <p:nvPr/>
              </p:nvSpPr>
              <p:spPr>
                <a:xfrm flipH="1">
                  <a:off x="1186200" y="43862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1121040" y="4328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4" name=""/>
          <p:cNvSpPr/>
          <p:nvPr/>
        </p:nvSpPr>
        <p:spPr>
          <a:xfrm>
            <a:off x="6781680" y="43434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Times New Roman"/>
              </a:rPr>
              <a:t>CF-Poll from 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5" name=""/>
          <p:cNvCxnSpPr>
            <a:stCxn id="1564" idx="3"/>
            <a:endCxn id="1469" idx="3"/>
          </p:cNvCxnSpPr>
          <p:nvPr/>
        </p:nvCxnSpPr>
        <p:spPr>
          <a:xfrm flipV="1">
            <a:off x="8381520" y="3961800"/>
            <a:ext cx="2520" cy="572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6699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907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60020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4876920"/>
            <a:ext cx="6098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2900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038480" y="4876920"/>
            <a:ext cx="6098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2485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648320" y="4876920"/>
            <a:ext cx="609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60020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09680" y="464832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42900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038480" y="464832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2485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648320" y="464832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257800" y="4876920"/>
            <a:ext cx="990720" cy="4572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F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257800" y="4648320"/>
            <a:ext cx="990720" cy="2286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0280" y="388512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. Add QoS TFS timer field in QoS (+)CF-Poll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94360" y="137052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 Add QoS TSF mode bit in TS info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90720" y="2286000"/>
            <a:ext cx="6094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00200" y="2286000"/>
            <a:ext cx="609480" cy="6094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209680" y="2286000"/>
            <a:ext cx="1219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ck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429000" y="2286000"/>
            <a:ext cx="6094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38480" y="2286000"/>
            <a:ext cx="18288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99072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600200" y="2057400"/>
            <a:ext cx="609480" cy="2286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09680" y="205740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1952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42900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38480" y="205740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48320" y="205740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57800" y="205740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675800" y="2894040"/>
            <a:ext cx="39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: QoS TFS Timer is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: QoS TFS Timer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08:48:22Z</dcterms:created>
  <dc:creator>大谷 昌弘</dc:creator>
  <dc:description/>
  <dc:language>en-US</dc:language>
  <cp:lastModifiedBy>Toru Ueda</cp:lastModifiedBy>
  <cp:lastPrinted>2001-06-25T01:13:20Z</cp:lastPrinted>
  <dcterms:modified xsi:type="dcterms:W3CDTF">2001-07-11T18:14:13Z</dcterms:modified>
  <cp:revision>1640</cp:revision>
  <dc:subject/>
  <dc:title>2.4 GHz SS無線 を使用した MPEG2映像伝送用通信コントローラー ( APOLLO )  技術本部 システム開発センター </dc:title>
</cp:coreProperties>
</file>