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D7E9-A4AD-403E-BEB6-4F05BF3EA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1BA0-5E44-4708-9458-C4F9E295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DB50-C469-4FE8-96D0-CB65CEC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EBCC-094E-402E-AB72-EDDBB7961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1E0F-2EF1-4752-A860-6E5482C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C848-37AD-486D-BDD9-86242F27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EE44-0AEF-4096-82CD-AC8D6D36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93C9-3681-427B-8C36-3CFF928A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0BDA-7D20-4824-8893-C17D5C4D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2B8C-6C9A-40AF-B6AA-4D95FAA4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D012-2A04-4644-8260-B511B6FB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8D1F5-1187-4FF1-AC98-60B11BAD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167040"/>
            <a:ext cx="10670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Ju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942A46-D3C3-4D12-AE27-CBD6EC0D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617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1/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414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Choi, Philip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802.11a/e and HIPERLAN/2 Interworking using HCF</a:t>
            </a:r>
            <a:endParaRPr b="0" lang="en-US" sz="4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efan Mangol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Sunghyun Cho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Wolfgang O. Budd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Chiu Ng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Nets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achen Univers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ilips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1A9F-0A6C-4200-9D2B-24B1134A0D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hybrid of 802.11e HC and H2-CC, called CCHC is pro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has both 802.11a/e and H2 MAC/PHY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sharing between 802.11a/e and H2 without compromise of Q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for a coexistence and interworking as discussed at 5GSG/TG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5D9B-39CF-4490-B4EC-9DD84CF5D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Mangold, Sunghyun Choi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802.11a/(e) and HiperLAN/2 Interworking via CCEP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” IEEE 802.11-01/067, January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Mangold, Sunghyun Choi, and Thorsten Wiemann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ntion-Free Scheduling of HiperLAN/2 Frames without QoS Limit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” IEEE 802.11-01/013, January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Nets, Philips.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existence and Interoperability of HiperLAN/2 and IEEE 802.11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 ETSI BRAN#21, BRAN21d12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, NTT, Matsushita.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vergence levels for 802.11a and HiperLAN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 ETSI BRAN#21, BRAN21d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7362-1C41-459E-8ACB-5B4BE36742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terworking between 802.11a/e and H2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upcomding 802.11e Hybrid Coordination Function (HCF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a hybrid of an H2 Centralized Controller (CC) and 802.11a/e Hybrid Coordinator (HC), referred to as CCHC, which works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C to 802.11a/e enhanced stations (ESTA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 to H2 mobile and wireless terminals (MTs/WT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allows the support of all convergence levels of 802.11 and H2, specifically the interwork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2459-05EB-482C-A98C-D7FBC16B0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The CCHC-Interworking Solution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 (H2 Central Control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C (802.11 Hybrid Coordin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al protocol inside coord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Ts/WTs use AP_Abs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548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CHC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1331-BB93-4FD9-961C-0AAA817A3E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Basic Access Mechanism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AC frames are integrated in CP and CF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CCHC_timing01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5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5630-5452-4688-AE2F-4550CB205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hen to Grab Channel for H2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should grab the channel and suppress other 802.11e ESTAs to schedule H2 MAC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 H2 MAC frame is scheduled at t=0, CCHC should grab the channel withi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- TXOP_limit - QoS CF-Poll duration - SIF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QoS CF-Poll duration - SIFS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DCF TXOP is shorter than TXOP_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F845-A9E0-4A2E-8C0D-8A0DADB59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1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oS CF-Poll transmitted by CCHC and addressed to it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CCHC_grab01" descr=""/>
          <p:cNvPicPr/>
          <p:nvPr/>
        </p:nvPicPr>
        <p:blipFill>
          <a:blip r:embed="rId1"/>
          <a:stretch/>
        </p:blipFill>
        <p:spPr>
          <a:xfrm>
            <a:off x="1065240" y="3124080"/>
            <a:ext cx="7012080" cy="32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BCFA-E8C1-41D4-B62C-B90C39362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2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transmits downlink frames right after PIFS and continues with H2 MAC 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CCHC_grab02" descr=""/>
          <p:cNvPicPr/>
          <p:nvPr/>
        </p:nvPicPr>
        <p:blipFill>
          <a:blip r:embed="rId1"/>
          <a:stretch/>
        </p:blipFill>
        <p:spPr>
          <a:xfrm>
            <a:off x="1057320" y="3124080"/>
            <a:ext cx="7027920" cy="32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EEF6-87B1-436B-86A7-2790A0202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ow to Grab Channel (3)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CHC grabs the channel by transmitting QoS CF-Poll to grant TXOP to ESTA(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CCHC_grab03" descr=""/>
          <p:cNvPicPr/>
          <p:nvPr/>
        </p:nvPicPr>
        <p:blipFill>
          <a:blip r:embed="rId1"/>
          <a:stretch/>
        </p:blipFill>
        <p:spPr>
          <a:xfrm>
            <a:off x="1082520" y="3124080"/>
            <a:ext cx="697896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4D66-D4C5-4C0F-B886-B5EBF3D6C3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CHC Benefits ...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AC frames are integrated in CFP as well as 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lexibl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HC is centrally coordinated by HC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QoS comprom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2 MTs/WTs as defined in the standard are fu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changes in the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ESTAs as discussed in TGe QoS draft 1.0 are fully supp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no changes in the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2876-6592-4EE3-AB97-BD54E1D76E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9:46:50Z</dcterms:created>
  <dc:creator>ComNets, Philips</dc:creator>
  <dc:description/>
  <dc:language>en-US</dc:language>
  <cp:lastModifiedBy>Sunghyun Choi</cp:lastModifiedBy>
  <cp:lastPrinted>2001-06-14T16:28:10Z</cp:lastPrinted>
  <dcterms:modified xsi:type="dcterms:W3CDTF">2001-07-10T03:20:56Z</dcterms:modified>
  <cp:revision>61</cp:revision>
  <dc:subject>Submission, TGj July 2001</dc:subject>
  <dc:title>802.11e/a and H2 Interworking using HCF</dc:title>
</cp:coreProperties>
</file>