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FFE-6228-4EE0-AE09-C01298CF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F81-8B99-4592-9A64-972E127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A0F-A75D-4521-8832-579180DB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6B-70CD-4A43-9FD8-4D51FF72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2CD-3867-4AA3-9766-C6542D6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45F-07A7-4269-A113-0D1EBC37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CAC-BB8F-4A15-A31B-08FE71C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C9F-ABF9-4F0C-B325-926F7C62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355-82DA-4DBF-98FC-811738F3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A4D-BFA7-448D-B82D-8A6CD2E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279-08E6-4904-AEF4-12D6171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0B4-44E3-4F4C-A2F0-D59E496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27722F-5783-4BDF-9C3B-81DC58945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0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uthentication Suite Advert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ed to IEEE802.11 T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. Edney, No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5B9-052E-4A03-AD71-E345E4C528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have Authentication Suite Sele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allow Access Point to advertise securit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allow Client to select option(s) in association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95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urrent draft only few choices are possible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endor proprietary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2670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Key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pecified authentication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829-A624-46F7-B4ED-D2C56A4BCB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alue of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4479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Key Authentication (non ES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se are not understood by legacy non ESN clients and not likely to be used by ESN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rding to current draft this is mandatory so it is always advertised - only useful in selec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pecified authentication over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information provided by this element since this is always possible option in E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5D1-5850-4892-BDEE-B5D6699EEA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provide more inform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752480"/>
            <a:ext cx="7010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some cases the network may support a limited or single EAP method other than Kerberos (e.g. EAP/TLS or EAP/GSMS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 current draft AP can only advertise “unspecified EAP/802.1x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eans clients must associate and initiate EAP transaction to discover what EAP method is supported - and then disassociate when it is discovered that a compatible method is not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head can be reduced if AP can advertise the supported EAP method(s) - clients need not associate unnecessar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080-52B2-4746-91E8-535C1E7DD1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to add new EAP Suite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79640" y="3960720"/>
          <a:ext cx="5792760" cy="25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960720"/>
                    <a:ext cx="579276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12000" y="22096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400" y="4800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55960" y="1366920"/>
          <a:ext cx="564012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5960" y="1366920"/>
                    <a:ext cx="5640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398-4B16-4532-8377-C2A52861CD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Authentication Suit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98108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 ID (TB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1981080"/>
            <a:ext cx="144756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981080"/>
            <a:ext cx="297180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Suit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4840" y="2514600"/>
            <a:ext cx="324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Element - Unchange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327672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276720"/>
            <a:ext cx="19810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te Specifi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Oct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29600" y="3962520"/>
            <a:ext cx="374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Specifier (0 - 3)  - Unchange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572000"/>
            <a:ext cx="14479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572000"/>
            <a:ext cx="198108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te Specifi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Oct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3400" y="525780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Suite Specifier 4  -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572000"/>
            <a:ext cx="1676520" cy="51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P Numb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1C1-222E-49F2-ABE0-651FD0E5AD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AP know what EAP methods are supported by net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752480"/>
            <a:ext cx="56390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the general case of EAP/802.1X the access point need not know what EAP method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frames are forwarded to Authentication Server which generates EAP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just looks for EAP success / f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4038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inciple AP cannot know which EAP method is supported by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029200"/>
            <a:ext cx="563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use advertising feature administrator must configure AP with selected EAP method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ONLY required if using 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F12-D578-47E3-BF13-53E98BDCE9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uthentication Suite Selectors are very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value to advertise EAP method for specializ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 of option “Specified EAP” selector provides requir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0120" indent="-600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to adopt proposed text to draft: doc:IEEE 802.11-01/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6C9-3FEA-42E8-8420-0B3334EF27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to adopt the changes identified in doc: IEEE 802.11-01/xxx into 802.11e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dne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262-0E7C-4F1C-AE2E-219C426650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1:04:59Z</dcterms:created>
  <dc:creator>Jon Edney</dc:creator>
  <dc:description/>
  <cp:keywords>May 2001</cp:keywords>
  <dc:language>en-US</dc:language>
  <cp:lastModifiedBy>Harry Worstell</cp:lastModifiedBy>
  <cp:lastPrinted>1998-02-10T13:28:06Z</cp:lastPrinted>
  <dcterms:modified xsi:type="dcterms:W3CDTF">2001-05-17T16:24:54Z</dcterms:modified>
  <cp:revision>51</cp:revision>
  <dc:subject/>
  <dc:title>EAP Authentication Suite Advertising</dc:title>
</cp:coreProperties>
</file>