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1F65-8640-4FD8-AF35-5E803F5E7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D689-55E9-4F85-8236-6D109C9E3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2A95-65E1-41BC-84A7-A1DAF2599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F3EB-A5C3-45B6-8648-EFAADA44D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FED6-612B-4279-B22F-EC29D546D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BD94-91B5-4C43-AB29-1AF88C5E3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4361-BE00-4B98-8005-C9BDCA4FD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2E88-3864-4DB0-8650-9449071A9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30E0-B149-4441-A1A1-66A92E38F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8A4E-C344-4BB5-8160-04317D881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2F29-D765-41A7-B55B-CEAF1787C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5547-C153-4D6C-9CEF-DA8C48AEC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182520"/>
            <a:ext cx="745920" cy="42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697440" y="6474960"/>
            <a:ext cx="19126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an Chickinsky, Litton/TAS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28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8B8386EC-EBB7-4EFC-A649-B264A8BE87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977800" y="396000"/>
            <a:ext cx="2487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1/258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reless LAN Security Threat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an Chickinsk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tton/TAS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6 May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cryption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(i) = k(i) &lt;operator&gt; P(i)  &lt;operator&gt; m(i)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i = 1 to number of bits in the 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(i)  is the i-th bit of the  Encrypted messa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(i) is the i-th bit of the  ke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operator&gt;  is the mathematical op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(i) is the i-th bit of the plain text operat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(i) is the i-th bit of the message sequence key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ading the Mess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ntruder h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rypted mess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ntruder nee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id Plain Text (First bits on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cryption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message t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P Headers are not rand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 the first 128 bits, only 56 bits cha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81532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IP Heade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0                   1                   2                   3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0 1 2 3 4 5 6 7 8 9 0 1 2 3 4 5 6 7 8 9 0 1 2 3 4 5 6 7 8 9 0 1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+-+-+-+-+-+-+-+-+-+-+-+-+-+-+-+-+-+-+-+-+-+-+-+-+-+-+-+-+-+-+-+-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|Version|  IHL  |Type of Service|          Total Length         |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+-+-+-+-+-+-+-+-+-+-+-+-+-+-+-+-+-+-+-+-+-+-+-+-+-+-+-+-+-+-+-+-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|         Identification        |Flags|      Fragment Offset    |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+-+-+-+-+-+-+-+-+-+-+-+-+-+-+-+-+-+-+-+-+-+-+-+-+-+-+-+-+-+-+-+-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|  Time to Live |    Protocol   |         Header Checksum       |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+-+-+-+-+-+-+-+-+-+-+-+-+-+-+-+-+-+-+-+-+-+-+-+-+-+-+-+-+-+-+-+-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|                       Source Address                          |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+-+-+-+-+-+-+-+-+-+-+-+-+-+-+-+-+-+-+-+-+-+-+-+-+-+-+-+-+-+-+-+-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|                    Destination Address                        |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+-+-+-+-+-+-+-+-+-+-+-+-+-+-+-+-+-+-+-+-+-+-+-+-+-+-+-+-+-+-+-+-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|                    Options                    |    Padding    |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+-+-+-+-+-+-+-+-+-+-+-+-+-+-+-+-+-+-+-+-+-+-+-+-+-+-+-+-+-+-+-+-+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termining the 56 Change B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56 change b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fication is a sequence numb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 to Live is a cons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ssage size is same as encrypted message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ecksum is a created with fixed information and the items abo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creasing Secur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we change the encryption algorithm to randomly add bytes to the plain text message - we now have an equation that always has a random patter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 Metho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fixing each message with a fixed number of random bits, the key is randomised for each transmission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efix bits only appear on the wireless transmissio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ndomly adding a character sequence to the message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quence would have an escape character followed by a random charact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rther Secur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ways send messages in fixed block siz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ple fixed block siz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d message with random charac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we are message sensitive, then use context pad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 Forgery-Repl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each message sent over the wireless link has a unique message number, and there is a fixed relationship between message numbers then a replay attack would send messages with an incorrect message numbe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all the available message numbers are used, a new encryption key is required before further data message transfer can occur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 Forgery-Mimic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assum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Hacker does not have the valid key for the current se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distribution of keys and validation of any key requests are outside of this discussion. 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is an issue on what does a system do when it “logs-off” the network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ll the key would be retired on termination?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 Event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man Initiated Even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Privac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Forger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nial of Servi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rdware Erro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Forger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–PHY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F interface could use the subtle hardware differences in each transmitter to identify any type of data forgery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rdware Error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–PHY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are numerous algorithms to methods to detect errors and minimize hardware error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aper has proposed several alternatives to create a secure environment to send data.  More investigation is needed to determine if some subset of the proposed methods produce a secure environ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cknowledg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wish to thank Jesse Walker of the Intel Corporation for his suggestions and correspondence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man Initiated Ev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common errors ar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ministrators improperly configure syst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software erro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Privac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Data Privacy security event occurs when an unauthorized user gains access to all the unencrypted traff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decrypt the message, the user need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ncrypted mess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lgorthy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ke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Forg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Data Forgery security event occurs when an unauthorized user inserts data into network as a valid user.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are two ways valid data enters the net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la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mick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nial of Servic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intruder floods the network with either valid or invalid messag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ce the system to use valuable battery pow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ood the Access Po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rdware Err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hardware coul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ase to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m the channel by sending cons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nd random patterns on the channel that look like valid messag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cryp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ncryption one nee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rypted mess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 any three of the four, you can solve for the four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cryption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(i) = k(i) &lt;operator&gt; P(i)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i = 1 to number of bits in the 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(i)  is the i-th bit of the  Encrypted messa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(i) is the i-th bit of the  ke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operator&gt;  is the mathematical op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(i) is the i-th bit of the  plain text operator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5T14:54:53Z</dcterms:created>
  <dc:creator>alan chickinsky</dc:creator>
  <dc:description/>
  <dc:language>en-US</dc:language>
  <cp:lastModifiedBy>Harry Worstell</cp:lastModifiedBy>
  <dcterms:modified xsi:type="dcterms:W3CDTF">2001-05-16T03:28:34Z</dcterms:modified>
  <cp:revision>7</cp:revision>
  <dc:subject/>
  <dc:title>Wireless LAN Security Threats </dc:title>
</cp:coreProperties>
</file>