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D17-8587-485C-8646-E7A55F82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3BC-076E-4737-80A4-11A79EC4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F97-5CAD-4963-B7D1-D6EC3A0E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8BA-4D27-487A-9AC7-9B449053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8DE-4938-4F08-B54A-6F6EE376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FD6-1B0F-4F9E-B95F-3329B298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D40-6C7E-43D5-9C99-4F40D71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6DC-C569-4FAC-B8A2-1CA7C16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B6C-7B32-4D1E-8BD9-FF21215C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30F-7628-40DF-AADB-E218C71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298-72B7-443B-AAFB-80CB66A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E79-52C8-4D3D-9CC8-E7A05C5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74A5BE-C451-421C-A258-EFC126856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77800" y="396000"/>
            <a:ext cx="24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217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Proposal for DFS and 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istopher J. Hansen and Joonsuk K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237-7CA9-448F-A7C5-AFBBE901CD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sends Probe Request frame with TPC Request element to AP.  Flag octet is set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sponds with Probe Response frame with a TPC Response element.  TX Power Level octet is set to 111000, indicating +23 dBm (200 mw) TX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determines that +23 dBm is more power than it requires and that +17 dBm is adequate.  STA sends a second Probe Request frame with a TPC Request element.  This time the Flag octet is set to 1 and the TX Power Level octet is set to 110010, indicating +17 dB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D9B-54F5-4B05-91F6-464EE49A5B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sponds with a Probe Response frame containing a TPC Response element.  The TX Power Level octet is set to 110010, indicating that is now using a TX EIRP of +17 dB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9FD-27BD-4926-903C-933111C42B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has two mechanisms for determining the channel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own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STAs within the BSS to make RSSI measurements on any channel (including the current BSS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SI data is reported to AP in a simple histogram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16F-029C-4B18-9770-F6407C5356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when a channel change i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provides new channel information and a countdow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a Beacon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12D-D848-4133-9542-3D5A9FA914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6880" y="2666880"/>
            <a:ext cx="1905120" cy="3657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350532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FS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quests RSSI information on channels #1, #2, and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A sees alien interference on channel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B sees another BSS on channel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elects channel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276720"/>
            <a:ext cx="6858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200400"/>
            <a:ext cx="6858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120" y="3733920"/>
            <a:ext cx="38088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640" y="53938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en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720" y="4631760"/>
            <a:ext cx="16088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lapping 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47560" y="24382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5146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E69-68FE-4FAF-9014-046A5BE1C9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ur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tra regulation when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le with TGe without being dependent on rapid resolution of TGe ballot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AD6-E4DE-4C14-B255-33BCF4B3C5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provides a complete solution to the TPC/DFS requirements of Task Group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provides the most flexibility, allowing equipment vendors to design and build interoperable solutions with the be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36E-F0A2-4164-ABDD-BEF1CDC232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HY and MAC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Our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FC1-26CD-43C5-A254-6CA4EF9BD6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om Complete DFS/TPC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-01/2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 to Functional Requirements / Comparison Criter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-01/2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7AB-A8BB-4451-8250-045CA4D534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achieves several design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the requirements of TGh and E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changes to 802.11a PHY / 802.11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with regard to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4D4-3693-4F98-A30D-0E49FF6C3F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and MAC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power (EIRP)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RSSI Measur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to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Inquiry, TPC Reques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Requ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to Probe Reques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Respo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Respo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obe Response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222-52E9-4B8D-A9B7-20E8EC2EF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TX Power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TX power level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da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STAs in the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announces this level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Stat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in the Beac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can request the maximum TX power level information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Inqui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quest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9C7-93DB-42E0-87FF-BD03BE5907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able TX Pow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” STA can u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quest fram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 about the current TX pow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the TX power level b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” STA will respond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sponse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 TX power setting reque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 not mandatory, but using the closest possible power setting i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3CD-8F95-44B2-A824-413085F92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438280"/>
            <a:ext cx="1143000" cy="609840"/>
          </a:xfrm>
          <a:prstGeom prst="flowChart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981080"/>
            <a:ext cx="457200" cy="38124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3"/>
            <a:endCxn id="60" idx="2"/>
          </p:cNvCxnSpPr>
          <p:nvPr/>
        </p:nvCxnSpPr>
        <p:spPr>
          <a:xfrm flipV="1">
            <a:off x="4419720" y="2361960"/>
            <a:ext cx="457920" cy="381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2286000" y="5334120"/>
            <a:ext cx="1143000" cy="609480"/>
          </a:xfrm>
          <a:prstGeom prst="flowChart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876920"/>
            <a:ext cx="457200" cy="38088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3"/>
            <a:endCxn id="63" idx="2"/>
          </p:cNvCxnSpPr>
          <p:nvPr/>
        </p:nvCxnSpPr>
        <p:spPr>
          <a:xfrm flipV="1">
            <a:off x="3429000" y="5257440"/>
            <a:ext cx="457920" cy="381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 flipV="1">
            <a:off x="4114800" y="2895120"/>
            <a:ext cx="685800" cy="175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505320"/>
            <a:ext cx="1904760" cy="2286000"/>
          </a:xfrm>
          <a:prstGeom prst="irregularSeal1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28840" y="2514600"/>
            <a:ext cx="16765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4724280"/>
            <a:ext cx="198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B0E-DCFC-4173-884D-8C66A54140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ed signal path is 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 paths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Interference ratio at each receiver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must instruct the corresponding transmitter to send the appropriate power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A34-0656-4366-949A-CC595F41D4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00:53:25Z</dcterms:created>
  <dc:creator>Chris Hansen</dc:creator>
  <dc:description/>
  <dc:language>en-US</dc:language>
  <cp:lastModifiedBy>Chris Hansen</cp:lastModifiedBy>
  <cp:lastPrinted>2001-01-05T21:58:21Z</cp:lastPrinted>
  <dcterms:modified xsi:type="dcterms:W3CDTF">2001-05-21T17:45:26Z</dcterms:modified>
  <cp:revision>75</cp:revision>
  <dc:subject/>
  <dc:title>No Slide Title</dc:title>
</cp:coreProperties>
</file>