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9FE-30EF-4A2B-8395-CC0A9390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928-44C8-44CC-B850-A06FC340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54D-A075-4358-A696-806023BD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F06-BBC7-434D-A0CF-98E0D5F4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D83-AEF1-4E08-B93F-B8EEAEC8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6C1-B76D-4DAF-BC25-19A30DDF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DD5-0868-4E42-B666-833EF153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145-9074-427B-96D1-8814D6A9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4B1-AFED-43ED-8F7F-2D48D60E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A0F-E60E-4030-B101-BB187000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CED-B869-4DC3-9D8C-8CB0CE35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73C-46A1-4EF3-B479-4CFD1F03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F8041B7-AEE1-44D1-80F0-E68B72030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08960" y="396000"/>
            <a:ext cx="26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15r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ered Transmit Power Control, 01/215r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 Lars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sson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shamnsgatan 23, K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4 80 Stockholm, Sw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.larsson@era.ericsson.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92A-39B3-4C35-AD9E-7F4FFC34DE9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971800" y="2160720"/>
            <a:ext cx="2425680" cy="30733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59080" y="2741760"/>
            <a:ext cx="1608120" cy="1757160"/>
          </a:xfrm>
          <a:custGeom>
            <a:avLst/>
            <a:gdLst/>
            <a:ahLst/>
            <a:rect l="l" t="t" r="r" b="b"/>
            <a:pathLst>
              <a:path w="1013" h="1107">
                <a:moveTo>
                  <a:pt x="529" y="1059"/>
                </a:moveTo>
                <a:lnTo>
                  <a:pt x="587" y="1076"/>
                </a:lnTo>
                <a:lnTo>
                  <a:pt x="650" y="1093"/>
                </a:lnTo>
                <a:lnTo>
                  <a:pt x="712" y="1106"/>
                </a:lnTo>
                <a:lnTo>
                  <a:pt x="770" y="1106"/>
                </a:lnTo>
                <a:lnTo>
                  <a:pt x="824" y="1093"/>
                </a:lnTo>
                <a:lnTo>
                  <a:pt x="879" y="1072"/>
                </a:lnTo>
                <a:lnTo>
                  <a:pt x="924" y="1042"/>
                </a:lnTo>
                <a:lnTo>
                  <a:pt x="945" y="1024"/>
                </a:lnTo>
                <a:lnTo>
                  <a:pt x="962" y="1011"/>
                </a:lnTo>
                <a:lnTo>
                  <a:pt x="987" y="977"/>
                </a:lnTo>
                <a:lnTo>
                  <a:pt x="1008" y="942"/>
                </a:lnTo>
                <a:lnTo>
                  <a:pt x="1012" y="903"/>
                </a:lnTo>
                <a:lnTo>
                  <a:pt x="1012" y="864"/>
                </a:lnTo>
                <a:lnTo>
                  <a:pt x="1008" y="847"/>
                </a:lnTo>
                <a:lnTo>
                  <a:pt x="995" y="830"/>
                </a:lnTo>
                <a:lnTo>
                  <a:pt x="970" y="795"/>
                </a:lnTo>
                <a:lnTo>
                  <a:pt x="941" y="756"/>
                </a:lnTo>
                <a:lnTo>
                  <a:pt x="916" y="722"/>
                </a:lnTo>
                <a:lnTo>
                  <a:pt x="899" y="687"/>
                </a:lnTo>
                <a:lnTo>
                  <a:pt x="883" y="652"/>
                </a:lnTo>
                <a:lnTo>
                  <a:pt x="870" y="618"/>
                </a:lnTo>
                <a:lnTo>
                  <a:pt x="866" y="579"/>
                </a:lnTo>
                <a:lnTo>
                  <a:pt x="870" y="536"/>
                </a:lnTo>
                <a:lnTo>
                  <a:pt x="887" y="484"/>
                </a:lnTo>
                <a:lnTo>
                  <a:pt x="899" y="436"/>
                </a:lnTo>
                <a:lnTo>
                  <a:pt x="916" y="384"/>
                </a:lnTo>
                <a:lnTo>
                  <a:pt x="933" y="337"/>
                </a:lnTo>
                <a:lnTo>
                  <a:pt x="949" y="289"/>
                </a:lnTo>
                <a:lnTo>
                  <a:pt x="962" y="237"/>
                </a:lnTo>
                <a:lnTo>
                  <a:pt x="962" y="216"/>
                </a:lnTo>
                <a:lnTo>
                  <a:pt x="962" y="194"/>
                </a:lnTo>
                <a:lnTo>
                  <a:pt x="953" y="151"/>
                </a:lnTo>
                <a:lnTo>
                  <a:pt x="933" y="112"/>
                </a:lnTo>
                <a:lnTo>
                  <a:pt x="903" y="77"/>
                </a:lnTo>
                <a:lnTo>
                  <a:pt x="866" y="51"/>
                </a:lnTo>
                <a:lnTo>
                  <a:pt x="845" y="39"/>
                </a:lnTo>
                <a:lnTo>
                  <a:pt x="816" y="26"/>
                </a:lnTo>
                <a:lnTo>
                  <a:pt x="758" y="8"/>
                </a:lnTo>
                <a:lnTo>
                  <a:pt x="691" y="0"/>
                </a:lnTo>
                <a:lnTo>
                  <a:pt x="658" y="0"/>
                </a:lnTo>
                <a:lnTo>
                  <a:pt x="629" y="4"/>
                </a:lnTo>
                <a:lnTo>
                  <a:pt x="596" y="13"/>
                </a:lnTo>
                <a:lnTo>
                  <a:pt x="562" y="26"/>
                </a:lnTo>
                <a:lnTo>
                  <a:pt x="496" y="64"/>
                </a:lnTo>
                <a:lnTo>
                  <a:pt x="437" y="108"/>
                </a:lnTo>
                <a:lnTo>
                  <a:pt x="408" y="129"/>
                </a:lnTo>
                <a:lnTo>
                  <a:pt x="387" y="147"/>
                </a:lnTo>
                <a:lnTo>
                  <a:pt x="367" y="164"/>
                </a:lnTo>
                <a:lnTo>
                  <a:pt x="354" y="186"/>
                </a:lnTo>
                <a:lnTo>
                  <a:pt x="333" y="220"/>
                </a:lnTo>
                <a:lnTo>
                  <a:pt x="313" y="259"/>
                </a:lnTo>
                <a:lnTo>
                  <a:pt x="292" y="289"/>
                </a:lnTo>
                <a:lnTo>
                  <a:pt x="258" y="315"/>
                </a:lnTo>
                <a:lnTo>
                  <a:pt x="221" y="337"/>
                </a:lnTo>
                <a:lnTo>
                  <a:pt x="179" y="358"/>
                </a:lnTo>
                <a:lnTo>
                  <a:pt x="146" y="384"/>
                </a:lnTo>
                <a:lnTo>
                  <a:pt x="92" y="454"/>
                </a:lnTo>
                <a:lnTo>
                  <a:pt x="50" y="531"/>
                </a:lnTo>
                <a:lnTo>
                  <a:pt x="30" y="579"/>
                </a:lnTo>
                <a:lnTo>
                  <a:pt x="13" y="626"/>
                </a:lnTo>
                <a:lnTo>
                  <a:pt x="0" y="678"/>
                </a:lnTo>
                <a:lnTo>
                  <a:pt x="0" y="700"/>
                </a:lnTo>
                <a:lnTo>
                  <a:pt x="5" y="722"/>
                </a:lnTo>
                <a:lnTo>
                  <a:pt x="13" y="743"/>
                </a:lnTo>
                <a:lnTo>
                  <a:pt x="25" y="760"/>
                </a:lnTo>
                <a:lnTo>
                  <a:pt x="59" y="799"/>
                </a:lnTo>
                <a:lnTo>
                  <a:pt x="104" y="834"/>
                </a:lnTo>
                <a:lnTo>
                  <a:pt x="146" y="864"/>
                </a:lnTo>
                <a:lnTo>
                  <a:pt x="192" y="895"/>
                </a:lnTo>
                <a:lnTo>
                  <a:pt x="242" y="916"/>
                </a:lnTo>
                <a:lnTo>
                  <a:pt x="288" y="938"/>
                </a:lnTo>
                <a:lnTo>
                  <a:pt x="337" y="964"/>
                </a:lnTo>
                <a:lnTo>
                  <a:pt x="387" y="990"/>
                </a:lnTo>
                <a:lnTo>
                  <a:pt x="433" y="1011"/>
                </a:lnTo>
                <a:lnTo>
                  <a:pt x="479" y="1037"/>
                </a:lnTo>
                <a:lnTo>
                  <a:pt x="529" y="1059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83080" y="4116240"/>
            <a:ext cx="15228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54480" y="312588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20960" y="3354480"/>
            <a:ext cx="15264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73600" y="3887640"/>
            <a:ext cx="15228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35200" y="2876400"/>
            <a:ext cx="5031720" cy="3517920"/>
            <a:chOff x="835200" y="2876400"/>
            <a:chExt cx="5031720" cy="3517920"/>
          </a:xfrm>
        </p:grpSpPr>
        <p:sp>
          <p:nvSpPr>
            <p:cNvPr id="87" name=""/>
            <p:cNvSpPr/>
            <p:nvPr/>
          </p:nvSpPr>
          <p:spPr>
            <a:xfrm flipH="1">
              <a:off x="3243960" y="2876400"/>
              <a:ext cx="2622600" cy="26226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579600" y="5983200"/>
              <a:ext cx="666720" cy="155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a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08040" y="3925800"/>
              <a:ext cx="680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a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ns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648320" y="3727440"/>
              <a:ext cx="1143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063680" y="3992400"/>
              <a:ext cx="4143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73600" y="3496680"/>
              <a:ext cx="642960" cy="63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346640" y="3295080"/>
              <a:ext cx="21888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841320" y="1857240"/>
            <a:ext cx="4773240" cy="4537080"/>
            <a:chOff x="841320" y="1857240"/>
            <a:chExt cx="4773240" cy="4537080"/>
          </a:xfrm>
        </p:grpSpPr>
        <p:sp>
          <p:nvSpPr>
            <p:cNvPr id="95" name=""/>
            <p:cNvSpPr/>
            <p:nvPr/>
          </p:nvSpPr>
          <p:spPr>
            <a:xfrm flipH="1" flipV="1">
              <a:off x="4336560" y="3288960"/>
              <a:ext cx="21924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919680" y="3222000"/>
              <a:ext cx="29052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038480" y="3290400"/>
              <a:ext cx="223920" cy="5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4076640" y="5983200"/>
              <a:ext cx="666720" cy="155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a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2328840" y="5978520"/>
              <a:ext cx="666720" cy="155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a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991600" y="1857240"/>
              <a:ext cx="2622600" cy="26226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55680" y="2906640"/>
              <a:ext cx="680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a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ns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395960" y="2708280"/>
              <a:ext cx="1143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85720" y="5979960"/>
              <a:ext cx="666720" cy="155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a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835200" y="2603520"/>
            <a:ext cx="4447800" cy="3790800"/>
            <a:chOff x="835200" y="2603520"/>
            <a:chExt cx="4447800" cy="3790800"/>
          </a:xfrm>
        </p:grpSpPr>
        <p:sp>
          <p:nvSpPr>
            <p:cNvPr id="105" name=""/>
            <p:cNvSpPr/>
            <p:nvPr/>
          </p:nvSpPr>
          <p:spPr>
            <a:xfrm rot="16200000">
              <a:off x="2327400" y="5983200"/>
              <a:ext cx="666720" cy="155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a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579600" y="5983200"/>
              <a:ext cx="666720" cy="155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a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660040" y="2603520"/>
              <a:ext cx="2622600" cy="26222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23760" y="3652560"/>
              <a:ext cx="680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a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ns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064040" y="3454200"/>
              <a:ext cx="1143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4052520" y="3977640"/>
              <a:ext cx="41436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3797280" y="3511440"/>
              <a:ext cx="12384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037040" y="3282480"/>
              <a:ext cx="223920" cy="5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Loop Path Gain Estimation in IB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0200" y="1832040"/>
            <a:ext cx="7765920" cy="45655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54640" y="5410080"/>
            <a:ext cx="1843200" cy="9907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5280" y="5310360"/>
            <a:ext cx="1181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35160" y="5618160"/>
            <a:ext cx="960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83160" y="5791320"/>
            <a:ext cx="15264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13400" y="6083280"/>
            <a:ext cx="177480" cy="17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08" y="21593"/>
                </a:moveTo>
                <a:arcTo wR="10800" hR="10800" stAng="5524954" swAng="5275046"/>
                <a:lnTo>
                  <a:pt x="10800" y="10800"/>
                </a:lnTo>
                <a:close/>
              </a:path>
              <a:path fill="none" w="21600" h="21600">
                <a:moveTo>
                  <a:pt x="10408" y="21593"/>
                </a:moveTo>
                <a:arcTo wR="10800" hR="10800" stAng="5524954" swAng="5275046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91160" y="205416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598720"/>
            <a:ext cx="0" cy="79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5480" y="6394320"/>
            <a:ext cx="4429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38240" y="5969160"/>
            <a:ext cx="72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836640" y="3222360"/>
            <a:ext cx="3728880" cy="3173760"/>
            <a:chOff x="836640" y="3222360"/>
            <a:chExt cx="3728880" cy="3173760"/>
          </a:xfrm>
        </p:grpSpPr>
        <p:sp>
          <p:nvSpPr>
            <p:cNvPr id="125" name=""/>
            <p:cNvSpPr/>
            <p:nvPr/>
          </p:nvSpPr>
          <p:spPr>
            <a:xfrm flipH="1" flipV="1">
              <a:off x="4053960" y="3985920"/>
              <a:ext cx="41436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863880" y="3491280"/>
              <a:ext cx="642960" cy="6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3798720" y="3519720"/>
              <a:ext cx="12384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6200000">
              <a:off x="4076640" y="5983560"/>
              <a:ext cx="666720" cy="155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a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2328840" y="5978880"/>
              <a:ext cx="666720" cy="155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a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581040" y="5985000"/>
              <a:ext cx="666720" cy="155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a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038480" y="3295800"/>
              <a:ext cx="21600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922560" y="3222360"/>
              <a:ext cx="28764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4346640" y="3295440"/>
              <a:ext cx="21888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538-69CE-4270-AD4C-82519AB020B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um Receive Power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RX_m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timation in IB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1440" y="1938240"/>
            <a:ext cx="2349720" cy="30733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55760" y="1938240"/>
            <a:ext cx="2425680" cy="30733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2160" y="1832040"/>
            <a:ext cx="7766280" cy="45655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22880" y="332100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89480" y="3892680"/>
            <a:ext cx="15264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27920" y="3511440"/>
            <a:ext cx="15228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94520" y="295920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46960" y="5410080"/>
            <a:ext cx="1842840" cy="9907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37600" y="5310360"/>
            <a:ext cx="1181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27480" y="5618160"/>
            <a:ext cx="960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75480" y="579132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6083280"/>
            <a:ext cx="177480" cy="17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08" y="21593"/>
                </a:moveTo>
                <a:arcTo wR="10800" hR="10800" stAng="5524954" swAng="5275046"/>
                <a:lnTo>
                  <a:pt x="10800" y="10800"/>
                </a:lnTo>
                <a:close/>
              </a:path>
              <a:path fill="none" w="21600" h="21600">
                <a:moveTo>
                  <a:pt x="10408" y="21593"/>
                </a:moveTo>
                <a:arcTo wR="10800" hR="10800" stAng="5524954" swAng="5275046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75480" y="193824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37440" y="193824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72160" y="297972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44840" y="2519280"/>
            <a:ext cx="1606320" cy="1757520"/>
          </a:xfrm>
          <a:custGeom>
            <a:avLst/>
            <a:gdLst/>
            <a:ahLst/>
            <a:rect l="l" t="t" r="r" b="b"/>
            <a:pathLst>
              <a:path w="1012" h="1107">
                <a:moveTo>
                  <a:pt x="528" y="1059"/>
                </a:moveTo>
                <a:lnTo>
                  <a:pt x="587" y="1076"/>
                </a:lnTo>
                <a:lnTo>
                  <a:pt x="650" y="1093"/>
                </a:lnTo>
                <a:lnTo>
                  <a:pt x="713" y="1106"/>
                </a:lnTo>
                <a:lnTo>
                  <a:pt x="771" y="1106"/>
                </a:lnTo>
                <a:lnTo>
                  <a:pt x="826" y="1093"/>
                </a:lnTo>
                <a:lnTo>
                  <a:pt x="881" y="1072"/>
                </a:lnTo>
                <a:lnTo>
                  <a:pt x="927" y="1042"/>
                </a:lnTo>
                <a:lnTo>
                  <a:pt x="960" y="1011"/>
                </a:lnTo>
                <a:lnTo>
                  <a:pt x="985" y="977"/>
                </a:lnTo>
                <a:lnTo>
                  <a:pt x="1006" y="942"/>
                </a:lnTo>
                <a:lnTo>
                  <a:pt x="1011" y="903"/>
                </a:lnTo>
                <a:lnTo>
                  <a:pt x="1011" y="864"/>
                </a:lnTo>
                <a:lnTo>
                  <a:pt x="1006" y="847"/>
                </a:lnTo>
                <a:lnTo>
                  <a:pt x="994" y="830"/>
                </a:lnTo>
                <a:lnTo>
                  <a:pt x="969" y="795"/>
                </a:lnTo>
                <a:lnTo>
                  <a:pt x="939" y="756"/>
                </a:lnTo>
                <a:lnTo>
                  <a:pt x="914" y="722"/>
                </a:lnTo>
                <a:lnTo>
                  <a:pt x="897" y="687"/>
                </a:lnTo>
                <a:lnTo>
                  <a:pt x="881" y="652"/>
                </a:lnTo>
                <a:lnTo>
                  <a:pt x="872" y="618"/>
                </a:lnTo>
                <a:lnTo>
                  <a:pt x="868" y="579"/>
                </a:lnTo>
                <a:lnTo>
                  <a:pt x="872" y="536"/>
                </a:lnTo>
                <a:lnTo>
                  <a:pt x="885" y="484"/>
                </a:lnTo>
                <a:lnTo>
                  <a:pt x="902" y="436"/>
                </a:lnTo>
                <a:lnTo>
                  <a:pt x="914" y="384"/>
                </a:lnTo>
                <a:lnTo>
                  <a:pt x="931" y="337"/>
                </a:lnTo>
                <a:lnTo>
                  <a:pt x="948" y="289"/>
                </a:lnTo>
                <a:lnTo>
                  <a:pt x="960" y="237"/>
                </a:lnTo>
                <a:lnTo>
                  <a:pt x="960" y="216"/>
                </a:lnTo>
                <a:lnTo>
                  <a:pt x="960" y="194"/>
                </a:lnTo>
                <a:lnTo>
                  <a:pt x="952" y="151"/>
                </a:lnTo>
                <a:lnTo>
                  <a:pt x="935" y="112"/>
                </a:lnTo>
                <a:lnTo>
                  <a:pt x="906" y="77"/>
                </a:lnTo>
                <a:lnTo>
                  <a:pt x="868" y="51"/>
                </a:lnTo>
                <a:lnTo>
                  <a:pt x="843" y="39"/>
                </a:lnTo>
                <a:lnTo>
                  <a:pt x="818" y="26"/>
                </a:lnTo>
                <a:lnTo>
                  <a:pt x="755" y="8"/>
                </a:lnTo>
                <a:lnTo>
                  <a:pt x="688" y="0"/>
                </a:lnTo>
                <a:lnTo>
                  <a:pt x="654" y="0"/>
                </a:lnTo>
                <a:lnTo>
                  <a:pt x="625" y="4"/>
                </a:lnTo>
                <a:lnTo>
                  <a:pt x="595" y="13"/>
                </a:lnTo>
                <a:lnTo>
                  <a:pt x="562" y="26"/>
                </a:lnTo>
                <a:lnTo>
                  <a:pt x="495" y="64"/>
                </a:lnTo>
                <a:lnTo>
                  <a:pt x="436" y="108"/>
                </a:lnTo>
                <a:lnTo>
                  <a:pt x="407" y="129"/>
                </a:lnTo>
                <a:lnTo>
                  <a:pt x="386" y="147"/>
                </a:lnTo>
                <a:lnTo>
                  <a:pt x="369" y="164"/>
                </a:lnTo>
                <a:lnTo>
                  <a:pt x="352" y="186"/>
                </a:lnTo>
                <a:lnTo>
                  <a:pt x="331" y="220"/>
                </a:lnTo>
                <a:lnTo>
                  <a:pt x="314" y="259"/>
                </a:lnTo>
                <a:lnTo>
                  <a:pt x="289" y="289"/>
                </a:lnTo>
                <a:lnTo>
                  <a:pt x="255" y="315"/>
                </a:lnTo>
                <a:lnTo>
                  <a:pt x="218" y="337"/>
                </a:lnTo>
                <a:lnTo>
                  <a:pt x="180" y="358"/>
                </a:lnTo>
                <a:lnTo>
                  <a:pt x="146" y="384"/>
                </a:lnTo>
                <a:lnTo>
                  <a:pt x="117" y="419"/>
                </a:lnTo>
                <a:lnTo>
                  <a:pt x="92" y="454"/>
                </a:lnTo>
                <a:lnTo>
                  <a:pt x="50" y="531"/>
                </a:lnTo>
                <a:lnTo>
                  <a:pt x="29" y="579"/>
                </a:lnTo>
                <a:lnTo>
                  <a:pt x="12" y="626"/>
                </a:lnTo>
                <a:lnTo>
                  <a:pt x="0" y="678"/>
                </a:lnTo>
                <a:lnTo>
                  <a:pt x="0" y="700"/>
                </a:lnTo>
                <a:lnTo>
                  <a:pt x="4" y="722"/>
                </a:lnTo>
                <a:lnTo>
                  <a:pt x="12" y="743"/>
                </a:lnTo>
                <a:lnTo>
                  <a:pt x="25" y="760"/>
                </a:lnTo>
                <a:lnTo>
                  <a:pt x="58" y="799"/>
                </a:lnTo>
                <a:lnTo>
                  <a:pt x="104" y="834"/>
                </a:lnTo>
                <a:lnTo>
                  <a:pt x="146" y="864"/>
                </a:lnTo>
                <a:lnTo>
                  <a:pt x="188" y="895"/>
                </a:lnTo>
                <a:lnTo>
                  <a:pt x="239" y="916"/>
                </a:lnTo>
                <a:lnTo>
                  <a:pt x="289" y="938"/>
                </a:lnTo>
                <a:lnTo>
                  <a:pt x="339" y="964"/>
                </a:lnTo>
                <a:lnTo>
                  <a:pt x="432" y="1011"/>
                </a:lnTo>
                <a:lnTo>
                  <a:pt x="478" y="1037"/>
                </a:lnTo>
                <a:lnTo>
                  <a:pt x="528" y="1059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76640" y="2449440"/>
            <a:ext cx="1920960" cy="1911600"/>
          </a:xfrm>
          <a:custGeom>
            <a:avLst/>
            <a:gdLst/>
            <a:ahLst/>
            <a:rect l="l" t="t" r="r" b="b"/>
            <a:pathLst>
              <a:path w="1210" h="1204">
                <a:moveTo>
                  <a:pt x="7" y="718"/>
                </a:moveTo>
                <a:lnTo>
                  <a:pt x="7" y="767"/>
                </a:lnTo>
                <a:lnTo>
                  <a:pt x="0" y="815"/>
                </a:lnTo>
                <a:lnTo>
                  <a:pt x="0" y="859"/>
                </a:lnTo>
                <a:lnTo>
                  <a:pt x="7" y="908"/>
                </a:lnTo>
                <a:lnTo>
                  <a:pt x="20" y="970"/>
                </a:lnTo>
                <a:lnTo>
                  <a:pt x="34" y="1040"/>
                </a:lnTo>
                <a:lnTo>
                  <a:pt x="62" y="1102"/>
                </a:lnTo>
                <a:lnTo>
                  <a:pt x="83" y="1128"/>
                </a:lnTo>
                <a:lnTo>
                  <a:pt x="104" y="1150"/>
                </a:lnTo>
                <a:lnTo>
                  <a:pt x="159" y="1181"/>
                </a:lnTo>
                <a:lnTo>
                  <a:pt x="236" y="1199"/>
                </a:lnTo>
                <a:lnTo>
                  <a:pt x="312" y="1203"/>
                </a:lnTo>
                <a:lnTo>
                  <a:pt x="389" y="1199"/>
                </a:lnTo>
                <a:lnTo>
                  <a:pt x="424" y="1190"/>
                </a:lnTo>
                <a:lnTo>
                  <a:pt x="458" y="1181"/>
                </a:lnTo>
                <a:lnTo>
                  <a:pt x="521" y="1150"/>
                </a:lnTo>
                <a:lnTo>
                  <a:pt x="583" y="1115"/>
                </a:lnTo>
                <a:lnTo>
                  <a:pt x="639" y="1080"/>
                </a:lnTo>
                <a:lnTo>
                  <a:pt x="695" y="1044"/>
                </a:lnTo>
                <a:lnTo>
                  <a:pt x="743" y="1005"/>
                </a:lnTo>
                <a:lnTo>
                  <a:pt x="785" y="965"/>
                </a:lnTo>
                <a:lnTo>
                  <a:pt x="841" y="930"/>
                </a:lnTo>
                <a:lnTo>
                  <a:pt x="910" y="903"/>
                </a:lnTo>
                <a:lnTo>
                  <a:pt x="994" y="881"/>
                </a:lnTo>
                <a:lnTo>
                  <a:pt x="1070" y="855"/>
                </a:lnTo>
                <a:lnTo>
                  <a:pt x="1098" y="837"/>
                </a:lnTo>
                <a:lnTo>
                  <a:pt x="1126" y="820"/>
                </a:lnTo>
                <a:lnTo>
                  <a:pt x="1167" y="767"/>
                </a:lnTo>
                <a:lnTo>
                  <a:pt x="1188" y="709"/>
                </a:lnTo>
                <a:lnTo>
                  <a:pt x="1202" y="648"/>
                </a:lnTo>
                <a:lnTo>
                  <a:pt x="1209" y="582"/>
                </a:lnTo>
                <a:lnTo>
                  <a:pt x="1202" y="520"/>
                </a:lnTo>
                <a:lnTo>
                  <a:pt x="1174" y="458"/>
                </a:lnTo>
                <a:lnTo>
                  <a:pt x="1146" y="392"/>
                </a:lnTo>
                <a:lnTo>
                  <a:pt x="1126" y="330"/>
                </a:lnTo>
                <a:lnTo>
                  <a:pt x="1119" y="269"/>
                </a:lnTo>
                <a:lnTo>
                  <a:pt x="1119" y="211"/>
                </a:lnTo>
                <a:lnTo>
                  <a:pt x="1112" y="154"/>
                </a:lnTo>
                <a:lnTo>
                  <a:pt x="1098" y="106"/>
                </a:lnTo>
                <a:lnTo>
                  <a:pt x="1063" y="66"/>
                </a:lnTo>
                <a:lnTo>
                  <a:pt x="1021" y="35"/>
                </a:lnTo>
                <a:lnTo>
                  <a:pt x="973" y="9"/>
                </a:lnTo>
                <a:lnTo>
                  <a:pt x="917" y="0"/>
                </a:lnTo>
                <a:lnTo>
                  <a:pt x="889" y="0"/>
                </a:lnTo>
                <a:lnTo>
                  <a:pt x="855" y="4"/>
                </a:lnTo>
                <a:lnTo>
                  <a:pt x="785" y="22"/>
                </a:lnTo>
                <a:lnTo>
                  <a:pt x="716" y="44"/>
                </a:lnTo>
                <a:lnTo>
                  <a:pt x="681" y="53"/>
                </a:lnTo>
                <a:lnTo>
                  <a:pt x="646" y="57"/>
                </a:lnTo>
                <a:lnTo>
                  <a:pt x="611" y="57"/>
                </a:lnTo>
                <a:lnTo>
                  <a:pt x="583" y="57"/>
                </a:lnTo>
                <a:lnTo>
                  <a:pt x="514" y="48"/>
                </a:lnTo>
                <a:lnTo>
                  <a:pt x="451" y="39"/>
                </a:lnTo>
                <a:lnTo>
                  <a:pt x="417" y="39"/>
                </a:lnTo>
                <a:lnTo>
                  <a:pt x="389" y="44"/>
                </a:lnTo>
                <a:lnTo>
                  <a:pt x="340" y="66"/>
                </a:lnTo>
                <a:lnTo>
                  <a:pt x="292" y="97"/>
                </a:lnTo>
                <a:lnTo>
                  <a:pt x="250" y="132"/>
                </a:lnTo>
                <a:lnTo>
                  <a:pt x="208" y="163"/>
                </a:lnTo>
                <a:lnTo>
                  <a:pt x="153" y="220"/>
                </a:lnTo>
                <a:lnTo>
                  <a:pt x="132" y="251"/>
                </a:lnTo>
                <a:lnTo>
                  <a:pt x="104" y="286"/>
                </a:lnTo>
                <a:lnTo>
                  <a:pt x="76" y="330"/>
                </a:lnTo>
                <a:lnTo>
                  <a:pt x="48" y="374"/>
                </a:lnTo>
                <a:lnTo>
                  <a:pt x="20" y="423"/>
                </a:lnTo>
                <a:lnTo>
                  <a:pt x="7" y="476"/>
                </a:lnTo>
                <a:lnTo>
                  <a:pt x="0" y="538"/>
                </a:lnTo>
                <a:lnTo>
                  <a:pt x="0" y="599"/>
                </a:lnTo>
                <a:lnTo>
                  <a:pt x="7" y="661"/>
                </a:lnTo>
                <a:lnTo>
                  <a:pt x="7" y="718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67040" y="3894120"/>
            <a:ext cx="15264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38440" y="2903400"/>
            <a:ext cx="15264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05280" y="3132000"/>
            <a:ext cx="15228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57560" y="366552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151080" y="3044520"/>
            <a:ext cx="2940120" cy="1673640"/>
            <a:chOff x="3151080" y="3044520"/>
            <a:chExt cx="2940120" cy="1673640"/>
          </a:xfrm>
        </p:grpSpPr>
        <p:sp>
          <p:nvSpPr>
            <p:cNvPr id="157" name=""/>
            <p:cNvSpPr/>
            <p:nvPr/>
          </p:nvSpPr>
          <p:spPr>
            <a:xfrm>
              <a:off x="4662360" y="3289320"/>
              <a:ext cx="1428840" cy="14288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986280" y="3973680"/>
              <a:ext cx="1278000" cy="7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3347640" y="3730680"/>
              <a:ext cx="1908360" cy="226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3151080" y="3246480"/>
              <a:ext cx="2105280" cy="682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3654360" y="3044520"/>
              <a:ext cx="1602000" cy="855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5292720" y="3502080"/>
              <a:ext cx="7128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12480" y="3946680"/>
              <a:ext cx="141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fe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173400" y="2343240"/>
            <a:ext cx="3343320" cy="1990800"/>
            <a:chOff x="3173400" y="2343240"/>
            <a:chExt cx="3343320" cy="1990800"/>
          </a:xfrm>
        </p:grpSpPr>
        <p:sp>
          <p:nvSpPr>
            <p:cNvPr id="165" name=""/>
            <p:cNvSpPr/>
            <p:nvPr/>
          </p:nvSpPr>
          <p:spPr>
            <a:xfrm>
              <a:off x="5024520" y="2343240"/>
              <a:ext cx="1492200" cy="14922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12480" y="3940200"/>
              <a:ext cx="141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fe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723840" y="2975040"/>
              <a:ext cx="1925640" cy="84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173400" y="3103560"/>
              <a:ext cx="2471760" cy="77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325320" y="3116160"/>
              <a:ext cx="2319480" cy="573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909960" y="3135240"/>
              <a:ext cx="1741680" cy="731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40280" y="3166920"/>
              <a:ext cx="27468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504520" y="2443320"/>
            <a:ext cx="1494720" cy="1933560"/>
            <a:chOff x="2504520" y="2443320"/>
            <a:chExt cx="1494720" cy="1933560"/>
          </a:xfrm>
        </p:grpSpPr>
        <p:sp>
          <p:nvSpPr>
            <p:cNvPr id="173" name=""/>
            <p:cNvSpPr/>
            <p:nvPr/>
          </p:nvSpPr>
          <p:spPr>
            <a:xfrm>
              <a:off x="3470040" y="2443320"/>
              <a:ext cx="52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04520" y="2741760"/>
              <a:ext cx="52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69760" y="3516480"/>
              <a:ext cx="52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18920" y="3871800"/>
              <a:ext cx="52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649520" y="2444760"/>
            <a:ext cx="5897520" cy="3614400"/>
            <a:chOff x="1649520" y="2444760"/>
            <a:chExt cx="5897520" cy="3614400"/>
          </a:xfrm>
        </p:grpSpPr>
        <p:sp>
          <p:nvSpPr>
            <p:cNvPr id="178" name=""/>
            <p:cNvSpPr/>
            <p:nvPr/>
          </p:nvSpPr>
          <p:spPr>
            <a:xfrm>
              <a:off x="1649520" y="4772160"/>
              <a:ext cx="5897520" cy="12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quired receive power 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X_mi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determined with help of respective 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noise leve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06320" y="2444760"/>
              <a:ext cx="1494360" cy="1933920"/>
              <a:chOff x="2506320" y="2444760"/>
              <a:chExt cx="1494360" cy="1933920"/>
            </a:xfrm>
          </p:grpSpPr>
          <p:sp>
            <p:nvSpPr>
              <p:cNvPr id="180" name=""/>
              <p:cNvSpPr/>
              <p:nvPr/>
            </p:nvSpPr>
            <p:spPr>
              <a:xfrm>
                <a:off x="3471480" y="2444760"/>
                <a:ext cx="5292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R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06320" y="2743200"/>
                <a:ext cx="5292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R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671560" y="3517920"/>
                <a:ext cx="5292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R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420720" y="3873600"/>
                <a:ext cx="5292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R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756600" y="2825640"/>
              <a:ext cx="6372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X_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59720" y="3092400"/>
              <a:ext cx="6372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X_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86440" y="3575160"/>
              <a:ext cx="6372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X_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70720" y="3892680"/>
              <a:ext cx="6372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X_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A2F-F438-4A48-974B-07C6D83D353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Loop TPC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 transmit power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x_m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G [dB]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 = RSSI -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dB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ic Complexity O(N)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 STAs to determine N·(N-1) power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A determines N-1 e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complexity compared to a individual request-reply scheme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s with power save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F44-BD7F-4583-AEDA-D9B066ECC0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acy STA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Loop T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183-23D7-49F5-B3F6-9B440BDC83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acy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enabled STAs sends special TPC information in Beacon and other frames. Legacy STA don’t send such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F0B-0F58-45A4-8D48-705A1E8078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acy STA hand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55760" y="1862280"/>
            <a:ext cx="3078360" cy="30733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2160" y="1832040"/>
            <a:ext cx="7766280" cy="45655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3124080"/>
            <a:ext cx="15264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46960" y="5410080"/>
            <a:ext cx="1842840" cy="9907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37600" y="5310360"/>
            <a:ext cx="1181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27480" y="5618160"/>
            <a:ext cx="960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75480" y="579132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6083280"/>
            <a:ext cx="177480" cy="17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08" y="21593"/>
                </a:moveTo>
                <a:arcTo wR="10800" hR="10800" stAng="5524954" swAng="5275046"/>
                <a:lnTo>
                  <a:pt x="10800" y="10800"/>
                </a:lnTo>
                <a:close/>
              </a:path>
              <a:path fill="none" w="21600" h="21600">
                <a:moveTo>
                  <a:pt x="10408" y="21593"/>
                </a:moveTo>
                <a:arcTo wR="10800" hR="10800" stAng="5524954" swAng="5275046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7080" y="1828800"/>
            <a:ext cx="82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3809880"/>
            <a:ext cx="15228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8440" y="2827440"/>
            <a:ext cx="15264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281952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57560" y="358920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10080"/>
            <a:ext cx="58975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TA detecting a legacy STA uses max allowed transmit pow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TA indicate detection of a legacy STA by settin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X_M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ma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s within own (I)BSS hearing Beacon with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X_M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s maximum allowed transmit pow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26000" y="2135160"/>
            <a:ext cx="8564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1747440" y="2433600"/>
            <a:ext cx="1382760" cy="1154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2190600"/>
            <a:ext cx="2971800" cy="297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1040" y="3014640"/>
            <a:ext cx="93276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595520" y="3208320"/>
            <a:ext cx="23976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82920" y="4268880"/>
            <a:ext cx="18608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PC enabled 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X_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652920" y="4046400"/>
            <a:ext cx="239760" cy="29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2438280"/>
            <a:ext cx="2971800" cy="29718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649760"/>
            <a:ext cx="18928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PC STA Bea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9400" y="4732200"/>
            <a:ext cx="290520" cy="61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871520" y="2827440"/>
            <a:ext cx="1001880" cy="36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66200" y="2516040"/>
            <a:ext cx="252396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hears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X_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 max transmit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22400" y="2657520"/>
            <a:ext cx="2133720" cy="1549440"/>
          </a:xfrm>
          <a:custGeom>
            <a:avLst/>
            <a:gdLst/>
            <a:ahLst/>
            <a:rect l="l" t="t" r="r" b="b"/>
            <a:pathLst>
              <a:path w="1344" h="976">
                <a:moveTo>
                  <a:pt x="429" y="4"/>
                </a:moveTo>
                <a:lnTo>
                  <a:pt x="369" y="9"/>
                </a:lnTo>
                <a:lnTo>
                  <a:pt x="304" y="17"/>
                </a:lnTo>
                <a:lnTo>
                  <a:pt x="244" y="30"/>
                </a:lnTo>
                <a:lnTo>
                  <a:pt x="189" y="55"/>
                </a:lnTo>
                <a:lnTo>
                  <a:pt x="145" y="89"/>
                </a:lnTo>
                <a:lnTo>
                  <a:pt x="105" y="140"/>
                </a:lnTo>
                <a:lnTo>
                  <a:pt x="75" y="191"/>
                </a:lnTo>
                <a:lnTo>
                  <a:pt x="45" y="246"/>
                </a:lnTo>
                <a:lnTo>
                  <a:pt x="25" y="301"/>
                </a:lnTo>
                <a:lnTo>
                  <a:pt x="10" y="365"/>
                </a:lnTo>
                <a:lnTo>
                  <a:pt x="5" y="428"/>
                </a:lnTo>
                <a:lnTo>
                  <a:pt x="0" y="488"/>
                </a:lnTo>
                <a:lnTo>
                  <a:pt x="5" y="547"/>
                </a:lnTo>
                <a:lnTo>
                  <a:pt x="15" y="610"/>
                </a:lnTo>
                <a:lnTo>
                  <a:pt x="30" y="670"/>
                </a:lnTo>
                <a:lnTo>
                  <a:pt x="45" y="725"/>
                </a:lnTo>
                <a:lnTo>
                  <a:pt x="55" y="780"/>
                </a:lnTo>
                <a:lnTo>
                  <a:pt x="65" y="835"/>
                </a:lnTo>
                <a:lnTo>
                  <a:pt x="80" y="882"/>
                </a:lnTo>
                <a:lnTo>
                  <a:pt x="95" y="920"/>
                </a:lnTo>
                <a:lnTo>
                  <a:pt x="115" y="941"/>
                </a:lnTo>
                <a:lnTo>
                  <a:pt x="135" y="954"/>
                </a:lnTo>
                <a:lnTo>
                  <a:pt x="160" y="962"/>
                </a:lnTo>
                <a:lnTo>
                  <a:pt x="189" y="967"/>
                </a:lnTo>
                <a:lnTo>
                  <a:pt x="254" y="975"/>
                </a:lnTo>
                <a:lnTo>
                  <a:pt x="334" y="967"/>
                </a:lnTo>
                <a:lnTo>
                  <a:pt x="379" y="958"/>
                </a:lnTo>
                <a:lnTo>
                  <a:pt x="424" y="941"/>
                </a:lnTo>
                <a:lnTo>
                  <a:pt x="474" y="928"/>
                </a:lnTo>
                <a:lnTo>
                  <a:pt x="524" y="920"/>
                </a:lnTo>
                <a:lnTo>
                  <a:pt x="584" y="920"/>
                </a:lnTo>
                <a:lnTo>
                  <a:pt x="644" y="920"/>
                </a:lnTo>
                <a:lnTo>
                  <a:pt x="709" y="924"/>
                </a:lnTo>
                <a:lnTo>
                  <a:pt x="764" y="920"/>
                </a:lnTo>
                <a:lnTo>
                  <a:pt x="814" y="903"/>
                </a:lnTo>
                <a:lnTo>
                  <a:pt x="859" y="882"/>
                </a:lnTo>
                <a:lnTo>
                  <a:pt x="904" y="856"/>
                </a:lnTo>
                <a:lnTo>
                  <a:pt x="958" y="822"/>
                </a:lnTo>
                <a:lnTo>
                  <a:pt x="993" y="805"/>
                </a:lnTo>
                <a:lnTo>
                  <a:pt x="1028" y="784"/>
                </a:lnTo>
                <a:lnTo>
                  <a:pt x="1108" y="738"/>
                </a:lnTo>
                <a:lnTo>
                  <a:pt x="1188" y="687"/>
                </a:lnTo>
                <a:lnTo>
                  <a:pt x="1218" y="661"/>
                </a:lnTo>
                <a:lnTo>
                  <a:pt x="1248" y="632"/>
                </a:lnTo>
                <a:lnTo>
                  <a:pt x="1268" y="598"/>
                </a:lnTo>
                <a:lnTo>
                  <a:pt x="1288" y="564"/>
                </a:lnTo>
                <a:lnTo>
                  <a:pt x="1318" y="488"/>
                </a:lnTo>
                <a:lnTo>
                  <a:pt x="1338" y="411"/>
                </a:lnTo>
                <a:lnTo>
                  <a:pt x="1343" y="377"/>
                </a:lnTo>
                <a:lnTo>
                  <a:pt x="1343" y="343"/>
                </a:lnTo>
                <a:lnTo>
                  <a:pt x="1333" y="288"/>
                </a:lnTo>
                <a:lnTo>
                  <a:pt x="1313" y="233"/>
                </a:lnTo>
                <a:lnTo>
                  <a:pt x="1283" y="191"/>
                </a:lnTo>
                <a:lnTo>
                  <a:pt x="1248" y="149"/>
                </a:lnTo>
                <a:lnTo>
                  <a:pt x="1208" y="119"/>
                </a:lnTo>
                <a:lnTo>
                  <a:pt x="1168" y="93"/>
                </a:lnTo>
                <a:lnTo>
                  <a:pt x="1118" y="72"/>
                </a:lnTo>
                <a:lnTo>
                  <a:pt x="1053" y="55"/>
                </a:lnTo>
                <a:lnTo>
                  <a:pt x="1013" y="47"/>
                </a:lnTo>
                <a:lnTo>
                  <a:pt x="968" y="38"/>
                </a:lnTo>
                <a:lnTo>
                  <a:pt x="864" y="26"/>
                </a:lnTo>
                <a:lnTo>
                  <a:pt x="759" y="13"/>
                </a:lnTo>
                <a:lnTo>
                  <a:pt x="714" y="9"/>
                </a:lnTo>
                <a:lnTo>
                  <a:pt x="669" y="4"/>
                </a:lnTo>
                <a:lnTo>
                  <a:pt x="599" y="0"/>
                </a:lnTo>
                <a:lnTo>
                  <a:pt x="539" y="0"/>
                </a:lnTo>
                <a:lnTo>
                  <a:pt x="484" y="0"/>
                </a:lnTo>
                <a:lnTo>
                  <a:pt x="429" y="4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4A8-C290-41AB-9303-612C2A5F28E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state diagr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acy STA hand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49560" y="2968560"/>
            <a:ext cx="987480" cy="9874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26960" y="3019320"/>
            <a:ext cx="806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45000" y="2968560"/>
            <a:ext cx="987480" cy="9874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71720" y="3019320"/>
            <a:ext cx="806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40440" y="2968560"/>
            <a:ext cx="987480" cy="9874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96160" y="3019320"/>
            <a:ext cx="11217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of ma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6096960" y="3198600"/>
            <a:ext cx="415800" cy="41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131" y="2051"/>
                </a:moveTo>
                <a:arcTo wR="10800" hR="10800" stAng="-3246534" swAng="17084636"/>
                <a:lnTo>
                  <a:pt x="10800" y="10800"/>
                </a:lnTo>
                <a:close/>
              </a:path>
              <a:path fill="none" w="21600" h="21600">
                <a:moveTo>
                  <a:pt x="17131" y="2051"/>
                </a:moveTo>
                <a:arcTo wR="10800" hR="10800" stAng="-3246534" swAng="17084636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4680360" y="2788200"/>
            <a:ext cx="415800" cy="77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02" y="248"/>
                </a:moveTo>
                <a:arcTo wR="10800" hR="10800" stAng="-4661481" swAng="9073041"/>
                <a:lnTo>
                  <a:pt x="10800" y="10800"/>
                </a:lnTo>
                <a:close/>
              </a:path>
              <a:path fill="none" w="21600" h="21600">
                <a:moveTo>
                  <a:pt x="13102" y="248"/>
                </a:moveTo>
                <a:arcTo wR="10800" hR="10800" stAng="-4661481" swAng="9073041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4677120" y="3351960"/>
            <a:ext cx="415800" cy="7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10" y="21332"/>
                </a:moveTo>
                <a:arcTo wR="10800" hR="10800" stAng="6167141" swAng="9023277"/>
                <a:lnTo>
                  <a:pt x="10800" y="10800"/>
                </a:lnTo>
                <a:close/>
              </a:path>
              <a:path fill="none" w="21600" h="21600">
                <a:moveTo>
                  <a:pt x="8410" y="21332"/>
                </a:moveTo>
                <a:arcTo wR="10800" hR="10800" stAng="6167141" swAng="902327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184920" y="2802600"/>
            <a:ext cx="415800" cy="77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02" y="248"/>
                </a:moveTo>
                <a:arcTo wR="10800" hR="10800" stAng="-4661481" swAng="9073041"/>
                <a:lnTo>
                  <a:pt x="10800" y="10800"/>
                </a:lnTo>
                <a:close/>
              </a:path>
              <a:path fill="none" w="21600" h="21600">
                <a:moveTo>
                  <a:pt x="13102" y="248"/>
                </a:moveTo>
                <a:arcTo wR="10800" hR="10800" stAng="-4661481" swAng="9073041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3182040" y="3353400"/>
            <a:ext cx="415080" cy="7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10" y="21332"/>
                </a:moveTo>
                <a:arcTo wR="10800" hR="10800" stAng="6167141" swAng="9023277"/>
                <a:lnTo>
                  <a:pt x="10800" y="10800"/>
                </a:lnTo>
                <a:close/>
              </a:path>
              <a:path fill="none" w="21600" h="21600">
                <a:moveTo>
                  <a:pt x="8410" y="21332"/>
                </a:moveTo>
                <a:arcTo wR="10800" hR="10800" stAng="6167141" swAng="902327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15480" y="3940920"/>
            <a:ext cx="14889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detec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c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y legacy 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set tim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85640" y="3940920"/>
            <a:ext cx="17024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c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mission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y legacy 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set timer 1&amp;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43720" y="2502720"/>
            <a:ext cx="82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78760" y="2502720"/>
            <a:ext cx="82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82880" y="2899440"/>
            <a:ext cx="17024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c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mission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y legacy 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set timer 1&amp;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09C-9801-4080-963B-E7B18CFC9C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Loop TPC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)BSS Group T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TS, CTS, 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DATA frames shorter than dot11RTSThresh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cast/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cast setting (opt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ACK in a frame exchange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8BC-8E78-40E1-B32E-DDCE25D414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)BSS Group TPC Philoso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annel is seen as one resource in an (I)B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odes within the (I)BSS should be reached with both RTS and 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: Physical carrier sense desirable for both RTS and CTS in the whole (I)B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or in adjacent (I)BSS should preferably not be acquired un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generating high interference (peak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C2B-51A6-45C4-BAC5-2D9E7F09F2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BSS Group TPC de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 power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( max(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.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device TP lim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.B. 3 dB mitigation factor shall be catered for. Shall be ensured that the device transmit power limit can be used for shorter time for maximum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B45-2877-43C4-80EB-3138E8AFDB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ion of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s and MS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&amp; 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D13-FD4E-424E-A85A-E29C726D08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)BSS Group T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22640" y="1963800"/>
            <a:ext cx="2425680" cy="30733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9040" y="1832040"/>
            <a:ext cx="7765920" cy="45655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3480" y="5410080"/>
            <a:ext cx="1843200" cy="9907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04120" y="5310360"/>
            <a:ext cx="1181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94000" y="5618160"/>
            <a:ext cx="960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42000" y="5791320"/>
            <a:ext cx="15264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72240" y="6083280"/>
            <a:ext cx="177480" cy="17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08" y="21593"/>
                </a:moveTo>
                <a:arcTo wR="10800" hR="10800" stAng="5524954" swAng="5275046"/>
                <a:lnTo>
                  <a:pt x="10800" y="10800"/>
                </a:lnTo>
                <a:close/>
              </a:path>
              <a:path fill="none" w="21600" h="21600">
                <a:moveTo>
                  <a:pt x="10408" y="21593"/>
                </a:moveTo>
                <a:arcTo wR="10800" hR="10800" stAng="5524954" swAng="5275046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2000" y="21607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09920" y="2540160"/>
            <a:ext cx="1608120" cy="1761840"/>
          </a:xfrm>
          <a:custGeom>
            <a:avLst/>
            <a:gdLst/>
            <a:ahLst/>
            <a:rect l="l" t="t" r="r" b="b"/>
            <a:pathLst>
              <a:path w="1013" h="1110">
                <a:moveTo>
                  <a:pt x="529" y="1061"/>
                </a:moveTo>
                <a:lnTo>
                  <a:pt x="587" y="1079"/>
                </a:lnTo>
                <a:lnTo>
                  <a:pt x="650" y="1096"/>
                </a:lnTo>
                <a:lnTo>
                  <a:pt x="712" y="1109"/>
                </a:lnTo>
                <a:lnTo>
                  <a:pt x="770" y="1109"/>
                </a:lnTo>
                <a:lnTo>
                  <a:pt x="824" y="1096"/>
                </a:lnTo>
                <a:lnTo>
                  <a:pt x="879" y="1075"/>
                </a:lnTo>
                <a:lnTo>
                  <a:pt x="924" y="1044"/>
                </a:lnTo>
                <a:lnTo>
                  <a:pt x="945" y="1027"/>
                </a:lnTo>
                <a:lnTo>
                  <a:pt x="962" y="1014"/>
                </a:lnTo>
                <a:lnTo>
                  <a:pt x="987" y="983"/>
                </a:lnTo>
                <a:lnTo>
                  <a:pt x="1008" y="944"/>
                </a:lnTo>
                <a:lnTo>
                  <a:pt x="1012" y="909"/>
                </a:lnTo>
                <a:lnTo>
                  <a:pt x="1012" y="870"/>
                </a:lnTo>
                <a:lnTo>
                  <a:pt x="1008" y="853"/>
                </a:lnTo>
                <a:lnTo>
                  <a:pt x="995" y="835"/>
                </a:lnTo>
                <a:lnTo>
                  <a:pt x="970" y="801"/>
                </a:lnTo>
                <a:lnTo>
                  <a:pt x="941" y="761"/>
                </a:lnTo>
                <a:lnTo>
                  <a:pt x="916" y="727"/>
                </a:lnTo>
                <a:lnTo>
                  <a:pt x="899" y="692"/>
                </a:lnTo>
                <a:lnTo>
                  <a:pt x="883" y="657"/>
                </a:lnTo>
                <a:lnTo>
                  <a:pt x="870" y="622"/>
                </a:lnTo>
                <a:lnTo>
                  <a:pt x="866" y="583"/>
                </a:lnTo>
                <a:lnTo>
                  <a:pt x="870" y="540"/>
                </a:lnTo>
                <a:lnTo>
                  <a:pt x="887" y="487"/>
                </a:lnTo>
                <a:lnTo>
                  <a:pt x="899" y="440"/>
                </a:lnTo>
                <a:lnTo>
                  <a:pt x="916" y="387"/>
                </a:lnTo>
                <a:lnTo>
                  <a:pt x="933" y="340"/>
                </a:lnTo>
                <a:lnTo>
                  <a:pt x="949" y="292"/>
                </a:lnTo>
                <a:lnTo>
                  <a:pt x="962" y="240"/>
                </a:lnTo>
                <a:lnTo>
                  <a:pt x="962" y="218"/>
                </a:lnTo>
                <a:lnTo>
                  <a:pt x="962" y="196"/>
                </a:lnTo>
                <a:lnTo>
                  <a:pt x="953" y="153"/>
                </a:lnTo>
                <a:lnTo>
                  <a:pt x="933" y="113"/>
                </a:lnTo>
                <a:lnTo>
                  <a:pt x="903" y="79"/>
                </a:lnTo>
                <a:lnTo>
                  <a:pt x="866" y="53"/>
                </a:lnTo>
                <a:lnTo>
                  <a:pt x="845" y="39"/>
                </a:lnTo>
                <a:lnTo>
                  <a:pt x="816" y="31"/>
                </a:lnTo>
                <a:lnTo>
                  <a:pt x="758" y="9"/>
                </a:lnTo>
                <a:lnTo>
                  <a:pt x="691" y="0"/>
                </a:lnTo>
                <a:lnTo>
                  <a:pt x="658" y="0"/>
                </a:lnTo>
                <a:lnTo>
                  <a:pt x="629" y="5"/>
                </a:lnTo>
                <a:lnTo>
                  <a:pt x="596" y="13"/>
                </a:lnTo>
                <a:lnTo>
                  <a:pt x="562" y="26"/>
                </a:lnTo>
                <a:lnTo>
                  <a:pt x="496" y="66"/>
                </a:lnTo>
                <a:lnTo>
                  <a:pt x="437" y="109"/>
                </a:lnTo>
                <a:lnTo>
                  <a:pt x="408" y="131"/>
                </a:lnTo>
                <a:lnTo>
                  <a:pt x="387" y="148"/>
                </a:lnTo>
                <a:lnTo>
                  <a:pt x="367" y="166"/>
                </a:lnTo>
                <a:lnTo>
                  <a:pt x="354" y="187"/>
                </a:lnTo>
                <a:lnTo>
                  <a:pt x="333" y="222"/>
                </a:lnTo>
                <a:lnTo>
                  <a:pt x="313" y="261"/>
                </a:lnTo>
                <a:lnTo>
                  <a:pt x="292" y="292"/>
                </a:lnTo>
                <a:lnTo>
                  <a:pt x="258" y="318"/>
                </a:lnTo>
                <a:lnTo>
                  <a:pt x="221" y="340"/>
                </a:lnTo>
                <a:lnTo>
                  <a:pt x="179" y="361"/>
                </a:lnTo>
                <a:lnTo>
                  <a:pt x="146" y="387"/>
                </a:lnTo>
                <a:lnTo>
                  <a:pt x="92" y="457"/>
                </a:lnTo>
                <a:lnTo>
                  <a:pt x="50" y="531"/>
                </a:lnTo>
                <a:lnTo>
                  <a:pt x="30" y="579"/>
                </a:lnTo>
                <a:lnTo>
                  <a:pt x="13" y="631"/>
                </a:lnTo>
                <a:lnTo>
                  <a:pt x="0" y="679"/>
                </a:lnTo>
                <a:lnTo>
                  <a:pt x="0" y="705"/>
                </a:lnTo>
                <a:lnTo>
                  <a:pt x="5" y="727"/>
                </a:lnTo>
                <a:lnTo>
                  <a:pt x="13" y="748"/>
                </a:lnTo>
                <a:lnTo>
                  <a:pt x="25" y="766"/>
                </a:lnTo>
                <a:lnTo>
                  <a:pt x="59" y="805"/>
                </a:lnTo>
                <a:lnTo>
                  <a:pt x="104" y="840"/>
                </a:lnTo>
                <a:lnTo>
                  <a:pt x="146" y="870"/>
                </a:lnTo>
                <a:lnTo>
                  <a:pt x="192" y="896"/>
                </a:lnTo>
                <a:lnTo>
                  <a:pt x="242" y="918"/>
                </a:lnTo>
                <a:lnTo>
                  <a:pt x="288" y="940"/>
                </a:lnTo>
                <a:lnTo>
                  <a:pt x="337" y="966"/>
                </a:lnTo>
                <a:lnTo>
                  <a:pt x="387" y="992"/>
                </a:lnTo>
                <a:lnTo>
                  <a:pt x="433" y="1014"/>
                </a:lnTo>
                <a:lnTo>
                  <a:pt x="479" y="1040"/>
                </a:lnTo>
                <a:lnTo>
                  <a:pt x="529" y="1061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33920" y="391968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5320" y="292896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315756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3691080"/>
            <a:ext cx="15264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610000" y="2793960"/>
            <a:ext cx="2393640" cy="2394000"/>
            <a:chOff x="2610000" y="2793960"/>
            <a:chExt cx="2393640" cy="2394000"/>
          </a:xfrm>
        </p:grpSpPr>
        <p:sp>
          <p:nvSpPr>
            <p:cNvPr id="260" name=""/>
            <p:cNvSpPr/>
            <p:nvPr/>
          </p:nvSpPr>
          <p:spPr>
            <a:xfrm flipH="1" flipV="1">
              <a:off x="3304800" y="3789360"/>
              <a:ext cx="4143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10000" y="2793960"/>
              <a:ext cx="2393640" cy="23940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81600" y="3865680"/>
              <a:ext cx="73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254320" y="2819520"/>
            <a:ext cx="1886040" cy="1885680"/>
            <a:chOff x="2254320" y="2819520"/>
            <a:chExt cx="1886040" cy="1885680"/>
          </a:xfrm>
        </p:grpSpPr>
        <p:sp>
          <p:nvSpPr>
            <p:cNvPr id="264" name=""/>
            <p:cNvSpPr/>
            <p:nvPr/>
          </p:nvSpPr>
          <p:spPr>
            <a:xfrm>
              <a:off x="2254320" y="2819520"/>
              <a:ext cx="1886040" cy="1885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3317400" y="3789360"/>
              <a:ext cx="4143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94200" y="3865680"/>
              <a:ext cx="73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151080" y="1963800"/>
            <a:ext cx="3846600" cy="3073320"/>
            <a:chOff x="3151080" y="1963800"/>
            <a:chExt cx="3846600" cy="3073320"/>
          </a:xfrm>
        </p:grpSpPr>
        <p:sp>
          <p:nvSpPr>
            <p:cNvPr id="268" name=""/>
            <p:cNvSpPr/>
            <p:nvPr/>
          </p:nvSpPr>
          <p:spPr>
            <a:xfrm>
              <a:off x="4648320" y="1963800"/>
              <a:ext cx="2349360" cy="307332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89400" y="3346560"/>
              <a:ext cx="152640" cy="1522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56360" y="3917880"/>
              <a:ext cx="152280" cy="15264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94440" y="3537000"/>
              <a:ext cx="152280" cy="1522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61040" y="2984400"/>
              <a:ext cx="152280" cy="15264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04320" y="2160720"/>
              <a:ext cx="1053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BSS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38680" y="3005280"/>
              <a:ext cx="152640" cy="1522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41720" y="2470320"/>
              <a:ext cx="1922760" cy="1915920"/>
            </a:xfrm>
            <a:custGeom>
              <a:avLst/>
              <a:gdLst/>
              <a:ahLst/>
              <a:rect l="l" t="t" r="r" b="b"/>
              <a:pathLst>
                <a:path w="1211" h="1207">
                  <a:moveTo>
                    <a:pt x="6" y="723"/>
                  </a:moveTo>
                  <a:lnTo>
                    <a:pt x="6" y="772"/>
                  </a:lnTo>
                  <a:lnTo>
                    <a:pt x="0" y="820"/>
                  </a:lnTo>
                  <a:lnTo>
                    <a:pt x="0" y="865"/>
                  </a:lnTo>
                  <a:lnTo>
                    <a:pt x="6" y="914"/>
                  </a:lnTo>
                  <a:lnTo>
                    <a:pt x="13" y="940"/>
                  </a:lnTo>
                  <a:lnTo>
                    <a:pt x="20" y="976"/>
                  </a:lnTo>
                  <a:lnTo>
                    <a:pt x="34" y="1042"/>
                  </a:lnTo>
                  <a:lnTo>
                    <a:pt x="62" y="1104"/>
                  </a:lnTo>
                  <a:lnTo>
                    <a:pt x="83" y="1131"/>
                  </a:lnTo>
                  <a:lnTo>
                    <a:pt x="103" y="1153"/>
                  </a:lnTo>
                  <a:lnTo>
                    <a:pt x="159" y="1184"/>
                  </a:lnTo>
                  <a:lnTo>
                    <a:pt x="235" y="1202"/>
                  </a:lnTo>
                  <a:lnTo>
                    <a:pt x="311" y="1206"/>
                  </a:lnTo>
                  <a:lnTo>
                    <a:pt x="387" y="1202"/>
                  </a:lnTo>
                  <a:lnTo>
                    <a:pt x="421" y="1193"/>
                  </a:lnTo>
                  <a:lnTo>
                    <a:pt x="456" y="1184"/>
                  </a:lnTo>
                  <a:lnTo>
                    <a:pt x="518" y="1153"/>
                  </a:lnTo>
                  <a:lnTo>
                    <a:pt x="581" y="1117"/>
                  </a:lnTo>
                  <a:lnTo>
                    <a:pt x="643" y="1082"/>
                  </a:lnTo>
                  <a:lnTo>
                    <a:pt x="698" y="1047"/>
                  </a:lnTo>
                  <a:lnTo>
                    <a:pt x="740" y="1011"/>
                  </a:lnTo>
                  <a:lnTo>
                    <a:pt x="788" y="971"/>
                  </a:lnTo>
                  <a:lnTo>
                    <a:pt x="843" y="936"/>
                  </a:lnTo>
                  <a:lnTo>
                    <a:pt x="913" y="909"/>
                  </a:lnTo>
                  <a:lnTo>
                    <a:pt x="996" y="882"/>
                  </a:lnTo>
                  <a:lnTo>
                    <a:pt x="1072" y="856"/>
                  </a:lnTo>
                  <a:lnTo>
                    <a:pt x="1099" y="838"/>
                  </a:lnTo>
                  <a:lnTo>
                    <a:pt x="1127" y="820"/>
                  </a:lnTo>
                  <a:lnTo>
                    <a:pt x="1168" y="772"/>
                  </a:lnTo>
                  <a:lnTo>
                    <a:pt x="1189" y="710"/>
                  </a:lnTo>
                  <a:lnTo>
                    <a:pt x="1203" y="647"/>
                  </a:lnTo>
                  <a:lnTo>
                    <a:pt x="1210" y="585"/>
                  </a:lnTo>
                  <a:lnTo>
                    <a:pt x="1203" y="523"/>
                  </a:lnTo>
                  <a:lnTo>
                    <a:pt x="1175" y="461"/>
                  </a:lnTo>
                  <a:lnTo>
                    <a:pt x="1148" y="399"/>
                  </a:lnTo>
                  <a:lnTo>
                    <a:pt x="1127" y="337"/>
                  </a:lnTo>
                  <a:lnTo>
                    <a:pt x="1120" y="275"/>
                  </a:lnTo>
                  <a:lnTo>
                    <a:pt x="1120" y="213"/>
                  </a:lnTo>
                  <a:lnTo>
                    <a:pt x="1113" y="155"/>
                  </a:lnTo>
                  <a:lnTo>
                    <a:pt x="1099" y="107"/>
                  </a:lnTo>
                  <a:lnTo>
                    <a:pt x="1065" y="71"/>
                  </a:lnTo>
                  <a:lnTo>
                    <a:pt x="1023" y="36"/>
                  </a:lnTo>
                  <a:lnTo>
                    <a:pt x="975" y="13"/>
                  </a:lnTo>
                  <a:lnTo>
                    <a:pt x="919" y="0"/>
                  </a:lnTo>
                  <a:lnTo>
                    <a:pt x="892" y="0"/>
                  </a:lnTo>
                  <a:lnTo>
                    <a:pt x="857" y="5"/>
                  </a:lnTo>
                  <a:lnTo>
                    <a:pt x="788" y="22"/>
                  </a:lnTo>
                  <a:lnTo>
                    <a:pt x="719" y="45"/>
                  </a:lnTo>
                  <a:lnTo>
                    <a:pt x="684" y="53"/>
                  </a:lnTo>
                  <a:lnTo>
                    <a:pt x="650" y="58"/>
                  </a:lnTo>
                  <a:lnTo>
                    <a:pt x="581" y="58"/>
                  </a:lnTo>
                  <a:lnTo>
                    <a:pt x="511" y="49"/>
                  </a:lnTo>
                  <a:lnTo>
                    <a:pt x="449" y="45"/>
                  </a:lnTo>
                  <a:lnTo>
                    <a:pt x="421" y="45"/>
                  </a:lnTo>
                  <a:lnTo>
                    <a:pt x="394" y="49"/>
                  </a:lnTo>
                  <a:lnTo>
                    <a:pt x="338" y="71"/>
                  </a:lnTo>
                  <a:lnTo>
                    <a:pt x="297" y="98"/>
                  </a:lnTo>
                  <a:lnTo>
                    <a:pt x="255" y="133"/>
                  </a:lnTo>
                  <a:lnTo>
                    <a:pt x="214" y="164"/>
                  </a:lnTo>
                  <a:lnTo>
                    <a:pt x="179" y="195"/>
                  </a:lnTo>
                  <a:lnTo>
                    <a:pt x="152" y="222"/>
                  </a:lnTo>
                  <a:lnTo>
                    <a:pt x="131" y="253"/>
                  </a:lnTo>
                  <a:lnTo>
                    <a:pt x="103" y="288"/>
                  </a:lnTo>
                  <a:lnTo>
                    <a:pt x="76" y="333"/>
                  </a:lnTo>
                  <a:lnTo>
                    <a:pt x="48" y="377"/>
                  </a:lnTo>
                  <a:lnTo>
                    <a:pt x="20" y="426"/>
                  </a:lnTo>
                  <a:lnTo>
                    <a:pt x="6" y="479"/>
                  </a:lnTo>
                  <a:lnTo>
                    <a:pt x="0" y="537"/>
                  </a:lnTo>
                  <a:lnTo>
                    <a:pt x="0" y="603"/>
                  </a:lnTo>
                  <a:lnTo>
                    <a:pt x="6" y="665"/>
                  </a:lnTo>
                  <a:lnTo>
                    <a:pt x="6" y="7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3151080" y="3044520"/>
              <a:ext cx="2940120" cy="1673640"/>
              <a:chOff x="3151080" y="3044520"/>
              <a:chExt cx="2940120" cy="1673640"/>
            </a:xfrm>
          </p:grpSpPr>
          <p:sp>
            <p:nvSpPr>
              <p:cNvPr id="277" name=""/>
              <p:cNvSpPr/>
              <p:nvPr/>
            </p:nvSpPr>
            <p:spPr>
              <a:xfrm>
                <a:off x="4662360" y="3289320"/>
                <a:ext cx="1428840" cy="1428840"/>
              </a:xfrm>
              <a:prstGeom prst="ellipse">
                <a:avLst/>
              </a:prstGeom>
              <a:noFill/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3986280" y="3973680"/>
                <a:ext cx="127800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3347640" y="3730680"/>
                <a:ext cx="1908360" cy="22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3151080" y="3246480"/>
                <a:ext cx="2105280" cy="68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>
                <a:off x="3654360" y="3044520"/>
                <a:ext cx="1602000" cy="85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flipV="1">
                <a:off x="5292720" y="3502080"/>
                <a:ext cx="71280" cy="36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12480" y="3946680"/>
                <a:ext cx="14130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fer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822240" y="1963800"/>
            <a:ext cx="6175440" cy="4556880"/>
            <a:chOff x="822240" y="1963800"/>
            <a:chExt cx="6175440" cy="4556880"/>
          </a:xfrm>
        </p:grpSpPr>
        <p:grpSp>
          <p:nvGrpSpPr>
            <p:cNvPr id="285" name=""/>
            <p:cNvGrpSpPr/>
            <p:nvPr/>
          </p:nvGrpSpPr>
          <p:grpSpPr>
            <a:xfrm>
              <a:off x="3151080" y="1963800"/>
              <a:ext cx="3846600" cy="3073320"/>
              <a:chOff x="3151080" y="1963800"/>
              <a:chExt cx="3846600" cy="3073320"/>
            </a:xfrm>
          </p:grpSpPr>
          <p:sp>
            <p:nvSpPr>
              <p:cNvPr id="286" name=""/>
              <p:cNvSpPr/>
              <p:nvPr/>
            </p:nvSpPr>
            <p:spPr>
              <a:xfrm>
                <a:off x="4648320" y="1963800"/>
                <a:ext cx="2349360" cy="307332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189400" y="3346560"/>
                <a:ext cx="152640" cy="1522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256360" y="3917880"/>
                <a:ext cx="152280" cy="1526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94440" y="3537000"/>
                <a:ext cx="152280" cy="1522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161040" y="2984400"/>
                <a:ext cx="152280" cy="1526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04320" y="2160720"/>
                <a:ext cx="10530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BSS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638680" y="3005280"/>
                <a:ext cx="152640" cy="1522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41720" y="2470320"/>
                <a:ext cx="1922760" cy="1915920"/>
              </a:xfrm>
              <a:custGeom>
                <a:avLst/>
                <a:gdLst/>
                <a:ahLst/>
                <a:rect l="l" t="t" r="r" b="b"/>
                <a:pathLst>
                  <a:path w="1211" h="1207">
                    <a:moveTo>
                      <a:pt x="6" y="723"/>
                    </a:moveTo>
                    <a:lnTo>
                      <a:pt x="6" y="772"/>
                    </a:lnTo>
                    <a:lnTo>
                      <a:pt x="0" y="820"/>
                    </a:lnTo>
                    <a:lnTo>
                      <a:pt x="0" y="865"/>
                    </a:lnTo>
                    <a:lnTo>
                      <a:pt x="6" y="914"/>
                    </a:lnTo>
                    <a:lnTo>
                      <a:pt x="13" y="940"/>
                    </a:lnTo>
                    <a:lnTo>
                      <a:pt x="20" y="976"/>
                    </a:lnTo>
                    <a:lnTo>
                      <a:pt x="34" y="1042"/>
                    </a:lnTo>
                    <a:lnTo>
                      <a:pt x="62" y="1104"/>
                    </a:lnTo>
                    <a:lnTo>
                      <a:pt x="83" y="1131"/>
                    </a:lnTo>
                    <a:lnTo>
                      <a:pt x="103" y="1153"/>
                    </a:lnTo>
                    <a:lnTo>
                      <a:pt x="159" y="1184"/>
                    </a:lnTo>
                    <a:lnTo>
                      <a:pt x="235" y="1202"/>
                    </a:lnTo>
                    <a:lnTo>
                      <a:pt x="311" y="1206"/>
                    </a:lnTo>
                    <a:lnTo>
                      <a:pt x="387" y="1202"/>
                    </a:lnTo>
                    <a:lnTo>
                      <a:pt x="421" y="1193"/>
                    </a:lnTo>
                    <a:lnTo>
                      <a:pt x="456" y="1184"/>
                    </a:lnTo>
                    <a:lnTo>
                      <a:pt x="518" y="1153"/>
                    </a:lnTo>
                    <a:lnTo>
                      <a:pt x="581" y="1117"/>
                    </a:lnTo>
                    <a:lnTo>
                      <a:pt x="643" y="1082"/>
                    </a:lnTo>
                    <a:lnTo>
                      <a:pt x="698" y="1047"/>
                    </a:lnTo>
                    <a:lnTo>
                      <a:pt x="740" y="1011"/>
                    </a:lnTo>
                    <a:lnTo>
                      <a:pt x="788" y="971"/>
                    </a:lnTo>
                    <a:lnTo>
                      <a:pt x="843" y="936"/>
                    </a:lnTo>
                    <a:lnTo>
                      <a:pt x="913" y="909"/>
                    </a:lnTo>
                    <a:lnTo>
                      <a:pt x="996" y="882"/>
                    </a:lnTo>
                    <a:lnTo>
                      <a:pt x="1072" y="856"/>
                    </a:lnTo>
                    <a:lnTo>
                      <a:pt x="1099" y="838"/>
                    </a:lnTo>
                    <a:lnTo>
                      <a:pt x="1127" y="820"/>
                    </a:lnTo>
                    <a:lnTo>
                      <a:pt x="1168" y="772"/>
                    </a:lnTo>
                    <a:lnTo>
                      <a:pt x="1189" y="710"/>
                    </a:lnTo>
                    <a:lnTo>
                      <a:pt x="1203" y="647"/>
                    </a:lnTo>
                    <a:lnTo>
                      <a:pt x="1210" y="585"/>
                    </a:lnTo>
                    <a:lnTo>
                      <a:pt x="1203" y="523"/>
                    </a:lnTo>
                    <a:lnTo>
                      <a:pt x="1175" y="461"/>
                    </a:lnTo>
                    <a:lnTo>
                      <a:pt x="1148" y="399"/>
                    </a:lnTo>
                    <a:lnTo>
                      <a:pt x="1127" y="337"/>
                    </a:lnTo>
                    <a:lnTo>
                      <a:pt x="1120" y="275"/>
                    </a:lnTo>
                    <a:lnTo>
                      <a:pt x="1120" y="213"/>
                    </a:lnTo>
                    <a:lnTo>
                      <a:pt x="1113" y="155"/>
                    </a:lnTo>
                    <a:lnTo>
                      <a:pt x="1099" y="107"/>
                    </a:lnTo>
                    <a:lnTo>
                      <a:pt x="1065" y="71"/>
                    </a:lnTo>
                    <a:lnTo>
                      <a:pt x="1023" y="36"/>
                    </a:lnTo>
                    <a:lnTo>
                      <a:pt x="975" y="13"/>
                    </a:lnTo>
                    <a:lnTo>
                      <a:pt x="919" y="0"/>
                    </a:lnTo>
                    <a:lnTo>
                      <a:pt x="892" y="0"/>
                    </a:lnTo>
                    <a:lnTo>
                      <a:pt x="857" y="5"/>
                    </a:lnTo>
                    <a:lnTo>
                      <a:pt x="788" y="22"/>
                    </a:lnTo>
                    <a:lnTo>
                      <a:pt x="719" y="45"/>
                    </a:lnTo>
                    <a:lnTo>
                      <a:pt x="684" y="53"/>
                    </a:lnTo>
                    <a:lnTo>
                      <a:pt x="650" y="58"/>
                    </a:lnTo>
                    <a:lnTo>
                      <a:pt x="581" y="58"/>
                    </a:lnTo>
                    <a:lnTo>
                      <a:pt x="511" y="49"/>
                    </a:lnTo>
                    <a:lnTo>
                      <a:pt x="449" y="45"/>
                    </a:lnTo>
                    <a:lnTo>
                      <a:pt x="421" y="45"/>
                    </a:lnTo>
                    <a:lnTo>
                      <a:pt x="394" y="49"/>
                    </a:lnTo>
                    <a:lnTo>
                      <a:pt x="338" y="71"/>
                    </a:lnTo>
                    <a:lnTo>
                      <a:pt x="297" y="98"/>
                    </a:lnTo>
                    <a:lnTo>
                      <a:pt x="255" y="133"/>
                    </a:lnTo>
                    <a:lnTo>
                      <a:pt x="214" y="164"/>
                    </a:lnTo>
                    <a:lnTo>
                      <a:pt x="179" y="195"/>
                    </a:lnTo>
                    <a:lnTo>
                      <a:pt x="152" y="222"/>
                    </a:lnTo>
                    <a:lnTo>
                      <a:pt x="131" y="253"/>
                    </a:lnTo>
                    <a:lnTo>
                      <a:pt x="103" y="288"/>
                    </a:lnTo>
                    <a:lnTo>
                      <a:pt x="76" y="333"/>
                    </a:lnTo>
                    <a:lnTo>
                      <a:pt x="48" y="377"/>
                    </a:lnTo>
                    <a:lnTo>
                      <a:pt x="20" y="426"/>
                    </a:lnTo>
                    <a:lnTo>
                      <a:pt x="6" y="479"/>
                    </a:lnTo>
                    <a:lnTo>
                      <a:pt x="0" y="537"/>
                    </a:lnTo>
                    <a:lnTo>
                      <a:pt x="0" y="603"/>
                    </a:lnTo>
                    <a:lnTo>
                      <a:pt x="6" y="665"/>
                    </a:lnTo>
                    <a:lnTo>
                      <a:pt x="6" y="7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3151080" y="3044520"/>
                <a:ext cx="2940120" cy="1673640"/>
                <a:chOff x="3151080" y="3044520"/>
                <a:chExt cx="2940120" cy="167364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62360" y="3289320"/>
                  <a:ext cx="1428840" cy="1428840"/>
                </a:xfrm>
                <a:prstGeom prst="ellipse">
                  <a:avLst/>
                </a:prstGeom>
                <a:noFill/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>
                  <a:off x="3986280" y="3973680"/>
                  <a:ext cx="127800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>
                  <a:off x="3347640" y="3730680"/>
                  <a:ext cx="1908360" cy="22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 flipV="1">
                  <a:off x="3151080" y="3246480"/>
                  <a:ext cx="2105280" cy="68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>
                  <a:off x="3654360" y="3044520"/>
                  <a:ext cx="1602000" cy="85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 flipV="1">
                  <a:off x="5292720" y="3502080"/>
                  <a:ext cx="71280" cy="36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912480" y="3946680"/>
                  <a:ext cx="1413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nterferen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2" name=""/>
            <p:cNvGrpSpPr/>
            <p:nvPr/>
          </p:nvGrpSpPr>
          <p:grpSpPr>
            <a:xfrm>
              <a:off x="2089080" y="2260440"/>
              <a:ext cx="3460680" cy="3461040"/>
              <a:chOff x="2089080" y="2260440"/>
              <a:chExt cx="3460680" cy="3461040"/>
            </a:xfrm>
          </p:grpSpPr>
          <p:sp>
            <p:nvSpPr>
              <p:cNvPr id="303" name=""/>
              <p:cNvSpPr/>
              <p:nvPr/>
            </p:nvSpPr>
            <p:spPr>
              <a:xfrm flipH="1" flipV="1">
                <a:off x="3317400" y="3789360"/>
                <a:ext cx="414360" cy="17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89080" y="2260440"/>
                <a:ext cx="3460680" cy="3461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094200" y="3865680"/>
                <a:ext cx="7390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32400" y="2639880"/>
                <a:ext cx="9586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RX_m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514600" y="3071880"/>
                <a:ext cx="9586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RX_m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73400" y="3567240"/>
                <a:ext cx="9586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RX_m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822240" y="5649840"/>
              <a:ext cx="499896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s 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X_mi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eflect the interference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mit power will adjust according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051-12E7-4801-873D-49869698B1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ent on Open Loop T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posed Open loop TPC acquire all knowledge and has all functionality needed for a rudimentary distributed TP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E09-5668-4055-8853-E9F53B9EA1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d loop TPC philosophy &amp;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 Loop TPC is used as a complement to further refine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 exchanged frames (e.g. RTS-CTS) to perform precise and instantaneous TP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CL-TPC on bulk traffic, i.e. Unicast DATA/ Management frames longer than dot11RTS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02E-63CC-4D16-912F-11BDB28D2FD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d Loop T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57480" y="1938240"/>
            <a:ext cx="2425680" cy="30733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9040" y="1832040"/>
            <a:ext cx="7765920" cy="45655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13480" y="5410080"/>
            <a:ext cx="1843200" cy="9907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04120" y="5310360"/>
            <a:ext cx="1181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94000" y="5618160"/>
            <a:ext cx="960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42000" y="5791320"/>
            <a:ext cx="15264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72240" y="6083280"/>
            <a:ext cx="177480" cy="17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08" y="21593"/>
                </a:moveTo>
                <a:arcTo wR="10800" hR="10800" stAng="5524954" swAng="5275046"/>
                <a:lnTo>
                  <a:pt x="10800" y="10800"/>
                </a:lnTo>
                <a:close/>
              </a:path>
              <a:path fill="none" w="21600" h="21600">
                <a:moveTo>
                  <a:pt x="10408" y="21593"/>
                </a:moveTo>
                <a:arcTo wR="10800" hR="10800" stAng="5524954" swAng="5275046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77200" y="213516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44760" y="2519280"/>
            <a:ext cx="1608120" cy="1757520"/>
          </a:xfrm>
          <a:custGeom>
            <a:avLst/>
            <a:gdLst/>
            <a:ahLst/>
            <a:rect l="l" t="t" r="r" b="b"/>
            <a:pathLst>
              <a:path w="1013" h="1107">
                <a:moveTo>
                  <a:pt x="529" y="1059"/>
                </a:moveTo>
                <a:lnTo>
                  <a:pt x="587" y="1076"/>
                </a:lnTo>
                <a:lnTo>
                  <a:pt x="650" y="1093"/>
                </a:lnTo>
                <a:lnTo>
                  <a:pt x="712" y="1106"/>
                </a:lnTo>
                <a:lnTo>
                  <a:pt x="770" y="1106"/>
                </a:lnTo>
                <a:lnTo>
                  <a:pt x="824" y="1093"/>
                </a:lnTo>
                <a:lnTo>
                  <a:pt x="879" y="1072"/>
                </a:lnTo>
                <a:lnTo>
                  <a:pt x="924" y="1042"/>
                </a:lnTo>
                <a:lnTo>
                  <a:pt x="945" y="1024"/>
                </a:lnTo>
                <a:lnTo>
                  <a:pt x="962" y="1011"/>
                </a:lnTo>
                <a:lnTo>
                  <a:pt x="987" y="977"/>
                </a:lnTo>
                <a:lnTo>
                  <a:pt x="1008" y="942"/>
                </a:lnTo>
                <a:lnTo>
                  <a:pt x="1012" y="903"/>
                </a:lnTo>
                <a:lnTo>
                  <a:pt x="1012" y="864"/>
                </a:lnTo>
                <a:lnTo>
                  <a:pt x="1008" y="847"/>
                </a:lnTo>
                <a:lnTo>
                  <a:pt x="995" y="830"/>
                </a:lnTo>
                <a:lnTo>
                  <a:pt x="970" y="795"/>
                </a:lnTo>
                <a:lnTo>
                  <a:pt x="941" y="756"/>
                </a:lnTo>
                <a:lnTo>
                  <a:pt x="916" y="722"/>
                </a:lnTo>
                <a:lnTo>
                  <a:pt x="899" y="687"/>
                </a:lnTo>
                <a:lnTo>
                  <a:pt x="883" y="652"/>
                </a:lnTo>
                <a:lnTo>
                  <a:pt x="870" y="618"/>
                </a:lnTo>
                <a:lnTo>
                  <a:pt x="866" y="579"/>
                </a:lnTo>
                <a:lnTo>
                  <a:pt x="870" y="536"/>
                </a:lnTo>
                <a:lnTo>
                  <a:pt x="887" y="484"/>
                </a:lnTo>
                <a:lnTo>
                  <a:pt x="899" y="436"/>
                </a:lnTo>
                <a:lnTo>
                  <a:pt x="916" y="384"/>
                </a:lnTo>
                <a:lnTo>
                  <a:pt x="933" y="337"/>
                </a:lnTo>
                <a:lnTo>
                  <a:pt x="949" y="289"/>
                </a:lnTo>
                <a:lnTo>
                  <a:pt x="962" y="237"/>
                </a:lnTo>
                <a:lnTo>
                  <a:pt x="962" y="216"/>
                </a:lnTo>
                <a:lnTo>
                  <a:pt x="962" y="194"/>
                </a:lnTo>
                <a:lnTo>
                  <a:pt x="953" y="151"/>
                </a:lnTo>
                <a:lnTo>
                  <a:pt x="933" y="112"/>
                </a:lnTo>
                <a:lnTo>
                  <a:pt x="903" y="77"/>
                </a:lnTo>
                <a:lnTo>
                  <a:pt x="866" y="51"/>
                </a:lnTo>
                <a:lnTo>
                  <a:pt x="845" y="39"/>
                </a:lnTo>
                <a:lnTo>
                  <a:pt x="816" y="26"/>
                </a:lnTo>
                <a:lnTo>
                  <a:pt x="758" y="8"/>
                </a:lnTo>
                <a:lnTo>
                  <a:pt x="691" y="0"/>
                </a:lnTo>
                <a:lnTo>
                  <a:pt x="658" y="0"/>
                </a:lnTo>
                <a:lnTo>
                  <a:pt x="629" y="4"/>
                </a:lnTo>
                <a:lnTo>
                  <a:pt x="596" y="13"/>
                </a:lnTo>
                <a:lnTo>
                  <a:pt x="562" y="26"/>
                </a:lnTo>
                <a:lnTo>
                  <a:pt x="496" y="64"/>
                </a:lnTo>
                <a:lnTo>
                  <a:pt x="437" y="108"/>
                </a:lnTo>
                <a:lnTo>
                  <a:pt x="408" y="129"/>
                </a:lnTo>
                <a:lnTo>
                  <a:pt x="387" y="147"/>
                </a:lnTo>
                <a:lnTo>
                  <a:pt x="367" y="164"/>
                </a:lnTo>
                <a:lnTo>
                  <a:pt x="354" y="186"/>
                </a:lnTo>
                <a:lnTo>
                  <a:pt x="333" y="220"/>
                </a:lnTo>
                <a:lnTo>
                  <a:pt x="313" y="259"/>
                </a:lnTo>
                <a:lnTo>
                  <a:pt x="292" y="289"/>
                </a:lnTo>
                <a:lnTo>
                  <a:pt x="258" y="315"/>
                </a:lnTo>
                <a:lnTo>
                  <a:pt x="221" y="337"/>
                </a:lnTo>
                <a:lnTo>
                  <a:pt x="179" y="358"/>
                </a:lnTo>
                <a:lnTo>
                  <a:pt x="146" y="384"/>
                </a:lnTo>
                <a:lnTo>
                  <a:pt x="92" y="454"/>
                </a:lnTo>
                <a:lnTo>
                  <a:pt x="50" y="531"/>
                </a:lnTo>
                <a:lnTo>
                  <a:pt x="30" y="579"/>
                </a:lnTo>
                <a:lnTo>
                  <a:pt x="13" y="626"/>
                </a:lnTo>
                <a:lnTo>
                  <a:pt x="0" y="678"/>
                </a:lnTo>
                <a:lnTo>
                  <a:pt x="0" y="700"/>
                </a:lnTo>
                <a:lnTo>
                  <a:pt x="5" y="722"/>
                </a:lnTo>
                <a:lnTo>
                  <a:pt x="13" y="743"/>
                </a:lnTo>
                <a:lnTo>
                  <a:pt x="25" y="760"/>
                </a:lnTo>
                <a:lnTo>
                  <a:pt x="59" y="799"/>
                </a:lnTo>
                <a:lnTo>
                  <a:pt x="104" y="834"/>
                </a:lnTo>
                <a:lnTo>
                  <a:pt x="146" y="864"/>
                </a:lnTo>
                <a:lnTo>
                  <a:pt x="192" y="895"/>
                </a:lnTo>
                <a:lnTo>
                  <a:pt x="242" y="916"/>
                </a:lnTo>
                <a:lnTo>
                  <a:pt x="288" y="938"/>
                </a:lnTo>
                <a:lnTo>
                  <a:pt x="337" y="964"/>
                </a:lnTo>
                <a:lnTo>
                  <a:pt x="387" y="990"/>
                </a:lnTo>
                <a:lnTo>
                  <a:pt x="433" y="1011"/>
                </a:lnTo>
                <a:lnTo>
                  <a:pt x="479" y="1037"/>
                </a:lnTo>
                <a:lnTo>
                  <a:pt x="529" y="1059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68760" y="3894120"/>
            <a:ext cx="15264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40160" y="2903400"/>
            <a:ext cx="15264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7000" y="3132000"/>
            <a:ext cx="15228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59280" y="366552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49520" y="6316560"/>
            <a:ext cx="4429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31920" y="5891040"/>
            <a:ext cx="72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28880" y="2774880"/>
            <a:ext cx="3916440" cy="3541680"/>
            <a:chOff x="1928880" y="2774880"/>
            <a:chExt cx="3916440" cy="3541680"/>
          </a:xfrm>
        </p:grpSpPr>
        <p:sp>
          <p:nvSpPr>
            <p:cNvPr id="331" name=""/>
            <p:cNvSpPr/>
            <p:nvPr/>
          </p:nvSpPr>
          <p:spPr>
            <a:xfrm>
              <a:off x="3438720" y="2774880"/>
              <a:ext cx="2406600" cy="24066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6200000">
              <a:off x="1673280" y="5905440"/>
              <a:ext cx="666720" cy="155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4197240" y="3794040"/>
              <a:ext cx="29988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12040" y="3986280"/>
              <a:ext cx="73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481040" y="5208480"/>
            <a:ext cx="973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928880" y="2781360"/>
            <a:ext cx="3068640" cy="3535200"/>
            <a:chOff x="1928880" y="2781360"/>
            <a:chExt cx="3068640" cy="3535200"/>
          </a:xfrm>
        </p:grpSpPr>
        <p:sp>
          <p:nvSpPr>
            <p:cNvPr id="337" name=""/>
            <p:cNvSpPr/>
            <p:nvPr/>
          </p:nvSpPr>
          <p:spPr>
            <a:xfrm rot="16200000">
              <a:off x="2001960" y="5905440"/>
              <a:ext cx="666720" cy="155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flipV="1">
              <a:off x="4187880" y="3794040"/>
              <a:ext cx="300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02680" y="3986280"/>
              <a:ext cx="73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54600" y="2781360"/>
              <a:ext cx="1942920" cy="1942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1673280" y="5904000"/>
              <a:ext cx="666720" cy="155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928880" y="3219480"/>
            <a:ext cx="3468240" cy="3096720"/>
            <a:chOff x="1928880" y="3219480"/>
            <a:chExt cx="3468240" cy="3096720"/>
          </a:xfrm>
        </p:grpSpPr>
        <p:sp>
          <p:nvSpPr>
            <p:cNvPr id="343" name=""/>
            <p:cNvSpPr/>
            <p:nvPr/>
          </p:nvSpPr>
          <p:spPr>
            <a:xfrm rot="16200000">
              <a:off x="3665880" y="4788360"/>
              <a:ext cx="438120" cy="26175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2320" y="3219480"/>
              <a:ext cx="1504800" cy="15048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54000" y="3989520"/>
              <a:ext cx="102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6200000">
              <a:off x="1672920" y="5904000"/>
              <a:ext cx="666720" cy="155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2001240" y="5904000"/>
              <a:ext cx="666720" cy="155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30360" y="3833640"/>
              <a:ext cx="23328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 flipV="1">
            <a:off x="1625760" y="5574960"/>
            <a:ext cx="0" cy="79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28880" y="2781360"/>
            <a:ext cx="3575160" cy="3534840"/>
            <a:chOff x="1928880" y="2781360"/>
            <a:chExt cx="3575160" cy="3534840"/>
          </a:xfrm>
        </p:grpSpPr>
        <p:sp>
          <p:nvSpPr>
            <p:cNvPr id="351" name=""/>
            <p:cNvSpPr/>
            <p:nvPr/>
          </p:nvSpPr>
          <p:spPr>
            <a:xfrm rot="16200000">
              <a:off x="5101560" y="5913720"/>
              <a:ext cx="649080" cy="155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6200000">
              <a:off x="1673280" y="5900760"/>
              <a:ext cx="666720" cy="155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200000">
              <a:off x="2001960" y="5900760"/>
              <a:ext cx="666720" cy="155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200000">
              <a:off x="3666240" y="4783320"/>
              <a:ext cx="438120" cy="2617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11240" y="397368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26040" y="3830760"/>
              <a:ext cx="22716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49920" y="2781360"/>
              <a:ext cx="1946160" cy="19461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504040" y="4251240"/>
            <a:ext cx="3008160" cy="1290600"/>
            <a:chOff x="5504040" y="4251240"/>
            <a:chExt cx="3008160" cy="1290600"/>
          </a:xfrm>
        </p:grpSpPr>
        <p:sp>
          <p:nvSpPr>
            <p:cNvPr id="359" name=""/>
            <p:cNvSpPr/>
            <p:nvPr/>
          </p:nvSpPr>
          <p:spPr>
            <a:xfrm flipV="1">
              <a:off x="5504040" y="4727520"/>
              <a:ext cx="1137960" cy="81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05360" y="4251240"/>
              <a:ext cx="1806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his ACK may optionall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 sent with low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nsmit pow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A0E-8C5A-4711-A62F-91B70049E0A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&amp; Closed Loop TPC MS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5400000">
            <a:off x="4726080" y="1906560"/>
            <a:ext cx="225360" cy="159696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32040" y="253512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rot="16200000">
            <a:off x="4726080" y="2192400"/>
            <a:ext cx="225360" cy="159696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531680" y="282096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5400000">
            <a:off x="4268880" y="2941560"/>
            <a:ext cx="1139760" cy="1596960"/>
          </a:xfrm>
          <a:prstGeom prst="parallelogram">
            <a:avLst>
              <a:gd name="adj" fmla="val 4014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36640" y="3506760"/>
            <a:ext cx="743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rot="16200000">
            <a:off x="4726080" y="3665520"/>
            <a:ext cx="225360" cy="159696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505760" y="429408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25720" y="2782800"/>
            <a:ext cx="0" cy="1789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592080" y="457848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592080" y="277488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83120" y="3068640"/>
            <a:ext cx="0" cy="145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521160" y="2585880"/>
            <a:ext cx="0" cy="53208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21840" y="2744640"/>
            <a:ext cx="215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SS group TPC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357360" y="3105000"/>
            <a:ext cx="693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357360" y="2584440"/>
            <a:ext cx="693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357360" y="4267080"/>
            <a:ext cx="693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21160" y="3115800"/>
            <a:ext cx="0" cy="115740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21840" y="3506760"/>
            <a:ext cx="222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sed loop TPC set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83120" y="2878200"/>
            <a:ext cx="0" cy="176040"/>
          </a:xfrm>
          <a:prstGeom prst="line">
            <a:avLst/>
          </a:prstGeom>
          <a:ln w="1260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634000" y="2876400"/>
            <a:ext cx="331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25720" y="2598840"/>
            <a:ext cx="0" cy="176040"/>
          </a:xfrm>
          <a:prstGeom prst="line">
            <a:avLst/>
          </a:prstGeom>
          <a:ln w="1260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634000" y="3060720"/>
            <a:ext cx="331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4038480" y="2370240"/>
            <a:ext cx="1600200" cy="2652480"/>
            <a:chOff x="4038480" y="2370240"/>
            <a:chExt cx="1600200" cy="2652480"/>
          </a:xfrm>
        </p:grpSpPr>
        <p:sp>
          <p:nvSpPr>
            <p:cNvPr id="386" name=""/>
            <p:cNvSpPr/>
            <p:nvPr/>
          </p:nvSpPr>
          <p:spPr>
            <a:xfrm>
              <a:off x="4038480" y="2370240"/>
              <a:ext cx="0" cy="26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38680" y="2370240"/>
              <a:ext cx="0" cy="26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765600" y="4275000"/>
            <a:ext cx="0" cy="303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713040" y="4267080"/>
            <a:ext cx="331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5634000" y="4533840"/>
            <a:ext cx="331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357360" y="4584600"/>
            <a:ext cx="693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521160" y="426204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21840" y="4040280"/>
            <a:ext cx="21502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SS group TPC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 option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cast TPC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08240" y="1906560"/>
            <a:ext cx="103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PC set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84320" y="5106960"/>
            <a:ext cx="1804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V setting up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ring source 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056040" y="4642920"/>
            <a:ext cx="74772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42440" y="5106960"/>
            <a:ext cx="2167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V setting up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ring destination 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5862600" y="4642920"/>
            <a:ext cx="77328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2255760"/>
            <a:ext cx="36684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722920" y="2281320"/>
            <a:ext cx="747720" cy="6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68120" y="1830240"/>
            <a:ext cx="205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S informs Sour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out relative transm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6040" y="167796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99520" y="1677960"/>
            <a:ext cx="158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0320" y="5684760"/>
            <a:ext cx="71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ncern about NAV being reset after detecting RTS but not DA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ee Next p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F47-1455-4853-A819-3A0E3A57261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V setting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1938240"/>
            <a:ext cx="2349360" cy="30733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9040" y="1832040"/>
            <a:ext cx="7765920" cy="45655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84440" y="332100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54360" y="3755880"/>
            <a:ext cx="15228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0" y="289260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43200" y="3352680"/>
            <a:ext cx="15228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81440" y="1825560"/>
            <a:ext cx="82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33720" y="258768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36760" y="2449440"/>
            <a:ext cx="1922400" cy="1911600"/>
          </a:xfrm>
          <a:custGeom>
            <a:avLst/>
            <a:gdLst/>
            <a:ahLst/>
            <a:rect l="l" t="t" r="r" b="b"/>
            <a:pathLst>
              <a:path w="1211" h="1204">
                <a:moveTo>
                  <a:pt x="6" y="718"/>
                </a:moveTo>
                <a:lnTo>
                  <a:pt x="6" y="767"/>
                </a:lnTo>
                <a:lnTo>
                  <a:pt x="0" y="815"/>
                </a:lnTo>
                <a:lnTo>
                  <a:pt x="0" y="859"/>
                </a:lnTo>
                <a:lnTo>
                  <a:pt x="6" y="908"/>
                </a:lnTo>
                <a:lnTo>
                  <a:pt x="20" y="970"/>
                </a:lnTo>
                <a:lnTo>
                  <a:pt x="34" y="1040"/>
                </a:lnTo>
                <a:lnTo>
                  <a:pt x="62" y="1102"/>
                </a:lnTo>
                <a:lnTo>
                  <a:pt x="83" y="1128"/>
                </a:lnTo>
                <a:lnTo>
                  <a:pt x="103" y="1150"/>
                </a:lnTo>
                <a:lnTo>
                  <a:pt x="159" y="1181"/>
                </a:lnTo>
                <a:lnTo>
                  <a:pt x="235" y="1199"/>
                </a:lnTo>
                <a:lnTo>
                  <a:pt x="311" y="1203"/>
                </a:lnTo>
                <a:lnTo>
                  <a:pt x="387" y="1199"/>
                </a:lnTo>
                <a:lnTo>
                  <a:pt x="421" y="1190"/>
                </a:lnTo>
                <a:lnTo>
                  <a:pt x="456" y="1181"/>
                </a:lnTo>
                <a:lnTo>
                  <a:pt x="518" y="1150"/>
                </a:lnTo>
                <a:lnTo>
                  <a:pt x="581" y="1115"/>
                </a:lnTo>
                <a:lnTo>
                  <a:pt x="643" y="1080"/>
                </a:lnTo>
                <a:lnTo>
                  <a:pt x="698" y="1044"/>
                </a:lnTo>
                <a:lnTo>
                  <a:pt x="740" y="1005"/>
                </a:lnTo>
                <a:lnTo>
                  <a:pt x="788" y="965"/>
                </a:lnTo>
                <a:lnTo>
                  <a:pt x="843" y="930"/>
                </a:lnTo>
                <a:lnTo>
                  <a:pt x="913" y="903"/>
                </a:lnTo>
                <a:lnTo>
                  <a:pt x="996" y="881"/>
                </a:lnTo>
                <a:lnTo>
                  <a:pt x="1072" y="855"/>
                </a:lnTo>
                <a:lnTo>
                  <a:pt x="1099" y="837"/>
                </a:lnTo>
                <a:lnTo>
                  <a:pt x="1127" y="820"/>
                </a:lnTo>
                <a:lnTo>
                  <a:pt x="1168" y="767"/>
                </a:lnTo>
                <a:lnTo>
                  <a:pt x="1189" y="709"/>
                </a:lnTo>
                <a:lnTo>
                  <a:pt x="1203" y="648"/>
                </a:lnTo>
                <a:lnTo>
                  <a:pt x="1210" y="582"/>
                </a:lnTo>
                <a:lnTo>
                  <a:pt x="1203" y="520"/>
                </a:lnTo>
                <a:lnTo>
                  <a:pt x="1175" y="458"/>
                </a:lnTo>
                <a:lnTo>
                  <a:pt x="1148" y="392"/>
                </a:lnTo>
                <a:lnTo>
                  <a:pt x="1127" y="330"/>
                </a:lnTo>
                <a:lnTo>
                  <a:pt x="1120" y="269"/>
                </a:lnTo>
                <a:lnTo>
                  <a:pt x="1120" y="211"/>
                </a:lnTo>
                <a:lnTo>
                  <a:pt x="1113" y="154"/>
                </a:lnTo>
                <a:lnTo>
                  <a:pt x="1099" y="106"/>
                </a:lnTo>
                <a:lnTo>
                  <a:pt x="1065" y="66"/>
                </a:lnTo>
                <a:lnTo>
                  <a:pt x="1023" y="35"/>
                </a:lnTo>
                <a:lnTo>
                  <a:pt x="975" y="9"/>
                </a:lnTo>
                <a:lnTo>
                  <a:pt x="919" y="0"/>
                </a:lnTo>
                <a:lnTo>
                  <a:pt x="892" y="0"/>
                </a:lnTo>
                <a:lnTo>
                  <a:pt x="857" y="4"/>
                </a:lnTo>
                <a:lnTo>
                  <a:pt x="788" y="22"/>
                </a:lnTo>
                <a:lnTo>
                  <a:pt x="719" y="44"/>
                </a:lnTo>
                <a:lnTo>
                  <a:pt x="684" y="53"/>
                </a:lnTo>
                <a:lnTo>
                  <a:pt x="650" y="57"/>
                </a:lnTo>
                <a:lnTo>
                  <a:pt x="615" y="57"/>
                </a:lnTo>
                <a:lnTo>
                  <a:pt x="581" y="57"/>
                </a:lnTo>
                <a:lnTo>
                  <a:pt x="511" y="48"/>
                </a:lnTo>
                <a:lnTo>
                  <a:pt x="449" y="39"/>
                </a:lnTo>
                <a:lnTo>
                  <a:pt x="421" y="39"/>
                </a:lnTo>
                <a:lnTo>
                  <a:pt x="394" y="44"/>
                </a:lnTo>
                <a:lnTo>
                  <a:pt x="338" y="66"/>
                </a:lnTo>
                <a:lnTo>
                  <a:pt x="297" y="97"/>
                </a:lnTo>
                <a:lnTo>
                  <a:pt x="255" y="132"/>
                </a:lnTo>
                <a:lnTo>
                  <a:pt x="214" y="163"/>
                </a:lnTo>
                <a:lnTo>
                  <a:pt x="179" y="194"/>
                </a:lnTo>
                <a:lnTo>
                  <a:pt x="152" y="220"/>
                </a:lnTo>
                <a:lnTo>
                  <a:pt x="131" y="251"/>
                </a:lnTo>
                <a:lnTo>
                  <a:pt x="103" y="286"/>
                </a:lnTo>
                <a:lnTo>
                  <a:pt x="76" y="330"/>
                </a:lnTo>
                <a:lnTo>
                  <a:pt x="48" y="374"/>
                </a:lnTo>
                <a:lnTo>
                  <a:pt x="20" y="423"/>
                </a:lnTo>
                <a:lnTo>
                  <a:pt x="6" y="476"/>
                </a:lnTo>
                <a:lnTo>
                  <a:pt x="0" y="538"/>
                </a:lnTo>
                <a:lnTo>
                  <a:pt x="0" y="599"/>
                </a:lnTo>
                <a:lnTo>
                  <a:pt x="6" y="661"/>
                </a:lnTo>
                <a:lnTo>
                  <a:pt x="6" y="718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4280" y="2209680"/>
            <a:ext cx="2387520" cy="2387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7680" y="4878360"/>
            <a:ext cx="35632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dista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and destination 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S-DATA 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V is not 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2209680"/>
            <a:ext cx="2438280" cy="2438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1640" y="1906560"/>
            <a:ext cx="73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03200" y="2084400"/>
            <a:ext cx="214560" cy="138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430800" y="1906560"/>
            <a:ext cx="73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195720" y="2122560"/>
            <a:ext cx="239760" cy="137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0240" y="2286000"/>
            <a:ext cx="2235240" cy="2235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2720" y="4573440"/>
            <a:ext cx="102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1520" y="4573440"/>
            <a:ext cx="82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1531800" y="4491000"/>
            <a:ext cx="36684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25760" y="2235240"/>
            <a:ext cx="2387520" cy="2387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3176280" y="4552560"/>
            <a:ext cx="328680" cy="222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32240" y="1941480"/>
            <a:ext cx="2349720" cy="30733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362640" y="3352680"/>
            <a:ext cx="15264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3759120"/>
            <a:ext cx="15228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375240" y="2895480"/>
            <a:ext cx="15264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3352680"/>
            <a:ext cx="15228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71040" y="1828800"/>
            <a:ext cx="82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222960" y="259092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526000" y="2452680"/>
            <a:ext cx="1922400" cy="1911240"/>
          </a:xfrm>
          <a:custGeom>
            <a:avLst/>
            <a:gdLst/>
            <a:ahLst/>
            <a:rect l="l" t="t" r="r" b="b"/>
            <a:pathLst>
              <a:path w="1211" h="1204">
                <a:moveTo>
                  <a:pt x="6" y="718"/>
                </a:moveTo>
                <a:lnTo>
                  <a:pt x="6" y="767"/>
                </a:lnTo>
                <a:lnTo>
                  <a:pt x="0" y="815"/>
                </a:lnTo>
                <a:lnTo>
                  <a:pt x="0" y="859"/>
                </a:lnTo>
                <a:lnTo>
                  <a:pt x="6" y="908"/>
                </a:lnTo>
                <a:lnTo>
                  <a:pt x="20" y="970"/>
                </a:lnTo>
                <a:lnTo>
                  <a:pt x="34" y="1040"/>
                </a:lnTo>
                <a:lnTo>
                  <a:pt x="62" y="1102"/>
                </a:lnTo>
                <a:lnTo>
                  <a:pt x="83" y="1128"/>
                </a:lnTo>
                <a:lnTo>
                  <a:pt x="103" y="1150"/>
                </a:lnTo>
                <a:lnTo>
                  <a:pt x="159" y="1181"/>
                </a:lnTo>
                <a:lnTo>
                  <a:pt x="235" y="1199"/>
                </a:lnTo>
                <a:lnTo>
                  <a:pt x="311" y="1203"/>
                </a:lnTo>
                <a:lnTo>
                  <a:pt x="387" y="1199"/>
                </a:lnTo>
                <a:lnTo>
                  <a:pt x="421" y="1190"/>
                </a:lnTo>
                <a:lnTo>
                  <a:pt x="456" y="1181"/>
                </a:lnTo>
                <a:lnTo>
                  <a:pt x="518" y="1150"/>
                </a:lnTo>
                <a:lnTo>
                  <a:pt x="581" y="1115"/>
                </a:lnTo>
                <a:lnTo>
                  <a:pt x="643" y="1080"/>
                </a:lnTo>
                <a:lnTo>
                  <a:pt x="698" y="1044"/>
                </a:lnTo>
                <a:lnTo>
                  <a:pt x="740" y="1005"/>
                </a:lnTo>
                <a:lnTo>
                  <a:pt x="788" y="965"/>
                </a:lnTo>
                <a:lnTo>
                  <a:pt x="843" y="930"/>
                </a:lnTo>
                <a:lnTo>
                  <a:pt x="913" y="903"/>
                </a:lnTo>
                <a:lnTo>
                  <a:pt x="996" y="881"/>
                </a:lnTo>
                <a:lnTo>
                  <a:pt x="1072" y="855"/>
                </a:lnTo>
                <a:lnTo>
                  <a:pt x="1099" y="837"/>
                </a:lnTo>
                <a:lnTo>
                  <a:pt x="1127" y="820"/>
                </a:lnTo>
                <a:lnTo>
                  <a:pt x="1168" y="767"/>
                </a:lnTo>
                <a:lnTo>
                  <a:pt x="1189" y="709"/>
                </a:lnTo>
                <a:lnTo>
                  <a:pt x="1203" y="648"/>
                </a:lnTo>
                <a:lnTo>
                  <a:pt x="1210" y="582"/>
                </a:lnTo>
                <a:lnTo>
                  <a:pt x="1203" y="520"/>
                </a:lnTo>
                <a:lnTo>
                  <a:pt x="1175" y="458"/>
                </a:lnTo>
                <a:lnTo>
                  <a:pt x="1148" y="392"/>
                </a:lnTo>
                <a:lnTo>
                  <a:pt x="1127" y="330"/>
                </a:lnTo>
                <a:lnTo>
                  <a:pt x="1120" y="269"/>
                </a:lnTo>
                <a:lnTo>
                  <a:pt x="1120" y="211"/>
                </a:lnTo>
                <a:lnTo>
                  <a:pt x="1113" y="154"/>
                </a:lnTo>
                <a:lnTo>
                  <a:pt x="1099" y="106"/>
                </a:lnTo>
                <a:lnTo>
                  <a:pt x="1065" y="66"/>
                </a:lnTo>
                <a:lnTo>
                  <a:pt x="1023" y="35"/>
                </a:lnTo>
                <a:lnTo>
                  <a:pt x="975" y="9"/>
                </a:lnTo>
                <a:lnTo>
                  <a:pt x="919" y="0"/>
                </a:lnTo>
                <a:lnTo>
                  <a:pt x="892" y="0"/>
                </a:lnTo>
                <a:lnTo>
                  <a:pt x="857" y="4"/>
                </a:lnTo>
                <a:lnTo>
                  <a:pt x="788" y="22"/>
                </a:lnTo>
                <a:lnTo>
                  <a:pt x="719" y="44"/>
                </a:lnTo>
                <a:lnTo>
                  <a:pt x="684" y="53"/>
                </a:lnTo>
                <a:lnTo>
                  <a:pt x="650" y="57"/>
                </a:lnTo>
                <a:lnTo>
                  <a:pt x="615" y="57"/>
                </a:lnTo>
                <a:lnTo>
                  <a:pt x="581" y="57"/>
                </a:lnTo>
                <a:lnTo>
                  <a:pt x="511" y="48"/>
                </a:lnTo>
                <a:lnTo>
                  <a:pt x="449" y="39"/>
                </a:lnTo>
                <a:lnTo>
                  <a:pt x="421" y="39"/>
                </a:lnTo>
                <a:lnTo>
                  <a:pt x="394" y="44"/>
                </a:lnTo>
                <a:lnTo>
                  <a:pt x="338" y="66"/>
                </a:lnTo>
                <a:lnTo>
                  <a:pt x="297" y="97"/>
                </a:lnTo>
                <a:lnTo>
                  <a:pt x="255" y="132"/>
                </a:lnTo>
                <a:lnTo>
                  <a:pt x="214" y="163"/>
                </a:lnTo>
                <a:lnTo>
                  <a:pt x="179" y="194"/>
                </a:lnTo>
                <a:lnTo>
                  <a:pt x="152" y="220"/>
                </a:lnTo>
                <a:lnTo>
                  <a:pt x="131" y="251"/>
                </a:lnTo>
                <a:lnTo>
                  <a:pt x="103" y="286"/>
                </a:lnTo>
                <a:lnTo>
                  <a:pt x="76" y="330"/>
                </a:lnTo>
                <a:lnTo>
                  <a:pt x="48" y="374"/>
                </a:lnTo>
                <a:lnTo>
                  <a:pt x="20" y="423"/>
                </a:lnTo>
                <a:lnTo>
                  <a:pt x="6" y="476"/>
                </a:lnTo>
                <a:lnTo>
                  <a:pt x="0" y="538"/>
                </a:lnTo>
                <a:lnTo>
                  <a:pt x="0" y="599"/>
                </a:lnTo>
                <a:lnTo>
                  <a:pt x="6" y="661"/>
                </a:lnTo>
                <a:lnTo>
                  <a:pt x="6" y="718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73800" y="2514600"/>
            <a:ext cx="1879560" cy="187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96920" y="4881600"/>
            <a:ext cx="35632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dista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and destination 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S-CTS 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V is not 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13480" y="2489040"/>
            <a:ext cx="1930320" cy="1930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00880" y="2287440"/>
            <a:ext cx="73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92800" y="2522520"/>
            <a:ext cx="371520" cy="243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3320" y="2287440"/>
            <a:ext cx="73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7143480" y="2522520"/>
            <a:ext cx="253800" cy="147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58080" y="3048120"/>
            <a:ext cx="761760" cy="76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01960" y="4116240"/>
            <a:ext cx="102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21120" y="4116240"/>
            <a:ext cx="82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646600" y="3774960"/>
            <a:ext cx="709920" cy="58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7240680" y="4103640"/>
            <a:ext cx="342720" cy="231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40160" y="3809880"/>
            <a:ext cx="15228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29400" y="381312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14600" y="29606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92720" y="29606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38680" y="2514600"/>
            <a:ext cx="1879560" cy="187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49960" y="29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90000" y="29862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673-D27D-48BE-B3CD-A53F1D7D6DC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V setting issue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51360" y="2192400"/>
            <a:ext cx="2349720" cy="30733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9040" y="1832040"/>
            <a:ext cx="7765920" cy="45655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92800" y="357516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562720" y="401004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94360" y="314640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451560" y="360684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90160" y="2079720"/>
            <a:ext cx="82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42080" y="2841480"/>
            <a:ext cx="15228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45120" y="2703600"/>
            <a:ext cx="1922400" cy="1911240"/>
          </a:xfrm>
          <a:custGeom>
            <a:avLst/>
            <a:gdLst/>
            <a:ahLst/>
            <a:rect l="l" t="t" r="r" b="b"/>
            <a:pathLst>
              <a:path w="1211" h="1204">
                <a:moveTo>
                  <a:pt x="6" y="718"/>
                </a:moveTo>
                <a:lnTo>
                  <a:pt x="6" y="767"/>
                </a:lnTo>
                <a:lnTo>
                  <a:pt x="0" y="815"/>
                </a:lnTo>
                <a:lnTo>
                  <a:pt x="0" y="859"/>
                </a:lnTo>
                <a:lnTo>
                  <a:pt x="6" y="908"/>
                </a:lnTo>
                <a:lnTo>
                  <a:pt x="20" y="970"/>
                </a:lnTo>
                <a:lnTo>
                  <a:pt x="34" y="1040"/>
                </a:lnTo>
                <a:lnTo>
                  <a:pt x="62" y="1102"/>
                </a:lnTo>
                <a:lnTo>
                  <a:pt x="83" y="1128"/>
                </a:lnTo>
                <a:lnTo>
                  <a:pt x="103" y="1150"/>
                </a:lnTo>
                <a:lnTo>
                  <a:pt x="159" y="1181"/>
                </a:lnTo>
                <a:lnTo>
                  <a:pt x="235" y="1199"/>
                </a:lnTo>
                <a:lnTo>
                  <a:pt x="311" y="1203"/>
                </a:lnTo>
                <a:lnTo>
                  <a:pt x="387" y="1199"/>
                </a:lnTo>
                <a:lnTo>
                  <a:pt x="421" y="1190"/>
                </a:lnTo>
                <a:lnTo>
                  <a:pt x="456" y="1181"/>
                </a:lnTo>
                <a:lnTo>
                  <a:pt x="518" y="1150"/>
                </a:lnTo>
                <a:lnTo>
                  <a:pt x="581" y="1115"/>
                </a:lnTo>
                <a:lnTo>
                  <a:pt x="643" y="1080"/>
                </a:lnTo>
                <a:lnTo>
                  <a:pt x="698" y="1044"/>
                </a:lnTo>
                <a:lnTo>
                  <a:pt x="740" y="1005"/>
                </a:lnTo>
                <a:lnTo>
                  <a:pt x="788" y="965"/>
                </a:lnTo>
                <a:lnTo>
                  <a:pt x="843" y="930"/>
                </a:lnTo>
                <a:lnTo>
                  <a:pt x="913" y="903"/>
                </a:lnTo>
                <a:lnTo>
                  <a:pt x="996" y="881"/>
                </a:lnTo>
                <a:lnTo>
                  <a:pt x="1072" y="855"/>
                </a:lnTo>
                <a:lnTo>
                  <a:pt x="1099" y="837"/>
                </a:lnTo>
                <a:lnTo>
                  <a:pt x="1127" y="820"/>
                </a:lnTo>
                <a:lnTo>
                  <a:pt x="1168" y="767"/>
                </a:lnTo>
                <a:lnTo>
                  <a:pt x="1189" y="709"/>
                </a:lnTo>
                <a:lnTo>
                  <a:pt x="1203" y="648"/>
                </a:lnTo>
                <a:lnTo>
                  <a:pt x="1210" y="582"/>
                </a:lnTo>
                <a:lnTo>
                  <a:pt x="1203" y="520"/>
                </a:lnTo>
                <a:lnTo>
                  <a:pt x="1175" y="458"/>
                </a:lnTo>
                <a:lnTo>
                  <a:pt x="1148" y="392"/>
                </a:lnTo>
                <a:lnTo>
                  <a:pt x="1127" y="330"/>
                </a:lnTo>
                <a:lnTo>
                  <a:pt x="1120" y="269"/>
                </a:lnTo>
                <a:lnTo>
                  <a:pt x="1120" y="211"/>
                </a:lnTo>
                <a:lnTo>
                  <a:pt x="1113" y="154"/>
                </a:lnTo>
                <a:lnTo>
                  <a:pt x="1099" y="106"/>
                </a:lnTo>
                <a:lnTo>
                  <a:pt x="1065" y="66"/>
                </a:lnTo>
                <a:lnTo>
                  <a:pt x="1023" y="35"/>
                </a:lnTo>
                <a:lnTo>
                  <a:pt x="975" y="9"/>
                </a:lnTo>
                <a:lnTo>
                  <a:pt x="919" y="0"/>
                </a:lnTo>
                <a:lnTo>
                  <a:pt x="892" y="0"/>
                </a:lnTo>
                <a:lnTo>
                  <a:pt x="857" y="4"/>
                </a:lnTo>
                <a:lnTo>
                  <a:pt x="788" y="22"/>
                </a:lnTo>
                <a:lnTo>
                  <a:pt x="719" y="44"/>
                </a:lnTo>
                <a:lnTo>
                  <a:pt x="684" y="53"/>
                </a:lnTo>
                <a:lnTo>
                  <a:pt x="650" y="57"/>
                </a:lnTo>
                <a:lnTo>
                  <a:pt x="615" y="57"/>
                </a:lnTo>
                <a:lnTo>
                  <a:pt x="581" y="57"/>
                </a:lnTo>
                <a:lnTo>
                  <a:pt x="511" y="48"/>
                </a:lnTo>
                <a:lnTo>
                  <a:pt x="449" y="39"/>
                </a:lnTo>
                <a:lnTo>
                  <a:pt x="421" y="39"/>
                </a:lnTo>
                <a:lnTo>
                  <a:pt x="394" y="44"/>
                </a:lnTo>
                <a:lnTo>
                  <a:pt x="338" y="66"/>
                </a:lnTo>
                <a:lnTo>
                  <a:pt x="297" y="97"/>
                </a:lnTo>
                <a:lnTo>
                  <a:pt x="255" y="132"/>
                </a:lnTo>
                <a:lnTo>
                  <a:pt x="214" y="163"/>
                </a:lnTo>
                <a:lnTo>
                  <a:pt x="179" y="194"/>
                </a:lnTo>
                <a:lnTo>
                  <a:pt x="152" y="220"/>
                </a:lnTo>
                <a:lnTo>
                  <a:pt x="131" y="251"/>
                </a:lnTo>
                <a:lnTo>
                  <a:pt x="103" y="286"/>
                </a:lnTo>
                <a:lnTo>
                  <a:pt x="76" y="330"/>
                </a:lnTo>
                <a:lnTo>
                  <a:pt x="48" y="374"/>
                </a:lnTo>
                <a:lnTo>
                  <a:pt x="20" y="423"/>
                </a:lnTo>
                <a:lnTo>
                  <a:pt x="6" y="476"/>
                </a:lnTo>
                <a:lnTo>
                  <a:pt x="0" y="538"/>
                </a:lnTo>
                <a:lnTo>
                  <a:pt x="0" y="599"/>
                </a:lnTo>
                <a:lnTo>
                  <a:pt x="6" y="661"/>
                </a:lnTo>
                <a:lnTo>
                  <a:pt x="6" y="718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292640" y="2463840"/>
            <a:ext cx="2387520" cy="2387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08560" y="2463840"/>
            <a:ext cx="2438280" cy="243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20000" y="2160720"/>
            <a:ext cx="73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11560" y="2338560"/>
            <a:ext cx="214560" cy="137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39160" y="2160720"/>
            <a:ext cx="73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04080" y="2376360"/>
            <a:ext cx="239760" cy="138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368960" y="2540160"/>
            <a:ext cx="2234880" cy="2234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2820960"/>
            <a:ext cx="2360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ink rat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S link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140240" y="4827600"/>
            <a:ext cx="82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208320" y="3119400"/>
            <a:ext cx="12812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34120" y="2489040"/>
            <a:ext cx="2387520" cy="2387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6884640" y="4806720"/>
            <a:ext cx="328680" cy="222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248520" y="406404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22960" y="32148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01080" y="32148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897480" y="1828800"/>
            <a:ext cx="6417720" cy="4555800"/>
            <a:chOff x="897480" y="1828800"/>
            <a:chExt cx="6417720" cy="4555800"/>
          </a:xfrm>
        </p:grpSpPr>
        <p:sp>
          <p:nvSpPr>
            <p:cNvPr id="481" name=""/>
            <p:cNvSpPr/>
            <p:nvPr/>
          </p:nvSpPr>
          <p:spPr>
            <a:xfrm>
              <a:off x="4497840" y="5564160"/>
              <a:ext cx="2651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overlap 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NAV is not re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1828800"/>
              <a:ext cx="3657600" cy="3657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14400" y="4116240"/>
              <a:ext cx="2360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link rate 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TS link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056040" y="4491000"/>
              <a:ext cx="82368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97480" y="5487840"/>
              <a:ext cx="32659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4 Mbps requi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ghly 15 dB higher C/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2DB-5093-4CCC-9E02-7C4A39A00B4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S Open Loop T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BSS, as STAs do not send Beacons regularly. How should transmit power be estim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F7A-D500-4B0C-86DD-029BE28824C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S Open Loop T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79720" y="1862280"/>
            <a:ext cx="3078360" cy="30733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22160" y="1832040"/>
            <a:ext cx="7766280" cy="45655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48240" y="3124080"/>
            <a:ext cx="15264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46960" y="1981080"/>
            <a:ext cx="1842840" cy="1447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37600" y="1881360"/>
            <a:ext cx="1181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927480" y="2189160"/>
            <a:ext cx="960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75480" y="236232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05720" y="3035160"/>
            <a:ext cx="177480" cy="17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08" y="21593"/>
                </a:moveTo>
                <a:arcTo wR="10800" hR="10800" stAng="5524954" swAng="5275046"/>
                <a:lnTo>
                  <a:pt x="10800" y="10800"/>
                </a:lnTo>
                <a:close/>
              </a:path>
              <a:path fill="none" w="21600" h="21600">
                <a:moveTo>
                  <a:pt x="10408" y="21593"/>
                </a:moveTo>
                <a:arcTo wR="10800" hR="10800" stAng="5524954" swAng="5275046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29640" y="2090880"/>
            <a:ext cx="72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076640" y="3981600"/>
            <a:ext cx="15264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1560" y="274320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4760" y="297180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46360" y="2657520"/>
            <a:ext cx="2133720" cy="1549440"/>
          </a:xfrm>
          <a:custGeom>
            <a:avLst/>
            <a:gdLst/>
            <a:ahLst/>
            <a:rect l="l" t="t" r="r" b="b"/>
            <a:pathLst>
              <a:path w="1344" h="976">
                <a:moveTo>
                  <a:pt x="429" y="4"/>
                </a:moveTo>
                <a:lnTo>
                  <a:pt x="369" y="9"/>
                </a:lnTo>
                <a:lnTo>
                  <a:pt x="304" y="17"/>
                </a:lnTo>
                <a:lnTo>
                  <a:pt x="244" y="30"/>
                </a:lnTo>
                <a:lnTo>
                  <a:pt x="189" y="55"/>
                </a:lnTo>
                <a:lnTo>
                  <a:pt x="145" y="89"/>
                </a:lnTo>
                <a:lnTo>
                  <a:pt x="105" y="140"/>
                </a:lnTo>
                <a:lnTo>
                  <a:pt x="75" y="191"/>
                </a:lnTo>
                <a:lnTo>
                  <a:pt x="45" y="246"/>
                </a:lnTo>
                <a:lnTo>
                  <a:pt x="25" y="301"/>
                </a:lnTo>
                <a:lnTo>
                  <a:pt x="10" y="365"/>
                </a:lnTo>
                <a:lnTo>
                  <a:pt x="5" y="428"/>
                </a:lnTo>
                <a:lnTo>
                  <a:pt x="0" y="488"/>
                </a:lnTo>
                <a:lnTo>
                  <a:pt x="5" y="547"/>
                </a:lnTo>
                <a:lnTo>
                  <a:pt x="15" y="610"/>
                </a:lnTo>
                <a:lnTo>
                  <a:pt x="30" y="670"/>
                </a:lnTo>
                <a:lnTo>
                  <a:pt x="45" y="725"/>
                </a:lnTo>
                <a:lnTo>
                  <a:pt x="55" y="780"/>
                </a:lnTo>
                <a:lnTo>
                  <a:pt x="65" y="835"/>
                </a:lnTo>
                <a:lnTo>
                  <a:pt x="80" y="882"/>
                </a:lnTo>
                <a:lnTo>
                  <a:pt x="95" y="920"/>
                </a:lnTo>
                <a:lnTo>
                  <a:pt x="115" y="941"/>
                </a:lnTo>
                <a:lnTo>
                  <a:pt x="135" y="954"/>
                </a:lnTo>
                <a:lnTo>
                  <a:pt x="160" y="962"/>
                </a:lnTo>
                <a:lnTo>
                  <a:pt x="189" y="967"/>
                </a:lnTo>
                <a:lnTo>
                  <a:pt x="254" y="975"/>
                </a:lnTo>
                <a:lnTo>
                  <a:pt x="334" y="967"/>
                </a:lnTo>
                <a:lnTo>
                  <a:pt x="379" y="958"/>
                </a:lnTo>
                <a:lnTo>
                  <a:pt x="424" y="941"/>
                </a:lnTo>
                <a:lnTo>
                  <a:pt x="474" y="928"/>
                </a:lnTo>
                <a:lnTo>
                  <a:pt x="524" y="920"/>
                </a:lnTo>
                <a:lnTo>
                  <a:pt x="584" y="920"/>
                </a:lnTo>
                <a:lnTo>
                  <a:pt x="644" y="920"/>
                </a:lnTo>
                <a:lnTo>
                  <a:pt x="709" y="924"/>
                </a:lnTo>
                <a:lnTo>
                  <a:pt x="764" y="920"/>
                </a:lnTo>
                <a:lnTo>
                  <a:pt x="814" y="903"/>
                </a:lnTo>
                <a:lnTo>
                  <a:pt x="859" y="882"/>
                </a:lnTo>
                <a:lnTo>
                  <a:pt x="904" y="856"/>
                </a:lnTo>
                <a:lnTo>
                  <a:pt x="958" y="822"/>
                </a:lnTo>
                <a:lnTo>
                  <a:pt x="993" y="805"/>
                </a:lnTo>
                <a:lnTo>
                  <a:pt x="1028" y="784"/>
                </a:lnTo>
                <a:lnTo>
                  <a:pt x="1108" y="738"/>
                </a:lnTo>
                <a:lnTo>
                  <a:pt x="1188" y="687"/>
                </a:lnTo>
                <a:lnTo>
                  <a:pt x="1218" y="661"/>
                </a:lnTo>
                <a:lnTo>
                  <a:pt x="1248" y="632"/>
                </a:lnTo>
                <a:lnTo>
                  <a:pt x="1268" y="598"/>
                </a:lnTo>
                <a:lnTo>
                  <a:pt x="1288" y="564"/>
                </a:lnTo>
                <a:lnTo>
                  <a:pt x="1318" y="488"/>
                </a:lnTo>
                <a:lnTo>
                  <a:pt x="1338" y="411"/>
                </a:lnTo>
                <a:lnTo>
                  <a:pt x="1343" y="377"/>
                </a:lnTo>
                <a:lnTo>
                  <a:pt x="1343" y="343"/>
                </a:lnTo>
                <a:lnTo>
                  <a:pt x="1333" y="288"/>
                </a:lnTo>
                <a:lnTo>
                  <a:pt x="1313" y="233"/>
                </a:lnTo>
                <a:lnTo>
                  <a:pt x="1283" y="191"/>
                </a:lnTo>
                <a:lnTo>
                  <a:pt x="1248" y="149"/>
                </a:lnTo>
                <a:lnTo>
                  <a:pt x="1208" y="119"/>
                </a:lnTo>
                <a:lnTo>
                  <a:pt x="1168" y="93"/>
                </a:lnTo>
                <a:lnTo>
                  <a:pt x="1118" y="72"/>
                </a:lnTo>
                <a:lnTo>
                  <a:pt x="1053" y="55"/>
                </a:lnTo>
                <a:lnTo>
                  <a:pt x="1013" y="47"/>
                </a:lnTo>
                <a:lnTo>
                  <a:pt x="968" y="38"/>
                </a:lnTo>
                <a:lnTo>
                  <a:pt x="864" y="26"/>
                </a:lnTo>
                <a:lnTo>
                  <a:pt x="759" y="13"/>
                </a:lnTo>
                <a:lnTo>
                  <a:pt x="714" y="9"/>
                </a:lnTo>
                <a:lnTo>
                  <a:pt x="669" y="4"/>
                </a:lnTo>
                <a:lnTo>
                  <a:pt x="599" y="0"/>
                </a:lnTo>
                <a:lnTo>
                  <a:pt x="539" y="0"/>
                </a:lnTo>
                <a:lnTo>
                  <a:pt x="484" y="0"/>
                </a:lnTo>
                <a:lnTo>
                  <a:pt x="429" y="4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4419720"/>
            <a:ext cx="7772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P selects a 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81560" y="3352680"/>
            <a:ext cx="228600" cy="208080"/>
          </a:xfrm>
          <a:prstGeom prst="hexagon">
            <a:avLst>
              <a:gd name="adj" fmla="val 27455"/>
              <a:gd name="vf" fmla="val 11547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629400" y="2666880"/>
            <a:ext cx="228600" cy="208080"/>
          </a:xfrm>
          <a:prstGeom prst="hexagon">
            <a:avLst>
              <a:gd name="adj" fmla="val 27455"/>
              <a:gd name="vf" fmla="val 11547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85800" y="2090880"/>
            <a:ext cx="7772400" cy="2844720"/>
            <a:chOff x="685800" y="2090880"/>
            <a:chExt cx="7772400" cy="2844720"/>
          </a:xfrm>
        </p:grpSpPr>
        <p:sp>
          <p:nvSpPr>
            <p:cNvPr id="506" name=""/>
            <p:cNvSpPr/>
            <p:nvPr/>
          </p:nvSpPr>
          <p:spPr>
            <a:xfrm>
              <a:off x="685800" y="4419720"/>
              <a:ext cx="77724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43000"/>
            </a:bodyPr>
            <a:p>
              <a:pPr marL="147240" indent="-147240">
                <a:spcBef>
                  <a:spcPts val="499"/>
                </a:spcBef>
                <a:buClr>
                  <a:srgbClr val="3333cc"/>
                </a:buClr>
                <a:buFont typeface="Webdings" charset="2"/>
                <a:buChar char="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AP selects a ST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47240" indent="-147240">
                <a:spcBef>
                  <a:spcPts val="499"/>
                </a:spcBef>
                <a:buClr>
                  <a:srgbClr val="3333cc"/>
                </a:buClr>
                <a:buFont typeface="Webdings" charset="2"/>
                <a:buChar char="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ssues a Probe request asking the selected STA to respond with TPC information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mit just after the Beacon to align with the wake up phas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3137040" y="2090880"/>
              <a:ext cx="2717640" cy="2717640"/>
              <a:chOff x="3137040" y="2090880"/>
              <a:chExt cx="2717640" cy="2717640"/>
            </a:xfrm>
          </p:grpSpPr>
          <p:sp>
            <p:nvSpPr>
              <p:cNvPr id="508" name=""/>
              <p:cNvSpPr/>
              <p:nvPr/>
            </p:nvSpPr>
            <p:spPr>
              <a:xfrm flipV="1">
                <a:off x="4610160" y="3213000"/>
                <a:ext cx="838080" cy="2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37040" y="2090880"/>
                <a:ext cx="2717640" cy="27176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042440" y="3524400"/>
                <a:ext cx="1806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obe Requ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E Transmit power requ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685800" y="1451160"/>
            <a:ext cx="7772400" cy="3490560"/>
            <a:chOff x="685800" y="1451160"/>
            <a:chExt cx="7772400" cy="3490560"/>
          </a:xfrm>
        </p:grpSpPr>
        <p:sp>
          <p:nvSpPr>
            <p:cNvPr id="512" name=""/>
            <p:cNvSpPr/>
            <p:nvPr/>
          </p:nvSpPr>
          <p:spPr>
            <a:xfrm>
              <a:off x="685800" y="4425840"/>
              <a:ext cx="77724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30000"/>
            </a:bodyPr>
            <a:p>
              <a:pPr marL="102600" indent="-102600">
                <a:spcBef>
                  <a:spcPts val="499"/>
                </a:spcBef>
                <a:buClr>
                  <a:srgbClr val="3333cc"/>
                </a:buClr>
                <a:buFont typeface="Webdings" charset="2"/>
                <a:buChar char="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AP selects a ST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2600" indent="-102600">
                <a:spcBef>
                  <a:spcPts val="499"/>
                </a:spcBef>
                <a:buClr>
                  <a:srgbClr val="3333cc"/>
                </a:buClr>
                <a:buFont typeface="Webdings" charset="2"/>
                <a:buChar char="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ssues a Probe request asking the selected STA to respond with TPC information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mit just after the Beacon to align with the wake up phas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2600" indent="-102600">
                <a:spcBef>
                  <a:spcPts val="499"/>
                </a:spcBef>
                <a:buClr>
                  <a:srgbClr val="3333cc"/>
                </a:buClr>
                <a:buFont typeface="Webdings" charset="2"/>
                <a:buChar char="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response is a Probe response containing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T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X_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4610160" y="3213000"/>
              <a:ext cx="83808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51200" y="1451160"/>
              <a:ext cx="3402720" cy="340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21" y="13241"/>
                  </a:moveTo>
                  <a:arcTo wR="10800" hR="10800" stAng="783763" swAng="127484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21" y="13241"/>
                  </a:moveTo>
                  <a:arcTo wR="10800" hR="10800" stAng="783763" swAng="12748420"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72800" y="3389400"/>
              <a:ext cx="110592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e 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TX,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X_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85800" y="2895120"/>
            <a:ext cx="7772400" cy="2041920"/>
            <a:chOff x="685800" y="2895120"/>
            <a:chExt cx="7772400" cy="2041920"/>
          </a:xfrm>
        </p:grpSpPr>
        <p:sp>
          <p:nvSpPr>
            <p:cNvPr id="517" name=""/>
            <p:cNvSpPr/>
            <p:nvPr/>
          </p:nvSpPr>
          <p:spPr>
            <a:xfrm>
              <a:off x="685800" y="4421160"/>
              <a:ext cx="77724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24000"/>
            </a:bodyPr>
            <a:p>
              <a:pPr marL="82080" indent="-82080">
                <a:spcBef>
                  <a:spcPts val="499"/>
                </a:spcBef>
                <a:buClr>
                  <a:srgbClr val="3333cc"/>
                </a:buClr>
                <a:buFont typeface="Webdings" charset="2"/>
                <a:buChar char="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AP selects a ST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2080" indent="-82080">
                <a:spcBef>
                  <a:spcPts val="499"/>
                </a:spcBef>
                <a:buClr>
                  <a:srgbClr val="3333cc"/>
                </a:buClr>
                <a:buFont typeface="Webdings" charset="2"/>
                <a:buChar char="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ssues a Probe request asking the selected STA to respond with TPC information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mit just after the Beacon to align with the wake up phas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2080" indent="-82080">
                <a:spcBef>
                  <a:spcPts val="499"/>
                </a:spcBef>
                <a:buClr>
                  <a:srgbClr val="3333cc"/>
                </a:buClr>
                <a:buFont typeface="Webdings" charset="2"/>
                <a:buChar char="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response is a Probe response containing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T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X_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2080" indent="-82080">
                <a:spcBef>
                  <a:spcPts val="499"/>
                </a:spcBef>
                <a:buClr>
                  <a:srgbClr val="3333cc"/>
                </a:buClr>
                <a:buFont typeface="Webdings" charset="2"/>
                <a:buChar char="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n loop transmit power is estimated as in the IBS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4610160" y="2895120"/>
              <a:ext cx="838080" cy="22860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4125960" y="3060360"/>
              <a:ext cx="1271520" cy="11412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4267080" y="3276360"/>
              <a:ext cx="1193760" cy="7239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4686120" y="3238560"/>
              <a:ext cx="685800" cy="16488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546B-85DA-46E0-A9CD-271A39290A5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S Open Loop T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determines polling sequen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specifi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ic complexity retained = O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DBC-0A2B-4468-9B96-0DF93BC2E8F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h has as objectives to design TPC and DFS for 802.1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is considered in this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: Design a TPC scheme that meet the following basic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equirements …. are to be met by IBSS and infrastructure BSS, during DCF or optional PCF operation…..”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Functional Requirement 01/07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D5E-FC33-4256-9533-6B79498A58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601560" y="2271600"/>
          <a:ext cx="8143920" cy="69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2271600"/>
                    <a:ext cx="81439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1732680" y="2843280"/>
            <a:ext cx="582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Power Information Reques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587520" y="4430880"/>
          <a:ext cx="8170560" cy="698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7520" y="4430880"/>
                    <a:ext cx="81705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2262240" y="5068800"/>
            <a:ext cx="477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Power Informatio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B09-F977-4991-8349-37DC9495664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s are conveyed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46200" y="1824120"/>
          <a:ext cx="8142120" cy="93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1824120"/>
                    <a:ext cx="81421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646200" y="3503520"/>
          <a:ext cx="8142120" cy="922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00" y="3503520"/>
                    <a:ext cx="814212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646200" y="5191200"/>
          <a:ext cx="8142120" cy="706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6200" y="5191200"/>
                    <a:ext cx="814212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3121200" y="2475000"/>
            <a:ext cx="28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con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742120" y="4164120"/>
            <a:ext cx="360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 request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650680" y="5624640"/>
            <a:ext cx="379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 response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27600" y="2082960"/>
            <a:ext cx="88920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708-A000-4E2A-9C16-742E528E257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posed IE extension is backward compatible to legacy STA, i.e. They neglect new IE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82F-1C20-4607-993E-DB89C4C636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93880" y="1981080"/>
            <a:ext cx="72864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425760" y="1981080"/>
            <a:ext cx="72864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78360" y="1981080"/>
            <a:ext cx="727200" cy="682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T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59080" y="1981080"/>
            <a:ext cx="72900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08800" y="1981080"/>
            <a:ext cx="72864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56480" y="2057400"/>
            <a:ext cx="216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PC CTS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16200" y="3046320"/>
            <a:ext cx="2840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922200" y="2736720"/>
            <a:ext cx="123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692440" y="268920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19600" y="268920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73160" y="171468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04680" y="171468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17560" y="171468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879880" y="171468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82840" y="171468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51000" y="5334120"/>
          <a:ext cx="8640720" cy="73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5334120"/>
                    <a:ext cx="86407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3690720" y="5946840"/>
            <a:ext cx="189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X_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87760" y="3733920"/>
            <a:ext cx="72864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19640" y="3733920"/>
            <a:ext cx="72864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71880" y="3733920"/>
            <a:ext cx="727200" cy="682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T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52960" y="3733920"/>
            <a:ext cx="72864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02320" y="3733920"/>
            <a:ext cx="72864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" y="3886200"/>
            <a:ext cx="224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PC ACK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09720" y="4799160"/>
            <a:ext cx="2922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15720" y="4489560"/>
            <a:ext cx="123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685960" y="444168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600880" y="444168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66680" y="34765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98560" y="34765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1440" y="34765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73400" y="34765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76360" y="34765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542-C1DE-49C4-A459-CF4CB42BFC7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format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X_re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field incur no extra OH, merely a fuller OFDM symbol for all link 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CTS (ACK) is only sent from and to TPC enabled STA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ne or two legacy STAs are involved, legacy CTS (ACK) ar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CTS (ACK) sets NAV on legacy STA, i.e. backward compat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60E-046B-48EB-AE4B-DD47ACBD4F1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format issue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cy CTS (ACK) and TPC CTS (ACK) can co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1: Differentiate through PHY length or address information + CTS subtyp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2: Define new subtype for TPC 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8E6-2A42-449E-BC76-316DCE3E215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S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5400000">
            <a:off x="2552040" y="912600"/>
            <a:ext cx="171360" cy="173988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02920" y="1650960"/>
            <a:ext cx="46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 rot="16200000">
            <a:off x="2551680" y="1131840"/>
            <a:ext cx="174600" cy="173988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03640" y="1871640"/>
            <a:ext cx="46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5400000">
            <a:off x="2198160" y="1714680"/>
            <a:ext cx="879480" cy="1739880"/>
          </a:xfrm>
          <a:prstGeom prst="parallelogram">
            <a:avLst>
              <a:gd name="adj" fmla="val 4014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01760" y="2403360"/>
            <a:ext cx="60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rot="16200000">
            <a:off x="2551320" y="2274840"/>
            <a:ext cx="171360" cy="173988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279880" y="301320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33600" y="1844640"/>
            <a:ext cx="0" cy="1381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1279080" y="323208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1279080" y="183672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74960" y="2065320"/>
            <a:ext cx="0" cy="1125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1201680" y="1688760"/>
            <a:ext cx="0" cy="4143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7360" y="1689120"/>
            <a:ext cx="61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023480" y="2092320"/>
            <a:ext cx="7542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23480" y="1689120"/>
            <a:ext cx="7542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023480" y="2990880"/>
            <a:ext cx="7542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201680" y="2097000"/>
            <a:ext cx="0" cy="8985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7360" y="2403360"/>
            <a:ext cx="61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774960" y="1917720"/>
            <a:ext cx="0" cy="133200"/>
          </a:xfrm>
          <a:prstGeom prst="line">
            <a:avLst/>
          </a:prstGeom>
          <a:ln w="1260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504960" y="191448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33600" y="1701720"/>
            <a:ext cx="0" cy="133560"/>
          </a:xfrm>
          <a:prstGeom prst="line">
            <a:avLst/>
          </a:prstGeom>
          <a:ln w="1260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504960" y="205740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65440" y="1523880"/>
            <a:ext cx="0" cy="205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10000" y="1523880"/>
            <a:ext cx="0" cy="205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51560" y="1523880"/>
            <a:ext cx="0" cy="411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194680" y="1523880"/>
            <a:ext cx="0" cy="411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7235280" y="914040"/>
            <a:ext cx="171720" cy="173988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90480" y="1650960"/>
            <a:ext cx="46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rot="16200000">
            <a:off x="7234920" y="1133640"/>
            <a:ext cx="174600" cy="173988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991560" y="1871640"/>
            <a:ext cx="46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5400000">
            <a:off x="6881400" y="1716120"/>
            <a:ext cx="879480" cy="1739880"/>
          </a:xfrm>
          <a:prstGeom prst="parallelogram">
            <a:avLst>
              <a:gd name="adj" fmla="val 4014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85000" y="2403360"/>
            <a:ext cx="60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rot="16200000">
            <a:off x="7234560" y="2276280"/>
            <a:ext cx="171360" cy="173988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6966720" y="301320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219720" y="1844640"/>
            <a:ext cx="0" cy="1381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5965560" y="549432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965560" y="183672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461440" y="2065320"/>
            <a:ext cx="0" cy="1125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5710320" y="2092320"/>
            <a:ext cx="753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710320" y="1689120"/>
            <a:ext cx="753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461440" y="1917720"/>
            <a:ext cx="0" cy="133200"/>
          </a:xfrm>
          <a:prstGeom prst="line">
            <a:avLst/>
          </a:prstGeom>
          <a:ln w="1260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8189640" y="191448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219720" y="1701720"/>
            <a:ext cx="0" cy="133560"/>
          </a:xfrm>
          <a:prstGeom prst="line">
            <a:avLst/>
          </a:prstGeom>
          <a:ln w="1260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8189640" y="205740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6881400" y="2844720"/>
            <a:ext cx="879480" cy="1739880"/>
          </a:xfrm>
          <a:prstGeom prst="parallelogram">
            <a:avLst>
              <a:gd name="adj" fmla="val 4014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885000" y="3535200"/>
            <a:ext cx="60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rot="16200000">
            <a:off x="7234560" y="3405240"/>
            <a:ext cx="171720" cy="173988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6966720" y="414324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6881760" y="3975120"/>
            <a:ext cx="882360" cy="1739880"/>
          </a:xfrm>
          <a:prstGeom prst="parallelogram">
            <a:avLst>
              <a:gd name="adj" fmla="val 4014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85000" y="4664160"/>
            <a:ext cx="60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 rot="16200000">
            <a:off x="7234920" y="4535640"/>
            <a:ext cx="174600" cy="173988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6966720" y="527544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7000" y="2998800"/>
            <a:ext cx="0" cy="231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410840" y="299088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56360" y="2998800"/>
            <a:ext cx="0" cy="13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6095880" y="2990880"/>
            <a:ext cx="362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095880" y="3236760"/>
            <a:ext cx="362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6095880" y="4362480"/>
            <a:ext cx="362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5965560" y="412740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100920" y="4135320"/>
            <a:ext cx="0" cy="1352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8189640" y="319716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8192880" y="4325760"/>
            <a:ext cx="36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461440" y="3205080"/>
            <a:ext cx="0" cy="111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461440" y="4334040"/>
            <a:ext cx="0" cy="1114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8192880" y="5454720"/>
            <a:ext cx="36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3504960" y="319716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1023480" y="3236760"/>
            <a:ext cx="7542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1201680" y="2984040"/>
            <a:ext cx="0" cy="25740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9880" y="2989440"/>
            <a:ext cx="66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859360" y="1693440"/>
            <a:ext cx="0" cy="4143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050080" y="1697040"/>
            <a:ext cx="61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859360" y="2104920"/>
            <a:ext cx="0" cy="89712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050080" y="2406600"/>
            <a:ext cx="61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859360" y="2989440"/>
            <a:ext cx="0" cy="25704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050080" y="2973240"/>
            <a:ext cx="61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5710320" y="2990880"/>
            <a:ext cx="753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5710320" y="3241800"/>
            <a:ext cx="753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095880" y="4118040"/>
            <a:ext cx="362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6095880" y="4362480"/>
            <a:ext cx="362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5859360" y="3228840"/>
            <a:ext cx="0" cy="8985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5859360" y="4118040"/>
            <a:ext cx="0" cy="25560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710320" y="4118040"/>
            <a:ext cx="753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710320" y="4367160"/>
            <a:ext cx="753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6095880" y="5245200"/>
            <a:ext cx="362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6095880" y="5491080"/>
            <a:ext cx="362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859360" y="4356000"/>
            <a:ext cx="0" cy="8985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859360" y="5243040"/>
            <a:ext cx="0" cy="25740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5710320" y="5245200"/>
            <a:ext cx="753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5710320" y="5495760"/>
            <a:ext cx="753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50080" y="3559320"/>
            <a:ext cx="61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050080" y="4124160"/>
            <a:ext cx="61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50080" y="4664160"/>
            <a:ext cx="61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052600" y="5268960"/>
            <a:ext cx="66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10640" y="5637240"/>
            <a:ext cx="2467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ransmit power may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V setting- virtual channel s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V setting - physical channel s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5400000">
            <a:off x="2558520" y="3201840"/>
            <a:ext cx="171360" cy="173988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09760" y="3938760"/>
            <a:ext cx="60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rot="16200000">
            <a:off x="2558880" y="3422160"/>
            <a:ext cx="174600" cy="174024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2321640" y="416088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4133880"/>
            <a:ext cx="0" cy="249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1287000" y="412596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208160" y="3979440"/>
            <a:ext cx="0" cy="4143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71600" y="4040280"/>
            <a:ext cx="61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031400" y="4383000"/>
            <a:ext cx="752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031400" y="3979800"/>
            <a:ext cx="752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82880" y="4208400"/>
            <a:ext cx="0" cy="133560"/>
          </a:xfrm>
          <a:prstGeom prst="line">
            <a:avLst/>
          </a:prstGeom>
          <a:ln w="1260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511080" y="420516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39720" y="3992400"/>
            <a:ext cx="0" cy="133560"/>
          </a:xfrm>
          <a:prstGeom prst="line">
            <a:avLst/>
          </a:prstGeom>
          <a:ln w="1260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3511080" y="434808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771560" y="3755880"/>
            <a:ext cx="1744920" cy="846360"/>
            <a:chOff x="1771560" y="3755880"/>
            <a:chExt cx="1744920" cy="846360"/>
          </a:xfrm>
        </p:grpSpPr>
        <p:sp>
          <p:nvSpPr>
            <p:cNvPr id="693" name=""/>
            <p:cNvSpPr/>
            <p:nvPr/>
          </p:nvSpPr>
          <p:spPr>
            <a:xfrm>
              <a:off x="1771560" y="3755880"/>
              <a:ext cx="0" cy="84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516480" y="3755880"/>
              <a:ext cx="0" cy="84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782720" y="4759200"/>
            <a:ext cx="0" cy="163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527280" y="4759200"/>
            <a:ext cx="0" cy="163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rot="5400000">
            <a:off x="2569680" y="4205160"/>
            <a:ext cx="171360" cy="173988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20920" y="4946760"/>
            <a:ext cx="60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rot="16200000">
            <a:off x="2568960" y="4425840"/>
            <a:ext cx="174600" cy="173988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330640" y="516564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50880" y="5137200"/>
            <a:ext cx="0" cy="684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296720" y="512928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1219320" y="4982760"/>
            <a:ext cx="0" cy="4143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7360" y="5040360"/>
            <a:ext cx="61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1041480" y="5386320"/>
            <a:ext cx="753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041480" y="4983120"/>
            <a:ext cx="753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92600" y="5211720"/>
            <a:ext cx="0" cy="133560"/>
          </a:xfrm>
          <a:prstGeom prst="line">
            <a:avLst/>
          </a:prstGeom>
          <a:ln w="1260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3522240" y="520848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50880" y="4995720"/>
            <a:ext cx="0" cy="133560"/>
          </a:xfrm>
          <a:prstGeom prst="line">
            <a:avLst/>
          </a:prstGeom>
          <a:ln w="1260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522240" y="535140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7360" y="5353200"/>
            <a:ext cx="61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rot="5400000">
            <a:off x="2569680" y="4646520"/>
            <a:ext cx="174600" cy="173988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0920" y="5388120"/>
            <a:ext cx="60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rot="16200000">
            <a:off x="2568960" y="4868640"/>
            <a:ext cx="171360" cy="173988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330640" y="560880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041480" y="6278400"/>
            <a:ext cx="753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522240" y="579420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5400000">
            <a:off x="2569680" y="5089680"/>
            <a:ext cx="174600" cy="173988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20920" y="5827680"/>
            <a:ext cx="60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2568960" y="5310360"/>
            <a:ext cx="174600" cy="1739880"/>
          </a:xfrm>
          <a:prstGeom prst="parallelogram">
            <a:avLst>
              <a:gd name="adj" fmla="val 20227"/>
            </a:avLst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2330640" y="605304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219320" y="5385960"/>
            <a:ext cx="0" cy="18108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1296720" y="582768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1296720" y="556272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498680" y="5570640"/>
            <a:ext cx="0" cy="70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1296720" y="601992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384200" y="6027840"/>
            <a:ext cx="0" cy="244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792600" y="5359320"/>
            <a:ext cx="0" cy="428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522240" y="62341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92600" y="5802480"/>
            <a:ext cx="0" cy="426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1041480" y="5562720"/>
            <a:ext cx="753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1041480" y="5827680"/>
            <a:ext cx="753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041480" y="6019920"/>
            <a:ext cx="753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219320" y="5555880"/>
            <a:ext cx="0" cy="27612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1219320" y="5817960"/>
            <a:ext cx="0" cy="20772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1219320" y="6013440"/>
            <a:ext cx="0" cy="27000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7360" y="5608800"/>
            <a:ext cx="61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7360" y="5794200"/>
            <a:ext cx="61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9880" y="6056280"/>
            <a:ext cx="66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881600" y="5989680"/>
            <a:ext cx="3999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881600" y="6226200"/>
            <a:ext cx="399960" cy="0"/>
          </a:xfrm>
          <a:prstGeom prst="line">
            <a:avLst/>
          </a:prstGeom>
          <a:ln w="1260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860720" y="56563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3480" y="1457280"/>
            <a:ext cx="103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PC set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3480" y="3749760"/>
            <a:ext cx="103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PC set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03480" y="4753080"/>
            <a:ext cx="103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PC set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954680" y="1449360"/>
            <a:ext cx="103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PC set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B48-E56E-4736-A2E6-D1774FE1E37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iered TPC scheme, able to operate in both BSS and IBBS network, on basis of the fundamental DCF channel access scheme has been presen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TPC uses fixed TP, OL and CL T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14B-624B-496C-B9FC-2E45AF39D1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haracterize by low OH, low algorithmic complexity, insurance of backward compatibility, speed and preci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also been shown how the interaction between TPC and channel access scheme has been considered in this propos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BC80-9C76-420F-BB4F-577A7DEA416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our belief that this proposal can meet current as well as future requirements on TP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our recommendation that this proposal shall be considered for TPC in 802.11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615-DED3-4A10-BA7B-88FA2F3C69D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design Philoso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the generic IBSS problem. BSS treated as a special case of IB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solution on DCF, not PCF or HCF. DCF is widely deployed and it is the legacy access mechanism of 802.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PC shall integrate well with power saving mechanis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PC inherently interacts with MAC (for all proposals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TPC shall integrate well with MAC mechanisms. Hence TPC frames &amp; IEs must be put in a context to test viability. Ensure backward compati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least possible interference and consume least possibl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94F-44BF-436A-8D17-C751010577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design Philosophy 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ered T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TPC mechanisms and sett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lk traffic uses the most accurate TPC. Energy minim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ological constraints ex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01880" y="5334120"/>
            <a:ext cx="7010280" cy="914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73480" y="5486400"/>
            <a:ext cx="4419360" cy="6318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16480" y="5638680"/>
            <a:ext cx="2286000" cy="298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27600" y="5257800"/>
            <a:ext cx="30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5240" y="4789440"/>
            <a:ext cx="203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294920" y="5322960"/>
            <a:ext cx="784440" cy="32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9680" y="5334120"/>
            <a:ext cx="10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0" y="4989600"/>
            <a:ext cx="2090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rely sent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361960" y="4941360"/>
            <a:ext cx="631800" cy="78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296720" y="4952880"/>
            <a:ext cx="10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6160" y="4560840"/>
            <a:ext cx="254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asional sent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657600" y="4408560"/>
            <a:ext cx="78408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592000" y="4419720"/>
            <a:ext cx="10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4027320"/>
            <a:ext cx="237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alent sent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60" y="5322960"/>
            <a:ext cx="144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transmi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5520" y="4878360"/>
            <a:ext cx="171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ate transmi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9360" y="4357800"/>
            <a:ext cx="1662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mal transmi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0BE-9FE5-42D3-937D-CDD17175B4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TPC Main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F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red TPC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loop T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loop T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121-97AD-4ACF-A10B-FCAD4B3B9D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stration of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: Important to understand what effects TPC has on channel a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 example scenario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SS with RTS-CTS-DATA-ACK pha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8CD-ED61-4554-A3B8-EC9334B183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con (IBS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con sent around TB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s take turn to transmit Beacon (randomiz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save STAs (normally) wake up and listen for (or send) Bea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Domain specific TP setting is adopted. Distribution of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open loop T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CE8-9861-46D6-B611-27C451EE05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ed domain transmit power information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 initiating an IBSS determines transmit power levels from its MI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s joining the IBSS replicate and distribute the domain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er Larsson, Ericsson Radio System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662-DBCD-444E-BD42-9238C92A51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2:34:01Z</dcterms:created>
  <dc:creator>Ericsson User</dc:creator>
  <dc:description/>
  <dc:language>en-US</dc:language>
  <cp:lastModifiedBy>Ericsson User</cp:lastModifiedBy>
  <cp:lastPrinted>1998-02-10T13:28:06Z</cp:lastPrinted>
  <dcterms:modified xsi:type="dcterms:W3CDTF">2001-05-14T15:26:37Z</dcterms:modified>
  <cp:revision>13</cp:revision>
  <dc:subject/>
  <dc:title>No Slide Title</dc:title>
</cp:coreProperties>
</file>