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584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41F-A7D0-4B86-8EB3-5699B6B7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4200" y="413064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D0B-CF65-4487-A538-C5D30DE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4200" y="413064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5400" y="413064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437-4C6B-4B9A-9508-1AD1EAA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5000" y="198108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36160" y="198108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4200" y="413064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5000" y="413064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36160" y="413064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E20-97E6-43F1-98BE-77F25114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162-17E3-4E67-AE9F-C593FD4D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5D-2CD0-46CB-8078-0C26E56F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EC1-6ED7-4929-AA37-57864C5B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1F8-F81D-40E6-AE65-835EA17C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4200" y="685440"/>
            <a:ext cx="8550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502-4420-434B-A273-1785C29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4200" y="413064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01E-4077-4CA0-993B-2C70803F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5400" y="413064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55D-E4A6-4A7E-98F1-129BB9D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13064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FCB-D73C-405F-8749-DE35CAB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9600" y="39564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35760" y="6474960"/>
            <a:ext cx="343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492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871314-0C2F-49B3-B403-20E54DA11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44960" y="396000"/>
            <a:ext cx="435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69r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200" y="609480"/>
            <a:ext cx="855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200" y="6475320"/>
            <a:ext cx="78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4200" y="6477120"/>
            <a:ext cx="86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Dynamic Frequency Selection (DFS) and Transmit Power Control (TPC) Joint Proposal for 802.11h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22320" y="3429000"/>
            <a:ext cx="829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Cho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Gra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M. Kassli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Mangol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. Soomr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s Researc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Nokia Research Cente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ComNets Aachen Universit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C6F-573E-42D7-9A6C-CED9B59924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Summary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ctet in Received Signal Strength Range Indicator (RSSRI) Statistics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2590920"/>
          <a:ext cx="8715600" cy="160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871560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98520" y="5165640"/>
          <a:ext cx="5457960" cy="988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8520" y="5165640"/>
                    <a:ext cx="54579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E87-E101-42E7-9714-402E6371CC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Switch Announcemen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4200" y="16765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element information in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81080" y="3429000"/>
          <a:ext cx="6027840" cy="17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29000"/>
                    <a:ext cx="60278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447360" y="545796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No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503-2DCC-4D29-BE30-7504D30C9A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(Re)Association Frame Request Fram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3840" y="1981080"/>
            <a:ext cx="8466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 conveys its supported channels via Supported Channels Informatio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76520" y="3124080"/>
            <a:ext cx="6681600" cy="1054080"/>
            <a:chOff x="1676520" y="3124080"/>
            <a:chExt cx="6681600" cy="1054080"/>
          </a:xfrm>
        </p:grpSpPr>
        <p:grpSp>
          <p:nvGrpSpPr>
            <p:cNvPr id="91" name=""/>
            <p:cNvGrpSpPr/>
            <p:nvPr/>
          </p:nvGrpSpPr>
          <p:grpSpPr>
            <a:xfrm>
              <a:off x="1760400" y="3124080"/>
              <a:ext cx="4275000" cy="609840"/>
              <a:chOff x="1760400" y="3124080"/>
              <a:chExt cx="4275000" cy="609840"/>
            </a:xfrm>
          </p:grpSpPr>
          <p:sp>
            <p:nvSpPr>
              <p:cNvPr id="92" name=""/>
              <p:cNvSpPr/>
              <p:nvPr/>
            </p:nvSpPr>
            <p:spPr>
              <a:xfrm>
                <a:off x="1760400" y="3124080"/>
                <a:ext cx="15926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53040" y="3124080"/>
                <a:ext cx="26823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0400" y="3429000"/>
                <a:ext cx="15926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353040" y="3429000"/>
                <a:ext cx="26823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pported Chann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676520" y="3809880"/>
              <a:ext cx="66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ication to Association Request Management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716120" y="4683240"/>
            <a:ext cx="6681240" cy="1053720"/>
            <a:chOff x="1716120" y="4683240"/>
            <a:chExt cx="6681240" cy="1053720"/>
          </a:xfrm>
        </p:grpSpPr>
        <p:grpSp>
          <p:nvGrpSpPr>
            <p:cNvPr id="98" name=""/>
            <p:cNvGrpSpPr/>
            <p:nvPr/>
          </p:nvGrpSpPr>
          <p:grpSpPr>
            <a:xfrm>
              <a:off x="1800000" y="4683240"/>
              <a:ext cx="4273920" cy="609120"/>
              <a:chOff x="1800000" y="4683240"/>
              <a:chExt cx="4273920" cy="609120"/>
            </a:xfrm>
          </p:grpSpPr>
          <p:sp>
            <p:nvSpPr>
              <p:cNvPr id="99" name=""/>
              <p:cNvSpPr/>
              <p:nvPr/>
            </p:nvSpPr>
            <p:spPr>
              <a:xfrm>
                <a:off x="1800000" y="4683240"/>
                <a:ext cx="15922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92280" y="4683240"/>
                <a:ext cx="268164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00000" y="4987800"/>
                <a:ext cx="15922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92280" y="4987800"/>
                <a:ext cx="268164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pported Chann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16120" y="5368680"/>
              <a:ext cx="66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ication to Reassociation Request Management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7DF-07B2-473D-A636-2F76024DA3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pported Channels Information Elemen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it corresponds to 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78200" y="3809880"/>
          <a:ext cx="6319800" cy="13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3809880"/>
                    <a:ext cx="631980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59B-DD33-494B-8D21-5D9FEAF609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apability Informa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ew bit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: A STA can understand TPC related frames and information - bi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S: A STA can understand all the DFS related frames and information, can perform the channel measurements and can generate measurement reports - bit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802.11h compliant AP and STA shall set both thes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C5A-B5B9-4F38-8B63-BE3D4E2F2A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dvantag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minimal protocol to ensur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ood assessment of channel state via Measurement Summary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detection of other license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for vendors to include algorithms of thei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3C5-C3C4-474A-B5B5-D3B821D27F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4200" y="2057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73240" y="3276720"/>
            <a:ext cx="7796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mit Power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7A0-36A2-4987-89B0-6AABCA0AAB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3840" y="1981080"/>
            <a:ext cx="871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vised TPC Propo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DC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and HCF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s to Beacon and Probe Response/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from March me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51D-7322-4ADC-A16C-34067C71A3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4200" y="609480"/>
            <a:ext cx="8550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view of TPC Methodolog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4200" y="15238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D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uggested power setting is used by all STA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s indicate power capabilities in (Re)Association Requ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and H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may be different for all STAs where transmit power is set by each STA within maximum bounds set by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ing power on a per STA basi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batter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network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power on a per STA basis for a short time can improve frame error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2400" y="5738760"/>
            <a:ext cx="84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teven Gray and Venkatesh Vadde, Throughput and Loss Packet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CF with Variable Transmit Power,  IEEE802.11-01/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22A-A4B1-488E-BB57-BC95738D45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(E)DCF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4200" y="16765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Country Informational Element from TGd is used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hannels in the regulator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EIRP (relative to omni) for each frequency chann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eacon order is added to accommodate power adjustments from the maximum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Association Request is augmented to contain the maximum transmit power capabilities of the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6FE-FCB4-4AA9-A1DC-4DACB4A55B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4200" y="17524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Frequency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D3D-671E-466B-848C-31F884DF9E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(E)DCF 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021040" y="2054160"/>
          <a:ext cx="6673680" cy="22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2054160"/>
                    <a:ext cx="667368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69960" y="4191120"/>
            <a:ext cx="8550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200" y="4343400"/>
            <a:ext cx="855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hannel Number: first channel where power setting is val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hannels: self explana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Transmit Power Level: EIRP in dB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has the discretion to determine how much information to send (minimum requirement is one set of First Channel Number, Number of Channels, and Maximum Transmit Power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200" y="1600200"/>
            <a:ext cx="855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Informa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299-1A9E-459B-8973-4C5F3FDB6D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(E)DCF (3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46560" y="2133720"/>
          <a:ext cx="4443480" cy="29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6560" y="2133720"/>
                    <a:ext cx="444348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315120" y="525780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hannel Number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106720"/>
            <a:ext cx="40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Transmit Power 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3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ed number from -127 to 128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6CB-EE91-44F0-99E0-81FFC33066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(E)DCF (4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57480" y="2971800"/>
          <a:ext cx="7502400" cy="35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971800"/>
                    <a:ext cx="7502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754200" y="1981080"/>
            <a:ext cx="855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Beacon Order allows the AP to adjust transmit power relative to the maximum in 3 dB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581280"/>
            <a:ext cx="855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etting Relative to the Max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bits allow changes from 0 dB to -4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B08-52ED-4993-BD97-A6937D9149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 and HCF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4200" y="1980720"/>
            <a:ext cx="8550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up to 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ower setting up to and inclu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ower Setting Relative to 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Power Level Adjustment Information Element i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s can optimize for power consumption, error ra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field is modified so all frames are stamped with transmit power (easy estimation of path lo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5F7-CA7A-45B2-9385-93D17A9CFD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685440"/>
            <a:ext cx="8634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 and HCF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87520" y="1981080"/>
            <a:ext cx="8967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w Service field definition uses currently undefined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2160" y="34225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2160" y="34225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14960" y="34225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2160" y="3429000"/>
            <a:ext cx="64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2160" y="3575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2160" y="3575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14960" y="3429000"/>
            <a:ext cx="792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14960" y="357516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41360" y="4084560"/>
            <a:ext cx="7543440" cy="700200"/>
            <a:chOff x="1341360" y="4084560"/>
            <a:chExt cx="7543440" cy="700200"/>
          </a:xfrm>
        </p:grpSpPr>
        <p:sp>
          <p:nvSpPr>
            <p:cNvPr id="150" name=""/>
            <p:cNvSpPr/>
            <p:nvPr/>
          </p:nvSpPr>
          <p:spPr>
            <a:xfrm>
              <a:off x="6370200" y="4084560"/>
              <a:ext cx="2514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6560" y="4084560"/>
              <a:ext cx="2933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Setting Relative to Maxim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41360" y="4084560"/>
              <a:ext cx="20952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rambler Initia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360" y="4084560"/>
              <a:ext cx="7543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41360" y="4784760"/>
              <a:ext cx="7543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41360" y="4084560"/>
              <a:ext cx="0" cy="700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6560" y="4084560"/>
              <a:ext cx="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70200" y="4084560"/>
              <a:ext cx="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84800" y="4084560"/>
              <a:ext cx="0" cy="700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259640" y="3657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560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7   B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7360" y="36640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1  B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55400" y="3664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A21-EF5D-4A29-904A-DE20CB5A25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for IBS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4200" y="1980720"/>
            <a:ext cx="8550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C requirements for the Ad Hoc mode are satisfied by reducing the power used by all STAs as suggested in [1] by 3 dB from the maximum allowed in the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8240" y="5878440"/>
            <a:ext cx="85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Greg Chesson and Bill McFarland, “Atheros DFS/TPC Proposal”, IEEE802.11-00/270,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487-B455-42AB-9E14-69BB868B18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at Has Changed?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7160" y="1981080"/>
            <a:ext cx="871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D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setting is a “should” instead of “shall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Information Element is used as is from TGd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)Association Request contains maximum transmit pow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field is used to “stamp” each frame with the transmit power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and H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s decides what transmit power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field is used to “stamp” each frame with the transmit power set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B41-CE0D-473B-8694-880643DD4E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4200" y="17524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mechanisms for vendors to meet the minimum requirements of the ERC for transmit pow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solution allowing AP to inform BSS of power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and H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s decide 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ous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battery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Q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8A4-F285-40B0-9C6D-107E3309A8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4200" y="2057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240" y="3276720"/>
            <a:ext cx="7796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ynamic Frequency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FB2-A8B0-469D-A250-DBEAB37575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FS Procedure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420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hannel Measurem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easurement Process i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’s Measurement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’s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reports from STAs to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hannel Switch Annou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channel swit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015-F9C5-4DC3-85E3-A7C3049A8D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P Channel Measurement Reques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Measurement Request management 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generic action request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, how, and which channel(s)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hannel measurement method inform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02120" y="5105520"/>
            <a:ext cx="24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No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4A9-193A-470E-9BD5-C11AE5E6F7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2920" y="2057040"/>
            <a:ext cx="9304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-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ques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27000" y="3303720"/>
          <a:ext cx="8425080" cy="21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3303720"/>
                    <a:ext cx="84250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AFB-0209-4FF5-9045-BC7BB486A0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1828440"/>
            <a:ext cx="9304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Method Information Elemen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87600" y="2355840"/>
          <a:ext cx="6516720" cy="193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355840"/>
                    <a:ext cx="65167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152360" y="4645080"/>
          <a:ext cx="7988400" cy="200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2360" y="4645080"/>
                    <a:ext cx="79884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03280" y="4038480"/>
            <a:ext cx="896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F8B-4807-4995-87E8-263136DC29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2920" y="2057040"/>
            <a:ext cx="9304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from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33480" y="3297240"/>
          <a:ext cx="835344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3297240"/>
                    <a:ext cx="83534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A00-4294-4DE6-B1A4-AC43372CAC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77880" y="2747880"/>
          <a:ext cx="6264360" cy="17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747880"/>
                    <a:ext cx="626436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4200" y="685440"/>
            <a:ext cx="8550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Elemen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ort results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5160" y="4505400"/>
          <a:ext cx="8207640" cy="1228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505400"/>
                    <a:ext cx="82076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670-BBD2-4CC7-856B-3E7CAAEEC8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A. Soomro, S. Choi , Philips Research and others</dc:creator>
  <dc:description>Sunghyun Choi, Philips Research-USA</dc:description>
  <cp:keywords>May 2001</cp:keywords>
  <dc:language>en-US</dc:language>
  <cp:lastModifiedBy>Sunghyun Choi</cp:lastModifiedBy>
  <cp:lastPrinted>1998-02-10T13:28:06Z</cp:lastPrinted>
  <dcterms:modified xsi:type="dcterms:W3CDTF">2001-05-15T03:37:53Z</dcterms:modified>
  <cp:revision>216</cp:revision>
  <dc:subject>Submissions</dc:subject>
  <dc:title>TPC and DFS Joint Proposal for 802.11h</dc:title>
</cp:coreProperties>
</file>