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E88-D99A-4EC0-BDB4-E1665041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23E-90AF-43AB-B93F-946E31E2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F3C-5268-49CB-B0BD-3325FDA7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C1A-4E1B-43FF-8A67-C09B76BB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72B-4738-4EF2-BAF1-298D6127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FFE-6501-47DE-AE31-ED5B8237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79D-B132-41DB-8356-C2F4E432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FE8-7EAA-45E2-BC03-C96DA47D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B4A-7B27-4619-890B-5C918708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18E-42F9-4932-ABBD-3B718F6D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466-4605-4B1F-A761-D10FA327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A6C-53EE-48D8-AFDF-2BD87C69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379C81-0A06-4795-901C-343E82931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169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Dynamic Frequency Selection (DFS) and Transmit Power Control (TPC) Joint Proposal for 802.11h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. Cho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. Gra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M. Kassli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. Mangol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. Soomro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ilips Researc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Nokia Research Cente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ComNets Aachen Universit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D75-CA43-488F-AF81-899CFEE7A2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easurement should minimize the service dis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during a CFP or after RT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 moves to channel(s) to measure as requested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ype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other BSSs running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A Busy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SRI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2D0-1454-4C7F-86ED-6D57A95DD5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generic action management frame from 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Report Management Fram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43120" y="3306600"/>
          <a:ext cx="7729560" cy="19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3306600"/>
                    <a:ext cx="772956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6A3-60F6-46C4-830A-007FFD38E2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92280" y="2755800"/>
          <a:ext cx="6435720" cy="341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2755800"/>
                    <a:ext cx="643572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Report Information Elemen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port results abo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1AB-F6CB-4541-ADE9-F63F0A25E7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Summary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ctet in Received Signal Strength Range Indicator (RSSRI) Statistics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2717640"/>
          <a:ext cx="8584920" cy="208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17640"/>
                    <a:ext cx="858492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Report Information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28720" y="5165640"/>
          <a:ext cx="5932440" cy="1768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8720" y="5165640"/>
                    <a:ext cx="5932440" cy="17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C9D-4651-4786-B6AF-FA24E98852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4. Measurement Report to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of STA(s)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reported during CP or CFP (per being pol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ime limit as specified in the report request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CF6-B259-48C5-8973-1F930DAD2A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5. Decision Making by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ake a decision per hearing the measurement reports from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o move or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ich channel if decided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move, i.e., in which TB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sleeping STAs to determine when to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146-422A-4FEF-8C97-0D40768E1B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6. Announce of Channel Switch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nnounce the channel move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ision announced via beaco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d several times to ensure the decision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hannel switch announcement eleme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30520" y="4757760"/>
          <a:ext cx="6041880" cy="179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0520" y="4757760"/>
                    <a:ext cx="6041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034-C5CF-431F-9BFB-4CEAA25F8B3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7. Switch into New Chann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cheduled moment, i.e., TBTT, all STAs including AP change their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by changing PHY MIB using PLM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t11CurrentFrequency in .1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2BD-91F3-410F-836E-DDCBD711B7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art II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ransmit Power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93D-948A-43CB-BB77-38E4E65B7E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otivation for TPC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we need it for ER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C can extend battery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C can increase network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C can improve SNR (on a short term ba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F9B0-F901-4B43-95BD-E4AF856F7F8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Frequency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Power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C04-978C-44AA-B2A8-2D3E400CC7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verview of TPC Methodolog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power for all is sent in the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ower setting is “fair” for STAs using CSMA/CA (i.e., CCA mechanism is k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F, EPCF and HC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power may be different for all STAs where transmit power information is contained in the po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ing power on a per STA basis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battery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network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power on a per STA basis for a short time can improve frame error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770-7FF9-4A00-8B3A-4B27D26695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DCF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eacon orders are added to accommodate TP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 is incapable of decoding new elements, then TPC commands are ignored (obvious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901-E918-4830-BA47-15AAC4289A9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DCF (2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895480"/>
          <a:ext cx="7429680" cy="237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95480"/>
                    <a:ext cx="74296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17640" y="20574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eacon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262-347A-4554-A279-600E524657B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DCF (3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2054160"/>
          <a:ext cx="6694560" cy="221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4160"/>
                    <a:ext cx="6694560" cy="22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09480" y="41911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343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hannel Number: first channel where power setting is val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hannels: self explanat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Transmit Power Level: EIRP in dB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 has the discretion to determine how much information to send (minimum requirement is one set of First Channel Number, Number of Channels, and Maximum Transmit Power Lev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002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Information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5B4-F3B7-4821-8E51-1F7DFDE2BB6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DCF (4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2209680"/>
          <a:ext cx="2768760" cy="265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2768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657600" y="2133720"/>
          <a:ext cx="4444920" cy="2984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133720"/>
                    <a:ext cx="444492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907560" y="5029200"/>
            <a:ext cx="31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um Transmit Power Level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4360" y="5257800"/>
            <a:ext cx="23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Channel Number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C23-E478-431E-B213-FFAFFAA1C3D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DCF (5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2514600"/>
          <a:ext cx="6820200" cy="35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6820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198108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Level Adjustment Information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43000" y="3048120"/>
          <a:ext cx="6819840" cy="2654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048120"/>
                    <a:ext cx="681984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735280" y="5791320"/>
            <a:ext cx="34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Setting Relative to Maximum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0D0-0A84-4FFA-AA09-D965B11590B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PCF, EPCF and HCF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changed on a per STA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power used by the STA is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(TxPoll, Maximum Transmit Power Leve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xPoll = MaxTxP+ PwrSetRelMax + 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Tx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Maximum Transmit Power Level from the Domain Informatio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wrSetRel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ower Setting Relative to Maximum from the Power Level Adjustment Information El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x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delta change in power per 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76A-8587-4325-AE3F-BDF23B858C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PCF, EPCF and HCF(2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posed MAC frame format by TGe (shown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F: TCID is gone and 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x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conveyed in the Duration/ ID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PCF: many bits are currently available in TCID field for </a:t>
            </a:r>
            <a:r>
              <a:rPr b="0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x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C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ittle bit of a problem because only 2 bits are currently available in TCID for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xP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4419720"/>
          <a:ext cx="8521560" cy="111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419720"/>
                    <a:ext cx="85215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E5E-6F5D-4E23-99C0-5964E2B657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with PCF, EPCF and HCF(3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2362320"/>
          <a:ext cx="4470480" cy="26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62320"/>
                    <a:ext cx="447048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593800" y="518148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xP: Delta Power Change Set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B9E-55D4-4EF7-B9E4-7D6014F2EE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FS Summar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FS mechanism proposed for infrastructure BSS of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ype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new management fram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{generic} action fra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new information ele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switching annou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hannel measuremen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measuremen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F0F-67DE-4722-8C59-4713FB025E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art I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ynamic Frequency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F09-2176-4DD1-917E-6B504365E8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PC Summar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s the minimum requirements of the ERC for transmit powe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solution allowing AP to inform BSS of power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PCF and H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network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battery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3EF-78AB-44A7-A639-6F914B4186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otivation for DFS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we need it for ER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S can enhance QoS when there exist overlapping BS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S can enhance QoS when there exists alien systems in the prox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657-C9F6-42B8-80DF-73AC4A3803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FS Procedure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 of a new channe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of a channel measur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easurement process of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witch announc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into the new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D82-D953-4A05-A593-CC2B05F292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. Initiation of Channel Sele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cases of channel selection 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BSS is formed by an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S w/ no associated 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bad channel condition persistent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ing BSS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d by the AP’s measurement and STAs’ voluntary measurement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initiate will be up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522-73E9-4B9F-BF6F-EAAD304728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2. Channel Measurement Reques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requests channel measurements to some STAs to find the best channel to run its 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should buffer the downlink traffic for the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hannel Measurement Request management fr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generic action request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, how, and which channel(s)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hannel measurement method informa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E22-8331-46FD-B0AD-0BB2253A88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generic action management frame from 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easurement Request Management Fram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43120" y="3306600"/>
          <a:ext cx="7729560" cy="19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3306600"/>
                    <a:ext cx="772956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CB0-631C-4D69-8079-986E57BE1B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hannel measurement metho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wo Channel Measurement Method Information Elemen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395440"/>
          <a:ext cx="6553080" cy="194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95440"/>
                    <a:ext cx="655308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85800" y="4653000"/>
          <a:ext cx="8001000" cy="2041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653000"/>
                    <a:ext cx="80010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57200" y="40384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 channel measurement metho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Choi and S. Gray, Philips Research/Nok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571-F21F-44E9-A7DC-042E77FD8B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3:27:42Z</dcterms:created>
  <dc:creator>Sunghyun Choi, Philips Research</dc:creator>
  <dc:description>Sunghyun Choi, Philips Research-USA</dc:description>
  <cp:keywords>September 2000</cp:keywords>
  <dc:language>en-US</dc:language>
  <cp:lastModifiedBy>Sunghyun Choi</cp:lastModifiedBy>
  <cp:lastPrinted>1998-02-10T13:28:06Z</cp:lastPrinted>
  <dcterms:modified xsi:type="dcterms:W3CDTF">2001-03-14T12:50:57Z</dcterms:modified>
  <cp:revision>190</cp:revision>
  <dc:subject>Submissions</dc:subject>
  <dc:title>Dynamic Channel Selection (DCS) Scheme for 802.11</dc:title>
</cp:coreProperties>
</file>