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90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7166-BD27-4AFD-BAD5-A87AD0633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1F6C-EB1B-4F47-B4DD-0946BBA67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5AEF-D51F-4A92-AAB0-8E6F42763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FC49-768D-4637-AB7E-B6B33AC21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AB87-6FC9-406B-9522-762B52EB1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A114-FB87-41A5-96F2-1A66652CD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0AB9-86D3-4801-8F9C-E8BCB6C06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C7DC-B433-4902-9E94-7E148C01F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B3F9-34AC-445B-9FBF-57AA5BCEE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52C3-37F7-40B6-A550-E08F44609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0F49-3C1D-47C1-A684-0FEFBDB83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2C5A-F21C-48FB-9A93-03E07540B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182520"/>
            <a:ext cx="914400" cy="42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rch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8143920" y="6474960"/>
            <a:ext cx="466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41F3FC12-BD7B-435C-B838-5C40D5274B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898240" y="396000"/>
            <a:ext cx="2567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1/145r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-DCF with Backoff Adaptation to Traff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athilde Benvenis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T&amp;T Labs, Re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7280" y="5830920"/>
            <a:ext cx="732672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elevant submissions: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IEEE 802.11-00/375 (.ppt and .doc); -00/456; -00/457; -01/002;  -01/004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-01/019; -01/117r1; -01/135r1; -01/14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hilde Benveniste, AT&amp;T Labs -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124A-1A78-45E9-AB62-392B4A751359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ember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Basic Scaling Algorith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606840" y="2502000"/>
            <a:ext cx="1270080" cy="774720"/>
          </a:xfrm>
          <a:prstGeom prst="flowChartProcess">
            <a:avLst/>
          </a:prstGeom>
          <a:solidFill>
            <a:srgbClr val="ff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le up;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just p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587600" y="3759120"/>
            <a:ext cx="1270080" cy="774720"/>
          </a:xfrm>
          <a:prstGeom prst="flowChartProcess">
            <a:avLst/>
          </a:prstGeom>
          <a:solidFill>
            <a:srgbClr val="ff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new T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A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tima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= n p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689440" y="5003640"/>
            <a:ext cx="1270080" cy="774720"/>
          </a:xfrm>
          <a:prstGeom prst="flowChartProcess">
            <a:avLst/>
          </a:prstGeom>
          <a:solidFill>
            <a:srgbClr val="ff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le down;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just p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517920" y="3683160"/>
            <a:ext cx="1447920" cy="939600"/>
          </a:xfrm>
          <a:prstGeom prst="flowChartDecision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b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&gt; = C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600880" y="3683160"/>
            <a:ext cx="1447560" cy="939600"/>
          </a:xfrm>
          <a:prstGeom prst="flowChartDecision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b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&lt; = C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6" name=""/>
          <p:cNvCxnSpPr/>
          <p:nvPr/>
        </p:nvCxnSpPr>
        <p:spPr>
          <a:xfrm flipH="1">
            <a:off x="3225240" y="4146480"/>
            <a:ext cx="38520" cy="720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17" name=""/>
          <p:cNvCxnSpPr>
            <a:stCxn id="112" idx="3"/>
            <a:endCxn id="114" idx="1"/>
          </p:cNvCxnSpPr>
          <p:nvPr/>
        </p:nvCxnSpPr>
        <p:spPr>
          <a:xfrm>
            <a:off x="2857680" y="4146480"/>
            <a:ext cx="660600" cy="72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18" name=""/>
          <p:cNvCxnSpPr>
            <a:stCxn id="114" idx="3"/>
            <a:endCxn id="115" idx="1"/>
          </p:cNvCxnSpPr>
          <p:nvPr/>
        </p:nvCxnSpPr>
        <p:spPr>
          <a:xfrm>
            <a:off x="4965840" y="4152600"/>
            <a:ext cx="63576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19" name=""/>
          <p:cNvCxnSpPr>
            <a:stCxn id="111" idx="3"/>
            <a:endCxn id="120" idx="0"/>
          </p:cNvCxnSpPr>
          <p:nvPr/>
        </p:nvCxnSpPr>
        <p:spPr>
          <a:xfrm>
            <a:off x="4876920" y="2889000"/>
            <a:ext cx="2913840" cy="1143720"/>
          </a:xfrm>
          <a:prstGeom prst="bentConnector2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21" name=""/>
          <p:cNvCxnSpPr>
            <a:stCxn id="113" idx="3"/>
            <a:endCxn id="120" idx="4"/>
          </p:cNvCxnSpPr>
          <p:nvPr/>
        </p:nvCxnSpPr>
        <p:spPr>
          <a:xfrm flipV="1">
            <a:off x="6959160" y="4279680"/>
            <a:ext cx="831240" cy="1111680"/>
          </a:xfrm>
          <a:prstGeom prst="bentConnector2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20" name=""/>
          <p:cNvSpPr/>
          <p:nvPr/>
        </p:nvSpPr>
        <p:spPr>
          <a:xfrm>
            <a:off x="7678800" y="4032360"/>
            <a:ext cx="220680" cy="247680"/>
          </a:xfrm>
          <a:prstGeom prst="flowChartConnector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15" idx="3"/>
            <a:endCxn id="120" idx="2"/>
          </p:cNvCxnSpPr>
          <p:nvPr/>
        </p:nvCxnSpPr>
        <p:spPr>
          <a:xfrm>
            <a:off x="7048080" y="4152600"/>
            <a:ext cx="631080" cy="39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23" name=""/>
          <p:cNvCxnSpPr>
            <a:stCxn id="114" idx="0"/>
            <a:endCxn id="111" idx="2"/>
          </p:cNvCxnSpPr>
          <p:nvPr/>
        </p:nvCxnSpPr>
        <p:spPr>
          <a:xfrm flipV="1">
            <a:off x="4241520" y="3276000"/>
            <a:ext cx="1080" cy="4071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24" name=""/>
          <p:cNvCxnSpPr>
            <a:stCxn id="115" idx="2"/>
            <a:endCxn id="113" idx="0"/>
          </p:cNvCxnSpPr>
          <p:nvPr/>
        </p:nvCxnSpPr>
        <p:spPr>
          <a:xfrm>
            <a:off x="6324120" y="4622760"/>
            <a:ext cx="1080" cy="3816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25" name=""/>
          <p:cNvSpPr/>
          <p:nvPr/>
        </p:nvSpPr>
        <p:spPr>
          <a:xfrm>
            <a:off x="825480" y="4019400"/>
            <a:ext cx="220680" cy="247680"/>
          </a:xfrm>
          <a:prstGeom prst="flowChartConnector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5" idx="6"/>
            <a:endCxn id="112" idx="1"/>
          </p:cNvCxnSpPr>
          <p:nvPr/>
        </p:nvCxnSpPr>
        <p:spPr>
          <a:xfrm>
            <a:off x="1046160" y="4142880"/>
            <a:ext cx="542160" cy="39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27" name=""/>
          <p:cNvSpPr/>
          <p:nvPr/>
        </p:nvSpPr>
        <p:spPr>
          <a:xfrm>
            <a:off x="4265280" y="3402000"/>
            <a:ext cx="46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89360" y="4622760"/>
            <a:ext cx="46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521480" y="3567240"/>
            <a:ext cx="7156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T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87520" y="3567240"/>
            <a:ext cx="7156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T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hilde Benveniste, AT&amp;T Labs - Resear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08E1-CFFE-409D-83C3-8E74A30AFB27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ember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545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Estimating 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612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9000"/>
          </a:bodyPr>
          <a:p>
            <a:pPr marL="2707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An estimate of the CBT arrival rate </a:t>
            </a:r>
            <a:r>
              <a:rPr b="0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 is maintained for time periods outside PCF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= N /(T</a:t>
            </a:r>
            <a:r>
              <a:rPr b="0" lang="en-GB" sz="1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- T</a:t>
            </a:r>
            <a:r>
              <a:rPr b="0" lang="en-GB" sz="1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where N is 4, and (T</a:t>
            </a:r>
            <a:r>
              <a:rPr b="0" lang="en-GB" sz="1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- T</a:t>
            </a:r>
            <a:r>
              <a:rPr b="0" lang="en-GB" sz="1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) time for the last N successful CB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Idle perio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Using the length of the idle period (T</a:t>
            </a:r>
            <a:r>
              <a:rPr b="0" lang="en-GB" sz="1400" spc="-1" strike="noStrike" baseline="-25000">
                <a:solidFill>
                  <a:srgbClr val="000000"/>
                </a:solidFill>
                <a:latin typeface="Comic Sans MS"/>
              </a:rPr>
              <a:t>AT 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- T</a:t>
            </a:r>
            <a:r>
              <a:rPr b="0" lang="en-GB" sz="1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), compute the number t of idle slots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apply the following t tim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GB" sz="1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= n</a:t>
            </a:r>
            <a:r>
              <a:rPr b="0" lang="en-GB" sz="1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;    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1" lang="en-GB" sz="1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 = n</a:t>
            </a:r>
            <a:r>
              <a:rPr b="1" lang="en-GB" sz="1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 . q + 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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where </a:t>
            </a:r>
            <a:r>
              <a:rPr b="0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is the slot time and q = 1 - p</a:t>
            </a:r>
            <a:r>
              <a:rPr b="0" lang="en-GB" sz="1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CBT - ‘Succes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When a good CRC is received, or an ACK or CTS follows, update n</a:t>
            </a:r>
            <a:r>
              <a:rPr b="0" lang="en-GB" sz="1400" spc="-1" strike="noStrike" baseline="-25000">
                <a:solidFill>
                  <a:srgbClr val="000000"/>
                </a:solidFill>
                <a:latin typeface="Comic Sans MS"/>
              </a:rPr>
              <a:t>1 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as follow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baseline="-25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1" lang="en-GB" sz="1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 = n</a:t>
            </a:r>
            <a:r>
              <a:rPr b="1" lang="en-GB" sz="1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 . q + 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 .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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 + 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CBT - ‘Failure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Otherwise, update n</a:t>
            </a:r>
            <a:r>
              <a:rPr b="0" lang="en-GB" sz="1400" spc="-1" strike="noStrike" baseline="-25000">
                <a:solidFill>
                  <a:srgbClr val="000000"/>
                </a:solidFill>
                <a:latin typeface="Comic Sans MS"/>
              </a:rPr>
              <a:t>1 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as follow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1" lang="en-GB" sz="1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 = n</a:t>
            </a:r>
            <a:r>
              <a:rPr b="1" lang="en-GB" sz="1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 + 2 + 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 .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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 + 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hilde Benveniste, AT&amp;T Labs -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C9E9-B66E-4B77-9CBF-98C679901B1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ember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545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QoS Differenti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612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BAT is compatible with TC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All classes are scaled by the same fa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Comic Sans MS"/>
              </a:rPr>
              <a:t>Distributed vs Centralized Monito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The stations perform channel monitoring and determine the scaling factors, instead of </a:t>
            </a:r>
            <a:r>
              <a:rPr b="1" i="1" lang="en-GB" sz="1400" spc="-1" strike="noStrike">
                <a:solidFill>
                  <a:srgbClr val="000000"/>
                </a:solidFill>
                <a:latin typeface="Comic Sans MS"/>
              </a:rPr>
              <a:t>just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the 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This eliminates the need to transmit a ‘management’ frame for periods as short as necessary for residual backoff adaptation (~5 millisec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This way, capacity is not lost to  ‘management’ overhead, which is incurred at inconvenient  times; as at the start of a traffic bur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Backoff adaptation can benefit from knowledge of local conditions in the BSS through distributed monit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Distributed monitoring provides BAT in IB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hilde Benveniste, AT&amp;T Labs -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DBCE-4926-4961-B23F-F78D1854883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ember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545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Comparison of BAT to p-Persistent C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612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BAT can be compared to p-persistent CSMA  (the ‘permission probability’ approach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Similaritie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They both control the probability of transmissio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They both use the expected number of backlogged st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They  both use pseudo-Bayesian stabilis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Difference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Upon adjustment of the permission probability, p-persistent CSMA treats all packets the same, independent of 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Delay jitter is introdu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Upon scaling, Backoff Adaptation to Traffic preserves the ordering of the backoff values, thus older packets are more likely to transmit fir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No added delay jit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hilde Benveniste, AT&amp;T Labs -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2897-4DD4-400D-AA32-C0F6C11DC2C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ember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545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Conclu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612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Backoff Adaptation to Traffic, BAT, increases channel utilisation efficiency and reduces delays without causing delay jit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It is performed by the stations, thus reducing the channel capacity overhead for that purpo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It utilises information on local conditions in the B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It provides adaptation to traffic to an IB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It is compatible with TC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hilde Benveniste, AT&amp;T Labs -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2871-7193-40F2-BDE4-F1A4E825E70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ember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Backoff Adaptation to Traffic (BAT) - Gene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409760"/>
            <a:ext cx="7772400" cy="431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Backoff adaptation involves changes in the values in response to traffic conges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It uses feedback on traffic fluctuations to avoid collisions and reduce idl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Window Adap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Changes the contention window for random backoff values for new packet arrivals or retransmiss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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BAT helps determine the number of active sess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sidual Adapta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The residual backoff value of a backlogged station is chang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300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‘</a:t>
            </a: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Backlogged’ stations are stations with packets pending trans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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BAT helps avoid collisions and reduces delay during traffic burs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hilde Benveniste, AT&amp;T Labs -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DDBB-9119-4FCD-9E29-4A2CC400E2A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ember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Role of the ES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47276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pon joining a BSS or IBSS, or whenever they detect any change in the advertised values of CWSiz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STAs set their CWSiz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o the value in the EDCF Eleme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STAs engage in FAT and adjust their  CWSiz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and residual backoff values m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STAs send one of their CWSiz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o the AP in any new frame type under consideration; the CWSiz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of any class conveys the same scaling informa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Role of the 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sing CWSiz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Comic Sans MS"/>
              </a:rPr>
              <a:t>i 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n the EDCF element, the AP may adjust the contention window in response to traffic condition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 new window is used when a new packet arrives or upon retrial of a failed transmiss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 AP may adjust the CWSiz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n response to information received from the ESTAs in the BSS on their backoff adjustm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hilde Benveniste, AT&amp;T Labs -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8C10-E71F-4447-85A0-92F6894F543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ember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caling Fa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409760"/>
            <a:ext cx="7772400" cy="431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The ‘scaling factor’ </a:t>
            </a:r>
            <a:r>
              <a:rPr b="0" i="1" lang="en-GB" sz="1400" spc="-1" strike="noStrike">
                <a:solidFill>
                  <a:srgbClr val="000000"/>
                </a:solidFill>
                <a:latin typeface="Comic Sans MS"/>
              </a:rPr>
              <a:t>C 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is the coefficient of expansion or compres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C &gt; 1</a:t>
            </a:r>
            <a:r>
              <a:rPr b="0" i="1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when scaling 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C &lt; 1</a:t>
            </a:r>
            <a:r>
              <a:rPr b="0" i="1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when scaling dow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For efficiency scaling occurs at discrete adjustment   ste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GB" sz="1400" spc="-1" strike="noStrike" baseline="-25000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= 1 + R = 1.5  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when scaling up with the step R = 1/2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GB" sz="1400" spc="-1" strike="noStrike" baseline="-25000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= 1/(1+D) = 0.75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when scaling down with the step D = 1/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hilde Benveniste, AT&amp;T Labs -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515B-D4B2-44B5-962C-7AEC9CFE663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ember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Window Adapt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612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Given the scaling up factor C</a:t>
            </a:r>
            <a:r>
              <a:rPr b="0" lang="en-GB" sz="1400" spc="-1" strike="noStrike" baseline="-25000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, the new contention window size becom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aCurrentCWSize </a:t>
            </a:r>
            <a:r>
              <a:rPr b="0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trunc[C</a:t>
            </a:r>
            <a:r>
              <a:rPr b="0" lang="en-GB" sz="1400" spc="-1" strike="noStrike" baseline="-25000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 x aCurrentCWSize + 0.5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Given the scaling down with factor C</a:t>
            </a:r>
            <a:r>
              <a:rPr b="0" lang="en-GB" sz="1400" spc="-1" strike="noStrike" baseline="-25000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, the new contention window size becom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aCurrentCWSize </a:t>
            </a:r>
            <a:r>
              <a:rPr b="0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max { trunc[C</a:t>
            </a:r>
            <a:r>
              <a:rPr b="0" lang="en-GB" sz="1400" spc="-1" strike="noStrike" baseline="-25000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 x (aCurrentCWSize + D)] , 2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Residual Adap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When adjusting residual backoff values by fractional adjustment step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new backoff values must be intege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the ordering of the backoff values must be preserv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new backoff values must be distributed uniform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hilde Benveniste, AT&amp;T Labs -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4839-7DF4-4A6A-8596-20DFA995E0F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ember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Scaling U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612800"/>
            <a:ext cx="4749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Given the scaling up factor C</a:t>
            </a:r>
            <a:r>
              <a:rPr b="0" lang="en-GB" sz="1400" spc="-1" strike="noStrike" baseline="-25000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= 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e + f = m x C</a:t>
            </a:r>
            <a:r>
              <a:rPr b="0" lang="en-GB" sz="1400" spc="-1" strike="noStrike" baseline="-25000">
                <a:solidFill>
                  <a:srgbClr val="000000"/>
                </a:solidFill>
                <a:latin typeface="Comic Sans MS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if  f = 1/2, 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m’ = e 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with prob 1/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m’ = e + 1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with prob 1/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if  f = 0,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m’ = e - 1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with prob 1/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m’ = e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with prob 2/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m’ = e + 1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with prob 1/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6243840" y="1816200"/>
            <a:ext cx="1489680" cy="3337560"/>
            <a:chOff x="6243840" y="1816200"/>
            <a:chExt cx="1489680" cy="3337560"/>
          </a:xfrm>
        </p:grpSpPr>
        <p:sp>
          <p:nvSpPr>
            <p:cNvPr id="59" name=""/>
            <p:cNvSpPr/>
            <p:nvPr/>
          </p:nvSpPr>
          <p:spPr>
            <a:xfrm>
              <a:off x="6243840" y="1816200"/>
              <a:ext cx="176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519320" y="1816200"/>
              <a:ext cx="214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m’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298200" y="2778120"/>
              <a:ext cx="102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298200" y="3497400"/>
              <a:ext cx="102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298200" y="4218120"/>
              <a:ext cx="102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" name=""/>
            <p:cNvGrpSpPr/>
            <p:nvPr/>
          </p:nvGrpSpPr>
          <p:grpSpPr>
            <a:xfrm>
              <a:off x="7565040" y="2538360"/>
              <a:ext cx="142560" cy="2148840"/>
              <a:chOff x="7565040" y="2538360"/>
              <a:chExt cx="142560" cy="2148840"/>
            </a:xfrm>
          </p:grpSpPr>
          <p:sp>
            <p:nvSpPr>
              <p:cNvPr id="65" name=""/>
              <p:cNvSpPr/>
              <p:nvPr/>
            </p:nvSpPr>
            <p:spPr>
              <a:xfrm>
                <a:off x="7604640" y="2538360"/>
                <a:ext cx="1029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7592040" y="3103560"/>
                <a:ext cx="1029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7579080" y="3559320"/>
                <a:ext cx="1029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565040" y="4005360"/>
                <a:ext cx="1029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7592040" y="4473720"/>
                <a:ext cx="1029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" name=""/>
            <p:cNvSpPr/>
            <p:nvPr/>
          </p:nvSpPr>
          <p:spPr>
            <a:xfrm>
              <a:off x="7038360" y="4940280"/>
              <a:ext cx="497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R=1/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" name=""/>
            <p:cNvGrpSpPr/>
            <p:nvPr/>
          </p:nvGrpSpPr>
          <p:grpSpPr>
            <a:xfrm>
              <a:off x="6578280" y="2698920"/>
              <a:ext cx="762120" cy="409320"/>
              <a:chOff x="6578280" y="2698920"/>
              <a:chExt cx="762120" cy="409320"/>
            </a:xfrm>
          </p:grpSpPr>
          <p:sp>
            <p:nvSpPr>
              <p:cNvPr id="72" name=""/>
              <p:cNvSpPr/>
              <p:nvPr/>
            </p:nvSpPr>
            <p:spPr>
              <a:xfrm flipV="1">
                <a:off x="6578280" y="2698920"/>
                <a:ext cx="762120" cy="18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578280" y="2887560"/>
                <a:ext cx="762120" cy="220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" name=""/>
            <p:cNvSpPr/>
            <p:nvPr/>
          </p:nvSpPr>
          <p:spPr>
            <a:xfrm flipV="1">
              <a:off x="6565680" y="3315960"/>
              <a:ext cx="762120" cy="29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565680" y="3606840"/>
              <a:ext cx="7747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" name=""/>
            <p:cNvGrpSpPr/>
            <p:nvPr/>
          </p:nvGrpSpPr>
          <p:grpSpPr>
            <a:xfrm>
              <a:off x="6629400" y="4108320"/>
              <a:ext cx="761760" cy="409320"/>
              <a:chOff x="6629400" y="4108320"/>
              <a:chExt cx="761760" cy="409320"/>
            </a:xfrm>
          </p:grpSpPr>
          <p:sp>
            <p:nvSpPr>
              <p:cNvPr id="77" name=""/>
              <p:cNvSpPr/>
              <p:nvPr/>
            </p:nvSpPr>
            <p:spPr>
              <a:xfrm flipV="1">
                <a:off x="6629400" y="4108320"/>
                <a:ext cx="761760" cy="18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6629400" y="4296960"/>
                <a:ext cx="761760" cy="220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" name=""/>
            <p:cNvSpPr/>
            <p:nvPr/>
          </p:nvSpPr>
          <p:spPr>
            <a:xfrm>
              <a:off x="6629400" y="3611520"/>
              <a:ext cx="698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hilde Benveniste, AT&amp;T Labs -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56A5-5676-4048-BDB1-55F6EB6026D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ember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Scaling Dow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87320" y="1612800"/>
            <a:ext cx="4749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Given the scaling up factor C</a:t>
            </a:r>
            <a:r>
              <a:rPr b="0" lang="en-GB" sz="1400" spc="-1" strike="noStrike" baseline="-25000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= 3/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e + f = m x C</a:t>
            </a:r>
            <a:r>
              <a:rPr b="0" lang="en-GB" sz="1400" spc="-1" strike="noStrike" baseline="-25000">
                <a:solidFill>
                  <a:srgbClr val="000000"/>
                </a:solidFill>
                <a:latin typeface="Comic Sans MS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if f = 3/4, 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m’ = e 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with prob 1/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m’ = e + 1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with prob 5/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if  f = 1/2,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m’ = e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with prob 1/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m’ = e + 1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with prob 1/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if  f = 1/4, 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m’ = e 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with prob 5/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m’ = e + 1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with prob 1/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if  f = 0,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m’ = e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with prob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6104880" y="1849320"/>
            <a:ext cx="1715400" cy="3367800"/>
            <a:chOff x="6104880" y="1849320"/>
            <a:chExt cx="1715400" cy="3367800"/>
          </a:xfrm>
        </p:grpSpPr>
        <p:sp>
          <p:nvSpPr>
            <p:cNvPr id="83" name=""/>
            <p:cNvSpPr/>
            <p:nvPr/>
          </p:nvSpPr>
          <p:spPr>
            <a:xfrm>
              <a:off x="6145920" y="1849320"/>
              <a:ext cx="1623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578000" y="1849320"/>
              <a:ext cx="1972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m’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635240" y="2820960"/>
              <a:ext cx="95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624080" y="3510000"/>
              <a:ext cx="95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635240" y="4064040"/>
              <a:ext cx="95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666840" y="5003640"/>
              <a:ext cx="512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D=1/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flipV="1">
              <a:off x="6663960" y="2731680"/>
              <a:ext cx="762120" cy="23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>
              <a:off x="6663960" y="2968560"/>
              <a:ext cx="762120" cy="27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6663960" y="3260520"/>
              <a:ext cx="762120" cy="23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6663960" y="3606840"/>
              <a:ext cx="762120" cy="17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6663960" y="3800160"/>
              <a:ext cx="762120" cy="30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6663960" y="4211640"/>
              <a:ext cx="762120" cy="2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6651720" y="4218120"/>
              <a:ext cx="774720" cy="42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>
              <a:off x="6676920" y="4537080"/>
              <a:ext cx="749160" cy="128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6104880" y="2602080"/>
              <a:ext cx="142560" cy="2148480"/>
              <a:chOff x="6104880" y="2602080"/>
              <a:chExt cx="142560" cy="2148480"/>
            </a:xfrm>
          </p:grpSpPr>
          <p:sp>
            <p:nvSpPr>
              <p:cNvPr id="98" name=""/>
              <p:cNvSpPr/>
              <p:nvPr/>
            </p:nvSpPr>
            <p:spPr>
              <a:xfrm>
                <a:off x="6144480" y="2602080"/>
                <a:ext cx="1029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6131880" y="3166920"/>
                <a:ext cx="1029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118920" y="3622680"/>
                <a:ext cx="1029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6104880" y="4068720"/>
                <a:ext cx="1029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131880" y="4537080"/>
                <a:ext cx="1029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3" name=""/>
            <p:cNvSpPr/>
            <p:nvPr/>
          </p:nvSpPr>
          <p:spPr>
            <a:xfrm>
              <a:off x="7545240" y="4444920"/>
              <a:ext cx="27504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hilde Benveniste, AT&amp;T Labs -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AF90-295A-4530-97FA-9303602B69F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ember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When to sc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612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Scaling occurs when deviation from ‘ideal’ conditions exceeds tolerance level indicated by adjustment ste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An estimate of the expected number b</a:t>
            </a:r>
            <a:r>
              <a:rPr b="0" lang="en-GB" sz="1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of backlogged stations with backoff value =1 is maintain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Comic Sans MS"/>
              </a:rPr>
              <a:t>Ideally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, we w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GB" sz="1400" spc="-1" strike="noStrike" baseline="-25000">
                <a:solidFill>
                  <a:srgbClr val="000000"/>
                </a:solidFill>
                <a:latin typeface="Comic Sans MS"/>
              </a:rPr>
              <a:t>1 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= n . p</a:t>
            </a:r>
            <a:r>
              <a:rPr b="1" lang="en-GB" sz="1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 = 1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where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n is the expected number of backlogged st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GB" sz="1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is the probability of having a backoff value =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Given an estimate of b</a:t>
            </a:r>
            <a:r>
              <a:rPr b="0" lang="en-GB" sz="1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scale up if b</a:t>
            </a:r>
            <a:r>
              <a:rPr b="0" lang="en-GB" sz="1400" spc="-1" strike="noStrike" baseline="-25000">
                <a:solidFill>
                  <a:srgbClr val="000000"/>
                </a:solidFill>
                <a:latin typeface="Comic Sans MS"/>
              </a:rPr>
              <a:t>1 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is too large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n . p</a:t>
            </a:r>
            <a:r>
              <a:rPr b="1" lang="en-GB" sz="1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 &gt;= C</a:t>
            </a:r>
            <a:r>
              <a:rPr b="1" lang="en-GB" sz="1400" spc="-1" strike="noStrike" baseline="-25000">
                <a:solidFill>
                  <a:srgbClr val="000000"/>
                </a:solidFill>
                <a:latin typeface="Comic Sans MS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scale down if b</a:t>
            </a:r>
            <a:r>
              <a:rPr b="0" lang="en-GB" sz="1400" spc="-1" strike="noStrike" baseline="-25000">
                <a:solidFill>
                  <a:srgbClr val="000000"/>
                </a:solidFill>
                <a:latin typeface="Comic Sans MS"/>
              </a:rPr>
              <a:t>1 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is too small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n . p</a:t>
            </a:r>
            <a:r>
              <a:rPr b="1" lang="en-GB" sz="1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 &lt;=  C</a:t>
            </a:r>
            <a:r>
              <a:rPr b="1" lang="en-GB" sz="1400" spc="-1" strike="noStrike" baseline="-25000">
                <a:solidFill>
                  <a:srgbClr val="000000"/>
                </a:solidFill>
                <a:latin typeface="Comic Sans MS"/>
              </a:rPr>
              <a:t>D 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, n &gt;=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After scaling, the probability p</a:t>
            </a:r>
            <a:r>
              <a:rPr b="0" lang="en-GB" sz="1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is adjust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GB" sz="1400" spc="-1" strike="noStrike" baseline="-25000">
                <a:solidFill>
                  <a:srgbClr val="000000"/>
                </a:solidFill>
                <a:latin typeface="Comic Sans MS"/>
              </a:rPr>
              <a:t>1 </a:t>
            </a:r>
            <a:r>
              <a:rPr b="0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p</a:t>
            </a:r>
            <a:r>
              <a:rPr b="0" lang="en-GB" sz="1400" spc="-1" strike="noStrike" baseline="-25000">
                <a:solidFill>
                  <a:srgbClr val="000000"/>
                </a:solidFill>
                <a:latin typeface="Comic Sans MS"/>
              </a:rPr>
              <a:t>1 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/C</a:t>
            </a:r>
            <a:r>
              <a:rPr b="0" lang="en-GB" sz="1400" spc="-1" strike="noStrike" baseline="-25000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n-GB" sz="1400" spc="-1" strike="noStrike" baseline="-25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decreases for scaling 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GB" sz="1400" spc="-1" strike="noStrike" baseline="-25000">
                <a:solidFill>
                  <a:srgbClr val="000000"/>
                </a:solidFill>
                <a:latin typeface="Comic Sans MS"/>
              </a:rPr>
              <a:t>1 </a:t>
            </a:r>
            <a:r>
              <a:rPr b="0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p</a:t>
            </a:r>
            <a:r>
              <a:rPr b="0" lang="en-GB" sz="1400" spc="-1" strike="noStrike" baseline="-25000">
                <a:solidFill>
                  <a:srgbClr val="000000"/>
                </a:solidFill>
                <a:latin typeface="Comic Sans MS"/>
              </a:rPr>
              <a:t>1 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/C</a:t>
            </a:r>
            <a:r>
              <a:rPr b="0" lang="en-GB" sz="1400" spc="-1" strike="noStrike" baseline="-25000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GB" sz="1400" spc="-1" strike="noStrike" baseline="-25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increases for scaling dow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hilde Benveniste, AT&amp;T Labs -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AEA4-1692-4352-86BA-D864FFCF76A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ember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Estimating 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612800"/>
            <a:ext cx="759456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The expected number n of backlogged stations is estimated by monitor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idle slots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successful or failed Contention-Based Transmissions (CBT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[A CBT is a transmission </a:t>
            </a:r>
            <a:r>
              <a:rPr b="0" i="1" lang="en-GB" sz="1200" spc="-1" strike="noStrike">
                <a:solidFill>
                  <a:srgbClr val="000000"/>
                </a:solidFill>
                <a:latin typeface="Comic Sans MS"/>
              </a:rPr>
              <a:t>not</a:t>
            </a: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 protected by a NAV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A new estimate is obtained for each period between two instances of T</a:t>
            </a:r>
            <a:r>
              <a:rPr b="0" lang="en-GB" sz="1400" spc="-1" strike="noStrike" baseline="-25000">
                <a:solidFill>
                  <a:srgbClr val="000000"/>
                </a:solidFill>
                <a:latin typeface="Comic Sans MS"/>
              </a:rPr>
              <a:t>AT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, the end of deferred a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GB" sz="1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is the end of idle and start of deferred a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155600" y="3772080"/>
          <a:ext cx="6807240" cy="2793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5600" y="3772080"/>
                    <a:ext cx="6807240" cy="279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hilde Benveniste, AT&amp;T Labs -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6784-0B57-4108-9FBB-663150BCF1C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ember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22T15:24:53Z</dcterms:created>
  <dc:creator>Mathilde Benveniste</dc:creator>
  <dc:description/>
  <dc:language>en-US</dc:language>
  <cp:lastModifiedBy>Harry Worstell</cp:lastModifiedBy>
  <cp:lastPrinted>2000-12-12T22:28:27Z</cp:lastPrinted>
  <dcterms:modified xsi:type="dcterms:W3CDTF">2001-03-12T21:14:59Z</dcterms:modified>
  <cp:revision>148</cp:revision>
  <dc:subject/>
  <dc:title>No Slide Title</dc:title>
</cp:coreProperties>
</file>