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422-138C-4B72-9FF5-A9093D92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669-FB23-4233-88AB-3DDB689B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B40-118D-460A-B11D-AB5B2BD4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519-704C-424C-B1DE-736E8AD4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1CE-E19D-449D-9A6E-06E46C64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503-F720-4933-8741-D6AD4CC5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A63-5AA9-4711-BC0A-EAC73ECE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DD8-82D9-4F27-A495-F0D781E8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5FA-5EE4-4741-BC34-0EE1F7A2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B23-08EE-4418-8685-0B4B44FE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52C-7D5D-4B3E-A612-7C7B62A9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038-2F46-42EA-A163-B4AD344E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9144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690DF88-98C9-4091-B70B-BD32825FE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14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-DCF with Backoff Adaptation to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hilde Benven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&amp;T Labs,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7280" y="5830920"/>
            <a:ext cx="732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levant submission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IEEE 802.11-00/375 (.ppt and .doc); -00/456; -00/457; -01/002;  -01/00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01/019; -01/117r1; -01/135r1; -01/1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5CF-A403-491C-BC51-116092AE3AD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asic Scaling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06840" y="2502000"/>
            <a:ext cx="1270080" cy="774720"/>
          </a:xfrm>
          <a:prstGeom prst="flowChartProcess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up;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ust 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0" y="3759120"/>
            <a:ext cx="1270080" cy="774720"/>
          </a:xfrm>
          <a:prstGeom prst="flowChartProcess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ew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n 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89440" y="5003640"/>
            <a:ext cx="1270080" cy="774720"/>
          </a:xfrm>
          <a:prstGeom prst="flowChartProcess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down;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ust 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17920" y="3683160"/>
            <a:ext cx="1447920" cy="939600"/>
          </a:xfrm>
          <a:prstGeom prst="flowChartDecision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gt; =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00880" y="3683160"/>
            <a:ext cx="1447560" cy="939600"/>
          </a:xfrm>
          <a:prstGeom prst="flowChartDecision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 =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/>
          <p:nvPr/>
        </p:nvCxnSpPr>
        <p:spPr>
          <a:xfrm flipH="1">
            <a:off x="3225240" y="4146480"/>
            <a:ext cx="3852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12" idx="3"/>
            <a:endCxn id="114" idx="1"/>
          </p:cNvCxnSpPr>
          <p:nvPr/>
        </p:nvCxnSpPr>
        <p:spPr>
          <a:xfrm>
            <a:off x="2857680" y="4146480"/>
            <a:ext cx="66060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8" name=""/>
          <p:cNvCxnSpPr>
            <a:stCxn id="114" idx="3"/>
            <a:endCxn id="115" idx="1"/>
          </p:cNvCxnSpPr>
          <p:nvPr/>
        </p:nvCxnSpPr>
        <p:spPr>
          <a:xfrm>
            <a:off x="4965840" y="4152600"/>
            <a:ext cx="635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9" name=""/>
          <p:cNvCxnSpPr>
            <a:stCxn id="111" idx="3"/>
            <a:endCxn id="120" idx="0"/>
          </p:cNvCxnSpPr>
          <p:nvPr/>
        </p:nvCxnSpPr>
        <p:spPr>
          <a:xfrm>
            <a:off x="4876920" y="2889000"/>
            <a:ext cx="2913840" cy="11437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1" name=""/>
          <p:cNvCxnSpPr>
            <a:stCxn id="113" idx="3"/>
            <a:endCxn id="120" idx="4"/>
          </p:cNvCxnSpPr>
          <p:nvPr/>
        </p:nvCxnSpPr>
        <p:spPr>
          <a:xfrm flipV="1">
            <a:off x="6959160" y="4279680"/>
            <a:ext cx="831240" cy="11116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0" name=""/>
          <p:cNvSpPr/>
          <p:nvPr/>
        </p:nvSpPr>
        <p:spPr>
          <a:xfrm>
            <a:off x="7678800" y="4032360"/>
            <a:ext cx="220680" cy="24768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5" idx="3"/>
            <a:endCxn id="120" idx="2"/>
          </p:cNvCxnSpPr>
          <p:nvPr/>
        </p:nvCxnSpPr>
        <p:spPr>
          <a:xfrm>
            <a:off x="7048080" y="4152600"/>
            <a:ext cx="63108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3" name=""/>
          <p:cNvCxnSpPr>
            <a:stCxn id="114" idx="0"/>
            <a:endCxn id="111" idx="2"/>
          </p:cNvCxnSpPr>
          <p:nvPr/>
        </p:nvCxnSpPr>
        <p:spPr>
          <a:xfrm flipV="1">
            <a:off x="4241520" y="3276000"/>
            <a:ext cx="1080" cy="407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4" name=""/>
          <p:cNvCxnSpPr>
            <a:stCxn id="115" idx="2"/>
            <a:endCxn id="113" idx="0"/>
          </p:cNvCxnSpPr>
          <p:nvPr/>
        </p:nvCxnSpPr>
        <p:spPr>
          <a:xfrm>
            <a:off x="6324120" y="4622760"/>
            <a:ext cx="108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5" name=""/>
          <p:cNvSpPr/>
          <p:nvPr/>
        </p:nvSpPr>
        <p:spPr>
          <a:xfrm>
            <a:off x="825480" y="4019400"/>
            <a:ext cx="220680" cy="24768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5" idx="6"/>
            <a:endCxn id="112" idx="1"/>
          </p:cNvCxnSpPr>
          <p:nvPr/>
        </p:nvCxnSpPr>
        <p:spPr>
          <a:xfrm>
            <a:off x="1046160" y="4142880"/>
            <a:ext cx="54216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7" name=""/>
          <p:cNvSpPr/>
          <p:nvPr/>
        </p:nvSpPr>
        <p:spPr>
          <a:xfrm>
            <a:off x="4265280" y="340200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89360" y="462276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21480" y="3567240"/>
            <a:ext cx="71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7520" y="3567240"/>
            <a:ext cx="71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ADF-8F14-40E7-B5A0-FC419206102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stimating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 estimate of the CBT arrival rate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is maintained for time periods outside PC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= N /(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-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re N is 4, and (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-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) time for the last N successful C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dle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sing the length of the idle period (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AT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-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), compute the number t of idle slot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pply the following t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;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. q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is the slot time and q = 1 - 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CBT - ‘Succes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a good CRC is received, or an ACK or CTS follows, update n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s foll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. q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.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CBT - ‘Failur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Otherwise, update n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s foll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+ 2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.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555-DC6D-40C0-8AB7-3F30F296D0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QoS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ckoff adaptation is compatible with TC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ll classes are scaled by the same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Distributed vs Centralized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stations perform channel monitoring and determine the scaling factors, instead of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just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the 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is eliminates the need to transmit a ‘management’ frame for periods as short as necessary for FAT (~5 milli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is way, capacity is not lost to  ‘management’ overhead, which is incurred at inconvenient  times; as at the start of a traffic bur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E1E-2253-4217-9CBE-CCEA94D9F2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erformance of Backoff Adap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ckoff adaptation, SAT and FAT together, can be compared to p-persistent CSMA  (the ‘permission probability’ approa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imilariti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both control the probability of transmiss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ich is  based on the expected number of backlogged 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rough pseudo-Bayesian stab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efficiency of channel utilisation in the two methods will be compar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ifferenc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pon adjustment of the permission probability, p-persistent CSMA treats all packets the same, independent of 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Delay jitter is int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pon scaling, backoff adaptation preserves the ordering of the backoff values, thus older packets are more likely to transmit fir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No added delay j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24C-5185-4B19-B46D-1FD5CEA16E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ckoff adaptation, SAT and FAT together, increases channel utilization efficiency without causing delay j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is performed by the stations, thus reducing the channel capacity overhead for that purp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is compatible with TC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7D88-C1D3-4B1A-ADB6-8A5594CE3E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ackoff Adaptation -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ckoff adaptation involves changes in the values in response to traffic cong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uses feedback on traffic fluctuations to avoid collisions and reduce idl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low’ Adaptation to Traffic (S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hanges the contention window for random backoff values for new packet arrivals or retrans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AT helps determine the number of active s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ast’’ Adaptation to Traffic (FAT)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esidual backoff value of a backlogged station is chan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acklogged’ stations are stations with packets pending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FAT helps avoid collisions during traffic bur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994-1166-4ED7-A32A-F79810AD32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Role of the 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on joining a BSS or IBSS, or whenever they detect any change in the advertised values of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STAs set their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o the value in the EDCF E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STAs engage in FAT and adjust their 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nd residual backoff values 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STAs send one of their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o the AP in any new frame type under consideration; the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of any class conveys the same scaling inform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Role of the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ing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 the EDCF element, the AP may adjust the contention window in response to traffic condi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new window is used when a new packet arrives or upon retrial of a failed transmis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AP may adjust the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 response to information received from the ESTAs in the BSS on their backoff adjust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5C8-A9DF-4A9B-A774-9F3E080376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caling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‘scaling factor’ 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s the coefficient of expansion or com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 &gt; 1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scaling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 &lt; 1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scaling 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For efficiency scaling occurs at discrete adjustment  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= 1 + R = 1.5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when scaling up with the step R = 1/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= 1/(1+D) = 0.75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when scaling down with the step D = 1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A91-9F28-4CB9-B1B4-FB7F6E47DD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Fast Adap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the scaling up factor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the new contention window size beco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CurrentCWSize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trunc[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x aCurrentCWSize + 0.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the scaling down with factor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the new contention window size beco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CurrentCWSize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ax { trunc[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x (aCurrentCWSize + D)] , 2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low Adap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adjusting residual backoff values by fractional adjustment step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ew backoff values must be integ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ordering of the backoff values must be p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ew backoff values must be distributed uniform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72E-9860-4280-BF63-156704D48C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caling 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612800"/>
            <a:ext cx="474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the scaling up factor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= 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 + f = m x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f = 1/2,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f = 0,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 -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2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with prob 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243840" y="1816200"/>
            <a:ext cx="1489680" cy="3337560"/>
            <a:chOff x="6243840" y="1816200"/>
            <a:chExt cx="1489680" cy="3337560"/>
          </a:xfrm>
        </p:grpSpPr>
        <p:sp>
          <p:nvSpPr>
            <p:cNvPr id="59" name=""/>
            <p:cNvSpPr/>
            <p:nvPr/>
          </p:nvSpPr>
          <p:spPr>
            <a:xfrm>
              <a:off x="6243840" y="1816200"/>
              <a:ext cx="176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19320" y="181620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m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98200" y="277812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98200" y="34974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98200" y="421812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7565040" y="2538360"/>
              <a:ext cx="142560" cy="2148840"/>
              <a:chOff x="7565040" y="2538360"/>
              <a:chExt cx="142560" cy="2148840"/>
            </a:xfrm>
          </p:grpSpPr>
          <p:sp>
            <p:nvSpPr>
              <p:cNvPr id="65" name=""/>
              <p:cNvSpPr/>
              <p:nvPr/>
            </p:nvSpPr>
            <p:spPr>
              <a:xfrm>
                <a:off x="7604640" y="25383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92040" y="31035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579080" y="35593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565040" y="40053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592040" y="44737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7038360" y="494028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R=1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78280" y="2698920"/>
              <a:ext cx="762120" cy="409320"/>
              <a:chOff x="6578280" y="2698920"/>
              <a:chExt cx="762120" cy="40932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578280" y="2698920"/>
                <a:ext cx="76212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578280" y="2887560"/>
                <a:ext cx="76212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 flipV="1">
              <a:off x="6565680" y="3315960"/>
              <a:ext cx="76212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65680" y="3606840"/>
              <a:ext cx="774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6629400" y="4108320"/>
              <a:ext cx="761760" cy="409320"/>
              <a:chOff x="6629400" y="4108320"/>
              <a:chExt cx="761760" cy="409320"/>
            </a:xfrm>
          </p:grpSpPr>
          <p:sp>
            <p:nvSpPr>
              <p:cNvPr id="77" name=""/>
              <p:cNvSpPr/>
              <p:nvPr/>
            </p:nvSpPr>
            <p:spPr>
              <a:xfrm flipV="1">
                <a:off x="6629400" y="4108320"/>
                <a:ext cx="76176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29400" y="4296960"/>
                <a:ext cx="76176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6629400" y="361152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16C-A9BB-4636-A224-6D6CA21BD5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caling D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1612800"/>
            <a:ext cx="474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the scaling up factor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= 3/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 + f = m x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f = 3/4,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5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f = 1/2,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f = 1/4,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5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f = 0,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104880" y="1849320"/>
            <a:ext cx="1715400" cy="3367800"/>
            <a:chOff x="6104880" y="1849320"/>
            <a:chExt cx="1715400" cy="3367800"/>
          </a:xfrm>
        </p:grpSpPr>
        <p:sp>
          <p:nvSpPr>
            <p:cNvPr id="83" name=""/>
            <p:cNvSpPr/>
            <p:nvPr/>
          </p:nvSpPr>
          <p:spPr>
            <a:xfrm>
              <a:off x="6145920" y="1849320"/>
              <a:ext cx="162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78000" y="1849320"/>
              <a:ext cx="19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m’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35240" y="28209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4080" y="35100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35240" y="4064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66840" y="5003640"/>
              <a:ext cx="51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=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6663960" y="2731680"/>
              <a:ext cx="76212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6663960" y="2968560"/>
              <a:ext cx="76212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6663960" y="3260520"/>
              <a:ext cx="76212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663960" y="3606840"/>
              <a:ext cx="7621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663960" y="3800160"/>
              <a:ext cx="76212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663960" y="4211640"/>
              <a:ext cx="76212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651720" y="4218120"/>
              <a:ext cx="7747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676920" y="4537080"/>
              <a:ext cx="74916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6104880" y="2602080"/>
              <a:ext cx="142560" cy="2148480"/>
              <a:chOff x="6104880" y="2602080"/>
              <a:chExt cx="142560" cy="2148480"/>
            </a:xfrm>
          </p:grpSpPr>
          <p:sp>
            <p:nvSpPr>
              <p:cNvPr id="98" name=""/>
              <p:cNvSpPr/>
              <p:nvPr/>
            </p:nvSpPr>
            <p:spPr>
              <a:xfrm>
                <a:off x="6144480" y="260208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131880" y="31669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18920" y="362268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04880" y="40687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131880" y="453708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7545240" y="4444920"/>
              <a:ext cx="27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4B4-F62B-4F49-97EA-7556729E0E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hen to sc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caling occurs when deviation from ‘ideal’ conditions exceeds tolerance level indicated by adjustment ste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 estimate of the expected number b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of backlogged stations with backoff value =1 is mainta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Ideally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we w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= n . p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=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 is the expected number of backlogged 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is the probability of having a backoff value 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an estimate of b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cale up if b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s too larg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 . p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&gt;= C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cale down if b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s too small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 . p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&lt;=  C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n &gt;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fter scaling, the probability 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is adju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/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ecreases for scaling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/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creases for scaling 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DC3-EFC9-4C52-8139-877956FC3E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stimating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5945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expected number n of backlogged stations is estimated by monito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dle slots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uccessful or failed Contention-Based Transmissions (CB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[A CBT is a transmission </a:t>
            </a:r>
            <a:r>
              <a:rPr b="0" i="1" lang="en-GB" sz="1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protected by a NAV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 new estimate is obtained for each period between two instances of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AT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the end of deferred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is the end of idle and start of deferred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55600" y="3772080"/>
          <a:ext cx="6807240" cy="279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3772080"/>
                    <a:ext cx="680724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683-770C-40E7-851A-7A1495A593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5:24:53Z</dcterms:created>
  <dc:creator>Mathilde Benveniste</dc:creator>
  <dc:description/>
  <dc:language>en-US</dc:language>
  <cp:lastModifiedBy>Harry Worstell</cp:lastModifiedBy>
  <cp:lastPrinted>2000-12-12T22:28:27Z</cp:lastPrinted>
  <dcterms:modified xsi:type="dcterms:W3CDTF">2001-03-12T14:47:49Z</dcterms:modified>
  <cp:revision>147</cp:revision>
  <dc:subject/>
  <dc:title>No Slide Title</dc:title>
</cp:coreProperties>
</file>