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2D7-16EA-428D-8226-EC57EC51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7E6-31F9-4DAE-90BA-16EEA63D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2D6-9402-4EE2-AC38-0D4F3D8A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5EC-4DB5-4B4B-81DC-A1BF86FF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79B-F633-4850-AAB2-5DEB37E4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1B8-7C9D-42C9-81B5-B85BDC2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41F-264B-4CD6-B673-7088DB1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FEF-457E-4E84-9AA6-57299921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EAF-6AF9-4E85-A34B-1337312C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048-9F3B-4972-9472-003ABCB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B4C-44EA-4A54-9D0A-4F666AE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FDE-D33D-44D6-BC9F-2354F5F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9CB1F5-D8C2-4276-A0AD-8FE423C2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6a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rst Ack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rian P Stephens, Mobilian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chael Fischer, Inter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inivas Kandala, Sharp Labs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eg Chesson, Ath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DD6-AFC5-43D5-B2DE-0748E0BD71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d technical feedback on 01/126r0 from presentation discussion and subsequent “coffee/tea/OJ-break” ad-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tive text is in 01/126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ced in “to doc keeper” before 11:00am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B5B-36A3-47DA-926B-DC07819901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nges since 01/126r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quence numbering is a concatenation of fragment number and sequence number.  Individual MPDUs are acknowledged in the burst Ack M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s supporting this mechanism must maintain a group ack record per 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rst Ack Request is now a new control 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rsts and burst acknowledgement exchange can be in different TXOPs.  Bursts can be interleaved by 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fragments of up to 16 MSDUs can be acknowleged in a BurstAck M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065-DF68-420D-AC7A-7AAA2E8C2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 the TGe editor to revise the TGe draft according to instructions in 11-01-126r1 replacing all text and mechanism relating to the Delayed Acknowledgement mechanism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302-81ED-4CB1-88EE-ED81AA91C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06:42Z</dcterms:created>
  <dc:creator>Adrian P Stephens</dc:creator>
  <dc:description/>
  <dc:language>en-US</dc:language>
  <cp:lastModifiedBy>Adrian P Stephens - 4</cp:lastModifiedBy>
  <cp:lastPrinted>1998-02-10T13:28:06Z</cp:lastPrinted>
  <dcterms:modified xsi:type="dcterms:W3CDTF">2001-11-15T17:30:33Z</dcterms:modified>
  <cp:revision>2</cp:revision>
  <dc:subject/>
  <dc:title>Burst Ack Mechanism</dc:title>
</cp:coreProperties>
</file>