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59F-5B68-4F0A-88C7-66541DF2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019-6D44-46C5-A514-4E143C0E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772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96F-7A5C-47ED-ADE3-23962C58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9720" y="41439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3640" y="41439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199-7740-4BE7-B070-C4AB1365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628-DFA9-482A-A3FC-5AE27F33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EA8-31A3-4371-8236-D4AF19B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DB6-E5B1-4815-8430-B423442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93A-4250-48EE-ABBE-2680209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0D4-0D9C-4735-B7C5-A595EEBF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FE5-CA93-4735-93F4-F7FBC9AB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772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BF3-9B12-4331-B126-ABFC2DB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61C-E39D-465B-9353-609A6F4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9051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35FF89-73FE-4C2F-A770-07124BD20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38016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brid Coordination Function (HCF) Frame Exchange and NAV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n Antonio, TX  7822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  +1-210-614-409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x:  +1-210-614-819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414-3D6C-478A-BCDD-7B7537E285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mbols for Frame Exchange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s are shown using 4- and 6-sided symbols, with enclosing round-cornered rectangle to show the scope of optional or repeatable subs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DCF contention and IFS periods are shown using 3- and 5-sided symbo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83360" cy="81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81080" y="4724280"/>
            <a:ext cx="477540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B97-2B44-4058-9706-697F26DB24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gacy Frame Exchange 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right are the frame exchanges defined in Table 21 of 802.11-1999 illustrated using this symb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72000" cy="47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08B-F816-48AF-8262-F03277C6DB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F Frame Exchanges for CF-Burs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133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right are the frame exchanges required for HCF QoS Data trans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F-Burst comprises one or more Tx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 Management frames can only be sent as sole or final frame of a TxOp, since with no TCID field they have NF=0 by defau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689800" cy="42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334-8255-4229-99E5-BDAD6F6BE8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Frame Exchanges for HC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200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 to activate/deactivate polling under a periodic Tspec (BW reserv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 for immediate TX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needed to obtain a TXOP longer than the EDCF TXOP Limit in force for the QB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 to start a controlled contention interval (CCI) to solicit RRs and/or to provide feedback from previous CC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2133360" cy="50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673520" cy="711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213336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A53-774A-4C5E-BCCB-B87C30DA99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 of TXOP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one null and one non-null case for the start of a polled TX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are three possible optimizations/deoptimizations of the non-null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689440" cy="41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9C7-4C9B-44BA-B5B3-6013F706D3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TXOP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cases for the end of a TXOP, based on whether the HC has additional traffic to transmit and/or additional ESTAs to po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311880" cy="26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D99-BE1A-498C-BE27-C6A0512DE1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V Usage During TX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agram shows the periods covered by the NAV, based on Duration field values in the various frames of a TXOP during which the polled ESTA initiates several QoS Data frame ex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22960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F97-62DD-437B-84DD-069607E5F1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6:41:17Z</dcterms:created>
  <dc:creator>Michael Fischer</dc:creator>
  <dc:description/>
  <dc:language>en-US</dc:language>
  <cp:lastModifiedBy>Harry Worstell</cp:lastModifiedBy>
  <cp:lastPrinted>1998-02-10T13:28:06Z</cp:lastPrinted>
  <dcterms:modified xsi:type="dcterms:W3CDTF">2001-02-07T19:15:08Z</dcterms:modified>
  <cp:revision>111</cp:revision>
  <dc:subject/>
  <dc:title>A Hybrid Coordination Function</dc:title>
</cp:coreProperties>
</file>