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2BEF-B10D-4452-9045-857C55AF0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AB9E-032D-4E49-AED1-5D88F959F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3E2A-2B0E-4890-9A71-5C7AE98F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2DF7-B9C5-4C01-821E-3043230BE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E9BE-0446-483B-BFAF-F491A3F79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1A67-FD49-455E-A88E-1A39E098E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8CBC-3D4B-4633-9407-91591D6A7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B4F9-832F-470E-8411-9CD4B23AF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7AC8-3A07-4EE7-8F5B-E8E445ED5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2A88-6F69-4BE2-B3D3-4DCD0EA32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3C64-7EBF-42C6-8339-D08ABB1CC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E531-7CF4-4DE1-8584-46C009A03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4120" y="31608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8280" y="645804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504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5EC928-AEAD-43BC-8B4B-7B97D5034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int Mee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GS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 hoc Regulator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00 – 5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52280" y="152388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403848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3341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87692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816440" y="270360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8376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657600" y="304920"/>
            <a:ext cx="1445760" cy="798120"/>
            <a:chOff x="3657600" y="304920"/>
            <a:chExt cx="1445760" cy="798120"/>
          </a:xfrm>
        </p:grpSpPr>
        <p:grpSp>
          <p:nvGrpSpPr>
            <p:cNvPr id="437" name=""/>
            <p:cNvGrpSpPr/>
            <p:nvPr/>
          </p:nvGrpSpPr>
          <p:grpSpPr>
            <a:xfrm>
              <a:off x="3657600" y="304920"/>
              <a:ext cx="1445760" cy="798120"/>
              <a:chOff x="3657600" y="304920"/>
              <a:chExt cx="1445760" cy="7981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4506480" y="376560"/>
                <a:ext cx="596880" cy="691200"/>
                <a:chOff x="4506480" y="376560"/>
                <a:chExt cx="596880" cy="6912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4732560" y="376560"/>
                  <a:ext cx="370800" cy="557280"/>
                  <a:chOff x="4732560" y="376560"/>
                  <a:chExt cx="370800" cy="55728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4831920" y="447840"/>
                    <a:ext cx="271440" cy="414360"/>
                    <a:chOff x="4831920" y="447840"/>
                    <a:chExt cx="271440" cy="414360"/>
                  </a:xfrm>
                </p:grpSpPr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4831920" y="447840"/>
                      <a:ext cx="271440" cy="414360"/>
                      <a:chOff x="4831920" y="447840"/>
                      <a:chExt cx="271440" cy="414360"/>
                    </a:xfrm>
                  </p:grpSpPr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4894560" y="473400"/>
                        <a:ext cx="208800" cy="334080"/>
                        <a:chOff x="4894560" y="473400"/>
                        <a:chExt cx="208800" cy="334080"/>
                      </a:xfrm>
                    </p:grpSpPr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4921920" y="473400"/>
                          <a:ext cx="181440" cy="334080"/>
                          <a:chOff x="4921920" y="473400"/>
                          <a:chExt cx="181440" cy="334080"/>
                        </a:xfrm>
                      </p:grpSpPr>
                      <p:sp>
                        <p:nvSpPr>
                          <p:cNvPr id="444" name=""/>
                          <p:cNvSpPr/>
                          <p:nvPr/>
                        </p:nvSpPr>
                        <p:spPr>
                          <a:xfrm>
                            <a:off x="5011920" y="67068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5" name=""/>
                          <p:cNvSpPr/>
                          <p:nvPr/>
                        </p:nvSpPr>
                        <p:spPr>
                          <a:xfrm>
                            <a:off x="4939200" y="68796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6" name=""/>
                          <p:cNvSpPr/>
                          <p:nvPr/>
                        </p:nvSpPr>
                        <p:spPr>
                          <a:xfrm>
                            <a:off x="4994640" y="54468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7" name=""/>
                          <p:cNvSpPr/>
                          <p:nvPr/>
                        </p:nvSpPr>
                        <p:spPr>
                          <a:xfrm>
                            <a:off x="4921920" y="47340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8" name=""/>
                          <p:cNvSpPr/>
                          <p:nvPr/>
                        </p:nvSpPr>
                        <p:spPr>
                          <a:xfrm>
                            <a:off x="4991400" y="54216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4894560" y="57204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4894560" y="67068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4926600" y="52380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4894560" y="76968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4831920" y="44784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4918680" y="74016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909680" y="49932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4732560" y="376560"/>
                    <a:ext cx="254520" cy="503280"/>
                    <a:chOff x="4732560" y="376560"/>
                    <a:chExt cx="254520" cy="50328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760280" y="67140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4777560" y="52812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4732560" y="37656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4830840" y="47520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774320" y="45432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847400" y="70344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3" name=""/>
                  <p:cNvSpPr/>
                  <p:nvPr/>
                </p:nvSpPr>
                <p:spPr>
                  <a:xfrm>
                    <a:off x="4732560" y="81576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02040" y="80352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4506480" y="92088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14120" y="92088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76760" y="88596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584240" y="86508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657600" y="385200"/>
                <a:ext cx="363600" cy="477360"/>
                <a:chOff x="3657600" y="385200"/>
                <a:chExt cx="363600" cy="4773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657600" y="447840"/>
                  <a:ext cx="201960" cy="289440"/>
                  <a:chOff x="3657600" y="447840"/>
                  <a:chExt cx="201960" cy="2894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3657600" y="54648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674880" y="61776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693600" y="44784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681720" y="55260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3719880" y="385200"/>
                  <a:ext cx="301320" cy="477360"/>
                  <a:chOff x="3719880" y="385200"/>
                  <a:chExt cx="301320" cy="4773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3819600" y="40248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719880" y="54684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747600" y="61704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792960" y="68868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802320" y="50076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919320" y="38520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843720" y="47160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752280" y="59616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3906720" y="42552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3838320" y="304920"/>
                <a:ext cx="1058760" cy="798120"/>
                <a:chOff x="3838320" y="304920"/>
                <a:chExt cx="1058760" cy="7981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164120" y="33084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380120" y="30492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70200" y="52812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55320" y="67140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470480" y="71604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66040" y="74160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838320" y="57384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28680" y="37656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217400" y="77004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615560" y="40356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542480" y="30492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916080" y="36504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3826440" y="50328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08440" y="1965240"/>
            <a:ext cx="1449360" cy="77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868400" y="148428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157644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419720" y="114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2031840"/>
            <a:ext cx="1676520" cy="6314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fied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Unifi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Dual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8195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666880" y="4191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428280" y="270360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9344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0440" y="5143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e chann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600" y="5562720"/>
            <a:ext cx="58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Layer 2 of the 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one MAC address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2438280"/>
            <a:ext cx="762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/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2438280"/>
            <a:ext cx="3808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057400"/>
            <a:ext cx="76212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3581280"/>
            <a:ext cx="7621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451E-0B61-472C-AC9E-48722A74D7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2244600" y="1143000"/>
            <a:ext cx="4743720" cy="4876560"/>
            <a:chOff x="2244600" y="1143000"/>
            <a:chExt cx="4743720" cy="4876560"/>
          </a:xfrm>
        </p:grpSpPr>
        <p:sp>
          <p:nvSpPr>
            <p:cNvPr id="515" name=""/>
            <p:cNvSpPr/>
            <p:nvPr/>
          </p:nvSpPr>
          <p:spPr>
            <a:xfrm>
              <a:off x="2244600" y="1143000"/>
              <a:ext cx="0" cy="47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19600" y="1143000"/>
              <a:ext cx="0" cy="47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88320" y="1239120"/>
              <a:ext cx="0" cy="47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3137040" y="2286000"/>
            <a:ext cx="685800" cy="1247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247760"/>
              <a:gd name="textAreaBottom" fmla="*/ 12484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2427" y="472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37040" y="2819520"/>
            <a:ext cx="685800" cy="1247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2427" y="4725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GHz standardization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7391520" y="16002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rot="5320200">
            <a:off x="7391160" y="3733200"/>
            <a:ext cx="762120" cy="9144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1371600"/>
            <a:ext cx="2475000" cy="78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reless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2200" y="1371600"/>
            <a:ext cx="3506760" cy="78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11e/f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QoS, Security, DFS/TPC, 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600" y="4172040"/>
            <a:ext cx="2955960" cy="11214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-H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ireless ATM, 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81560" y="4172040"/>
            <a:ext cx="1787400" cy="1450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394 CL, brid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17800" y="563868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60840" y="563868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22840" y="2424240"/>
            <a:ext cx="1442880" cy="145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t 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-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86600" y="2590920"/>
            <a:ext cx="1905120" cy="1070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obal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68960" y="4172040"/>
            <a:ext cx="1444680" cy="153144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 ph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MTS - inter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70400" y="2666880"/>
            <a:ext cx="1525680" cy="95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17720" y="2971800"/>
            <a:ext cx="1525680" cy="38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GWI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3629160"/>
            <a:ext cx="228600" cy="533160"/>
          </a:xfrm>
          <a:prstGeom prst="upDownArrow">
            <a:avLst>
              <a:gd name="adj1" fmla="val 50000"/>
              <a:gd name="adj2" fmla="val 4643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886360" y="2171880"/>
            <a:ext cx="228600" cy="495000"/>
          </a:xfrm>
          <a:prstGeom prst="upDownArrow">
            <a:avLst>
              <a:gd name="adj1" fmla="val 50000"/>
              <a:gd name="adj2" fmla="val 4310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43400" y="2171880"/>
            <a:ext cx="228600" cy="266400"/>
          </a:xfrm>
          <a:prstGeom prst="upDownArrow">
            <a:avLst>
              <a:gd name="adj1" fmla="val 50000"/>
              <a:gd name="adj2" fmla="val 2319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81560" y="3905280"/>
            <a:ext cx="228600" cy="26676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2400" y="601992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AC also particip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D311-C6EB-4AAE-8812-91584ABE22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s Converge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80880" y="1608120"/>
          <a:ext cx="8305920" cy="2963880"/>
        </p:xfrm>
        <a:graphic>
          <a:graphicData uri="http://schemas.openxmlformats.org/drawingml/2006/table">
            <a:tbl>
              <a:tblPr/>
              <a:tblGrid>
                <a:gridCol w="1646280"/>
                <a:gridCol w="2244960"/>
                <a:gridCol w="2170080"/>
                <a:gridCol w="2244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Global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in standard(s) to remove destructive interference [whether different or same channel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in standard(s) to remove obstacles to data sharing [beyond interference], but without going to a single global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als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(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"/>
          <p:cNvSpPr/>
          <p:nvPr/>
        </p:nvSpPr>
        <p:spPr>
          <a:xfrm>
            <a:off x="386640" y="1341360"/>
            <a:ext cx="39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umption: This will also apply to M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FAA3-4250-4F98-9889-AC81FCE8AC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s Converge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28600" y="1268280"/>
          <a:ext cx="8686800" cy="5132520"/>
        </p:xfrm>
        <a:graphic>
          <a:graphicData uri="http://schemas.openxmlformats.org/drawingml/2006/table">
            <a:tbl>
              <a:tblPr/>
              <a:tblGrid>
                <a:gridCol w="1847880"/>
                <a:gridCol w="2571840"/>
                <a:gridCol w="1962000"/>
                <a:gridCol w="23050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Global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mful interference (2 standar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not operate in the same coverage area without harmful inter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not exchange da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-1: Operation in the different channels (e.g. DFS, T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operate in the same coverage area by using different channe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Wireless Terminal can talk to any AP that is multi-mode, but with two rad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-1: Wireless Terminal of one standard can exchange data with an AP of another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may not exchange QoS and other aspe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wireless terminal can talk to any AP or any Wireless Termi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exchange data directly on ad-hoc ba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50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-2: Operation in the same cha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unicating devices using 802.11a or HiperLAN2 can operate in the same coverage area using a standardized mechanism that enables devices of both types to efficiently share the same chann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 indent="-50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Wireless Terminal can talk to any AP that is multi-mode, but with one radi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386640" y="958680"/>
            <a:ext cx="39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umption: This will also apply to M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1C01-21FD-448B-8E04-F3A01D69A2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tory Convergence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ing 802.11a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S/TPC (T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a would have to add the upper part of the band when talking about DFS, not just the lower 200 MHz portion of th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unclear whether there is a 2nd step needed for 802.11a to be classified as a HiperLA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, ERC calls out HiperLAN1 and HiperLAN2 “as defined by ETSI” as the legal standards in Europe, but not certain how this could be interpr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write a test specification for 802.11a for certifying the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ing HiperLAN2 in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nd allocation in the US is limited, so the HiperLAN2 solution would have to limit itself to operate in the US-allocat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lower 100MHz, the US power limit is lower than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C05C-A3E5-4F85-820D-8D1647841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467480" y="2362320"/>
            <a:ext cx="1219320" cy="304776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3047760"/>
              <a:gd name="textAreaBottom" fmla="*/ 2988360 h 3047760"/>
            </a:gdLst>
            <a:ahLst/>
            <a:rect l="textAreaLeft" t="textAreaTop" r="textAreaRight" b="textAreaBottom"/>
            <a:pathLst>
              <a:path w="21600" h="53981">
                <a:moveTo>
                  <a:pt x="3600" y="0"/>
                </a:moveTo>
                <a:arcTo wR="3600" hR="3600" stAng="16200000" swAng="-5400000"/>
                <a:lnTo>
                  <a:pt x="0" y="50381"/>
                </a:lnTo>
                <a:arcTo wR="3600" hR="3600" stAng="10800000" swAng="-5400000"/>
                <a:lnTo>
                  <a:pt x="18000" y="539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3040200"/>
            <a:ext cx="762120" cy="16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/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4732200"/>
            <a:ext cx="38088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4732200"/>
            <a:ext cx="381240" cy="565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1800" y="3603600"/>
            <a:ext cx="380880" cy="11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3040200"/>
            <a:ext cx="381240" cy="169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71800" y="3040200"/>
            <a:ext cx="38088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71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00800" y="3040200"/>
            <a:ext cx="38088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00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4732200"/>
            <a:ext cx="762120" cy="565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3040200"/>
            <a:ext cx="762120" cy="169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4732200"/>
            <a:ext cx="762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" y="3603600"/>
            <a:ext cx="762120" cy="11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3040200"/>
            <a:ext cx="76212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4732200"/>
            <a:ext cx="762120" cy="565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543800" y="2475000"/>
            <a:ext cx="1066320" cy="2822040"/>
            <a:chOff x="7543800" y="2475000"/>
            <a:chExt cx="1066320" cy="2822040"/>
          </a:xfrm>
        </p:grpSpPr>
        <p:sp>
          <p:nvSpPr>
            <p:cNvPr id="566" name=""/>
            <p:cNvSpPr/>
            <p:nvPr/>
          </p:nvSpPr>
          <p:spPr>
            <a:xfrm>
              <a:off x="7543800" y="3039480"/>
              <a:ext cx="1066320" cy="1693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/DLC/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2475000"/>
              <a:ext cx="1066320" cy="5644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3800" y="4732920"/>
              <a:ext cx="106632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114800" y="4732200"/>
            <a:ext cx="762120" cy="565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3603600"/>
            <a:ext cx="380880" cy="11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95680" y="3040200"/>
            <a:ext cx="381240" cy="169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3040200"/>
            <a:ext cx="380880" cy="56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2475000"/>
            <a:ext cx="762120" cy="565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105520" y="2475000"/>
            <a:ext cx="1066320" cy="2822400"/>
            <a:chOff x="5105520" y="2475000"/>
            <a:chExt cx="1066320" cy="2822400"/>
          </a:xfrm>
        </p:grpSpPr>
        <p:sp>
          <p:nvSpPr>
            <p:cNvPr id="575" name=""/>
            <p:cNvSpPr/>
            <p:nvPr/>
          </p:nvSpPr>
          <p:spPr>
            <a:xfrm>
              <a:off x="5105520" y="4732200"/>
              <a:ext cx="1066320" cy="56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3603600"/>
              <a:ext cx="532800" cy="565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38320" y="3040200"/>
              <a:ext cx="533520" cy="11286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05520" y="3040200"/>
              <a:ext cx="532800" cy="563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2475000"/>
              <a:ext cx="1066320" cy="5652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05520" y="4168800"/>
              <a:ext cx="1066320" cy="563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/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onverg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895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2 radi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nter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160020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ingle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1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Inter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4480" y="16765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ingle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Prog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E1E4-C2B5-4F06-9C48-89C95EDF2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15960" y="1981080"/>
            <a:ext cx="101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18200" y="1981080"/>
            <a:ext cx="3705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d hoc Regul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 Regulatory Ombud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2286000"/>
            <a:ext cx="762120" cy="533520"/>
          </a:xfrm>
          <a:prstGeom prst="leftRightArrow">
            <a:avLst>
              <a:gd name="adj1" fmla="val 50000"/>
              <a:gd name="adj2" fmla="val 284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48520" y="2286000"/>
            <a:ext cx="761760" cy="533520"/>
          </a:xfrm>
          <a:prstGeom prst="leftRightArrow">
            <a:avLst>
              <a:gd name="adj1" fmla="val 50000"/>
              <a:gd name="adj2" fmla="val 28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67800" y="1981080"/>
            <a:ext cx="11181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59960" y="3429000"/>
            <a:ext cx="11455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3886200"/>
            <a:ext cx="762120" cy="533520"/>
          </a:xfrm>
          <a:prstGeom prst="leftRightArrow">
            <a:avLst>
              <a:gd name="adj1" fmla="val 50000"/>
              <a:gd name="adj2" fmla="val 284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60948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5960" y="3124080"/>
            <a:ext cx="101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5960" y="4419720"/>
            <a:ext cx="101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8600" y="990720"/>
            <a:ext cx="63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447920"/>
            <a:ext cx="129528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EC69-8FB5-4822-AB91-0463AEF09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p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2240" y="16876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3880"/>
            <a:ext cx="853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censed spectrum is sp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multiple types of equipment sharing th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acceptance (and Market) success depends on vendor  and customer confidence in robus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 Wireless working groups need to improve the method by which standards using the 5GHz spectrum are developed by 802.11, 802.16 and 802.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4ADF-862A-4F39-90DE-22DB56B305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2200" y="1219320"/>
            <a:ext cx="7881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– Bruce Kraemer - 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GSG Work Concept – Pratik Mehta - 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GSG Criteria for Evaluation Document – Don Gray - Web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 - User Expectations – Richard Paine - Bo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 Organizational concept – Steve Shellhammer -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1C51-E6CD-4C08-81A5-265405E4A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8720" y="1752480"/>
            <a:ext cx="806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ir wishes to acknowledge that the following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ed, in part, upon valuable slide contribution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Kuehnel – N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Schylander –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 Bar-Noy – h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ashi Aramaki – Matsush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tik Mehta - 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1775-A83F-4357-977C-7477903FF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jor 5GSG 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existence (of the standa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sharing etiqu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erence robus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 (between two standa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-existenc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T of one standard can work with a (hybrid) AP of the other s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Global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joint developed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usage scenarios and applications func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2 need to restrict the frequency range and power for USA to comply to F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doptions are needed to use 802.11a outside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FD6F-DAE8-4797-BED8-27BA4F4A7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3897360"/>
            <a:ext cx="1515960" cy="674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HIPER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200 m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7520" y="4483080"/>
            <a:ext cx="1143000" cy="88920"/>
          </a:xfrm>
          <a:prstGeom prst="rect">
            <a:avLst/>
          </a:prstGeom>
          <a:solidFill>
            <a:srgbClr val="ffc5c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Spectrum Europ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900680"/>
            <a:ext cx="86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52472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1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2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3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4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5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6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7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8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9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000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4800600"/>
            <a:ext cx="35892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4800600"/>
            <a:ext cx="3585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800600"/>
            <a:ext cx="360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800600"/>
            <a:ext cx="360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800600"/>
            <a:ext cx="35892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800600"/>
            <a:ext cx="36180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3240" y="4800600"/>
            <a:ext cx="3574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1240" y="4800600"/>
            <a:ext cx="360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2120" y="4800600"/>
            <a:ext cx="35892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3360" y="4800600"/>
            <a:ext cx="3585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0" y="4800600"/>
            <a:ext cx="3585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3680" y="4800600"/>
            <a:ext cx="3585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312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400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4880" y="4800600"/>
            <a:ext cx="3589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96120" y="4800600"/>
            <a:ext cx="3585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556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56440" y="4800600"/>
            <a:ext cx="360360" cy="74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37320" y="4800600"/>
            <a:ext cx="362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0000" y="4800600"/>
            <a:ext cx="3571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240" y="4572000"/>
            <a:ext cx="18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77120" y="4572000"/>
            <a:ext cx="18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8600" y="1625760"/>
            <a:ext cx="3340080" cy="11937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HIPERLAN/2 must comply with (ERC/DEC/(99)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TPC provides 3dB mitigation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427040" y="4800240"/>
            <a:ext cx="208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824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856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888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8956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4988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020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764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31200" y="4800600"/>
            <a:ext cx="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1568520"/>
            <a:ext cx="1905120" cy="3003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HIPER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1 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ndoor/out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9320" y="3719520"/>
            <a:ext cx="74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25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08200" y="3665520"/>
            <a:ext cx="186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150                              5.3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6720" y="1339920"/>
            <a:ext cx="22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470                                        5.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65800" y="415296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725                      5.8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5335560"/>
            <a:ext cx="75564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tellite F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9040" y="5335560"/>
            <a:ext cx="114624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eronautic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5600" y="5335560"/>
            <a:ext cx="158112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a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vig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th explo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6720" y="5335560"/>
            <a:ext cx="143676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io navig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time nav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3480" y="5335560"/>
            <a:ext cx="1522440" cy="725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dioloc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at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3505320"/>
            <a:ext cx="15159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5000" y="3505320"/>
            <a:ext cx="9781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720" y="312588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a. DFS across at least  330 MHz (indo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78480" y="195912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3b. DFS across at le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</a:rPr>
              <a:t>255 MHz (outdo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5000" y="2251080"/>
            <a:ext cx="1892520" cy="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167520" y="4327560"/>
            <a:ext cx="16200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310520" y="4317480"/>
            <a:ext cx="16200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56560" y="5264280"/>
            <a:ext cx="1165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54864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DD50-1116-42C3-A8C5-FB4D3F9C57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523880"/>
            <a:ext cx="647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36de"/>
                </a:solidFill>
                <a:latin typeface="Times New Roman"/>
              </a:rPr>
              <a:t>Spectrum Allocation at 5 GH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000080" y="5029200"/>
            <a:ext cx="782964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33640" y="2211120"/>
            <a:ext cx="0" cy="28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95480" y="221112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5912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2276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8640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45004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1188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7696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040600" y="220968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3560" y="5106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27200" y="5105520"/>
            <a:ext cx="7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90840" y="51055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55920" y="51055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105520"/>
            <a:ext cx="6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83200" y="510552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6840" y="51055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10480" y="51055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280" y="51055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768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375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475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59800" y="55119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./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5280" y="4497480"/>
            <a:ext cx="129528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0560" y="4497480"/>
            <a:ext cx="43200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113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65280" y="3554280"/>
            <a:ext cx="172728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65280" y="2666880"/>
            <a:ext cx="86364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3554280"/>
            <a:ext cx="86364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16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301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301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16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16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7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16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495680"/>
            <a:ext cx="2286000" cy="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4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7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572000"/>
            <a:ext cx="167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door 1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0200" y="4570560"/>
            <a:ext cx="228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oor 200 m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957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949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28920" y="342900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581280"/>
            <a:ext cx="2913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oor 200 mW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utdoor 1 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4191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ax mean Tx pow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581280"/>
            <a:ext cx="1676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door 4 W EIR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32004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ax peak Tx pow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29120" y="41022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FS &amp; T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70200" y="4102200"/>
            <a:ext cx="11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FS &amp; T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5791320"/>
            <a:ext cx="3576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F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ynamic Frequency 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C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11880" y="965160"/>
            <a:ext cx="2514240" cy="838080"/>
            <a:chOff x="6311880" y="965160"/>
            <a:chExt cx="2514240" cy="8380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7675560" y="965160"/>
              <a:ext cx="1150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311880" y="991800"/>
              <a:ext cx="1335600" cy="45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EE15-7AB2-42A4-A1D2-8B57F270E55C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167652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191120"/>
            <a:ext cx="8686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4267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3760" y="31608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657600" y="457200"/>
            <a:ext cx="1445760" cy="798120"/>
            <a:chOff x="3657600" y="457200"/>
            <a:chExt cx="1445760" cy="798120"/>
          </a:xfrm>
        </p:grpSpPr>
        <p:grpSp>
          <p:nvGrpSpPr>
            <p:cNvPr id="167" name=""/>
            <p:cNvGrpSpPr/>
            <p:nvPr/>
          </p:nvGrpSpPr>
          <p:grpSpPr>
            <a:xfrm>
              <a:off x="3657600" y="457200"/>
              <a:ext cx="1445760" cy="798120"/>
              <a:chOff x="3657600" y="457200"/>
              <a:chExt cx="1445760" cy="7981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506480" y="528840"/>
                <a:ext cx="596880" cy="691200"/>
                <a:chOff x="4506480" y="528840"/>
                <a:chExt cx="596880" cy="691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732560" y="528840"/>
                  <a:ext cx="370800" cy="557280"/>
                  <a:chOff x="4732560" y="528840"/>
                  <a:chExt cx="370800" cy="5572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4831920" y="600120"/>
                    <a:ext cx="271440" cy="414360"/>
                    <a:chOff x="4831920" y="600120"/>
                    <a:chExt cx="271440" cy="414360"/>
                  </a:xfrm>
                </p:grpSpPr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4831920" y="600120"/>
                      <a:ext cx="271440" cy="414360"/>
                      <a:chOff x="4831920" y="600120"/>
                      <a:chExt cx="271440" cy="414360"/>
                    </a:xfrm>
                  </p:grpSpPr>
                  <p:grpSp>
                    <p:nvGrpSpPr>
                      <p:cNvPr id="172" name=""/>
                      <p:cNvGrpSpPr/>
                      <p:nvPr/>
                    </p:nvGrpSpPr>
                    <p:grpSpPr>
                      <a:xfrm>
                        <a:off x="4894560" y="625680"/>
                        <a:ext cx="208800" cy="334080"/>
                        <a:chOff x="4894560" y="625680"/>
                        <a:chExt cx="208800" cy="334080"/>
                      </a:xfrm>
                    </p:grpSpPr>
                    <p:grpSp>
                      <p:nvGrpSpPr>
                        <p:cNvPr id="173" name=""/>
                        <p:cNvGrpSpPr/>
                        <p:nvPr/>
                      </p:nvGrpSpPr>
                      <p:grpSpPr>
                        <a:xfrm>
                          <a:off x="4921920" y="625680"/>
                          <a:ext cx="181440" cy="334080"/>
                          <a:chOff x="4921920" y="625680"/>
                          <a:chExt cx="181440" cy="334080"/>
                        </a:xfrm>
                      </p:grpSpPr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5011920" y="82296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4939200" y="84024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4994640" y="69696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4921920" y="62568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8" name=""/>
                          <p:cNvSpPr/>
                          <p:nvPr/>
                        </p:nvSpPr>
                        <p:spPr>
                          <a:xfrm>
                            <a:off x="4991400" y="69444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894560" y="72432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894560" y="82296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926600" y="67608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4894560" y="92196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4831920" y="60012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918680" y="89244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909680" y="65160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732560" y="528840"/>
                    <a:ext cx="254520" cy="503280"/>
                    <a:chOff x="4732560" y="528840"/>
                    <a:chExt cx="254520" cy="50328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760280" y="82368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777560" y="68040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732560" y="52884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830840" y="62748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774320" y="60660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847400" y="85572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4732560" y="96804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802040" y="95580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4506480" y="107316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4120" y="107316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76760" y="103824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584240" y="101736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657600" y="537480"/>
                <a:ext cx="363600" cy="477360"/>
                <a:chOff x="3657600" y="537480"/>
                <a:chExt cx="363600" cy="4773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3657600" y="600120"/>
                  <a:ext cx="201960" cy="289440"/>
                  <a:chOff x="3657600" y="600120"/>
                  <a:chExt cx="201960" cy="2894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657600" y="69876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674880" y="77004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693600" y="60012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681720" y="70488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3719880" y="537480"/>
                  <a:ext cx="301320" cy="477360"/>
                  <a:chOff x="3719880" y="537480"/>
                  <a:chExt cx="301320" cy="4773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819600" y="55476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719880" y="69912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747600" y="76932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792960" y="84096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802320" y="65304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919320" y="53748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843720" y="62388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752280" y="74844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3906720" y="57780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38320" y="457200"/>
                <a:ext cx="1058760" cy="798120"/>
                <a:chOff x="3838320" y="457200"/>
                <a:chExt cx="1058760" cy="7981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64120" y="48312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80120" y="45720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70200" y="68040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55320" y="82368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70480" y="86832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66040" y="89388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38320" y="72612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8680" y="52884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217400" y="92232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15560" y="55584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542480" y="45720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16080" y="51732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" name=""/>
            <p:cNvSpPr/>
            <p:nvPr/>
          </p:nvSpPr>
          <p:spPr>
            <a:xfrm>
              <a:off x="3826440" y="65556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440" y="2117880"/>
            <a:ext cx="755640" cy="711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68400" y="163656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86080" y="172872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19720" y="1294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1941480"/>
            <a:ext cx="91440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19520" y="373536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>
            <a:off x="3428280" y="285588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7920" y="2117880"/>
            <a:ext cx="755640" cy="711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795920" y="175248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1965240"/>
            <a:ext cx="914400" cy="276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0440" y="5295960"/>
            <a:ext cx="72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Level 1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fferent chann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" y="571500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the backbone (each device communicates with its Access Point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334120" y="3699000"/>
            <a:ext cx="761760" cy="58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4816440" y="281952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43434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3440" y="312408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581280"/>
            <a:ext cx="76176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438280"/>
            <a:ext cx="76176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3581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819520"/>
            <a:ext cx="7617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2438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F2B2-6310-45D9-8FFE-B23AF922A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280" y="152388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03848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341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0060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16440" y="270360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8376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657600" y="304920"/>
            <a:ext cx="1445760" cy="798120"/>
            <a:chOff x="3657600" y="304920"/>
            <a:chExt cx="1445760" cy="798120"/>
          </a:xfrm>
        </p:grpSpPr>
        <p:grpSp>
          <p:nvGrpSpPr>
            <p:cNvPr id="259" name=""/>
            <p:cNvGrpSpPr/>
            <p:nvPr/>
          </p:nvGrpSpPr>
          <p:grpSpPr>
            <a:xfrm>
              <a:off x="3657600" y="304920"/>
              <a:ext cx="1445760" cy="798120"/>
              <a:chOff x="3657600" y="304920"/>
              <a:chExt cx="1445760" cy="79812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506480" y="376560"/>
                <a:ext cx="596880" cy="691200"/>
                <a:chOff x="4506480" y="376560"/>
                <a:chExt cx="596880" cy="6912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732560" y="376560"/>
                  <a:ext cx="370800" cy="557280"/>
                  <a:chOff x="4732560" y="376560"/>
                  <a:chExt cx="370800" cy="55728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4831920" y="447840"/>
                    <a:ext cx="271440" cy="414360"/>
                    <a:chOff x="4831920" y="447840"/>
                    <a:chExt cx="271440" cy="414360"/>
                  </a:xfrm>
                </p:grpSpPr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4831920" y="447840"/>
                      <a:ext cx="271440" cy="414360"/>
                      <a:chOff x="4831920" y="447840"/>
                      <a:chExt cx="271440" cy="414360"/>
                    </a:xfrm>
                  </p:grpSpPr>
                  <p:grpSp>
                    <p:nvGrpSpPr>
                      <p:cNvPr id="264" name=""/>
                      <p:cNvGrpSpPr/>
                      <p:nvPr/>
                    </p:nvGrpSpPr>
                    <p:grpSpPr>
                      <a:xfrm>
                        <a:off x="4894560" y="473400"/>
                        <a:ext cx="208800" cy="334080"/>
                        <a:chOff x="4894560" y="473400"/>
                        <a:chExt cx="208800" cy="334080"/>
                      </a:xfrm>
                    </p:grpSpPr>
                    <p:grpSp>
                      <p:nvGrpSpPr>
                        <p:cNvPr id="265" name=""/>
                        <p:cNvGrpSpPr/>
                        <p:nvPr/>
                      </p:nvGrpSpPr>
                      <p:grpSpPr>
                        <a:xfrm>
                          <a:off x="4921920" y="473400"/>
                          <a:ext cx="181440" cy="334080"/>
                          <a:chOff x="4921920" y="473400"/>
                          <a:chExt cx="181440" cy="334080"/>
                        </a:xfrm>
                      </p:grpSpPr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5011920" y="67068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4939200" y="68796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>
                            <a:off x="4994640" y="54468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>
                            <a:off x="4921920" y="47340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" name=""/>
                          <p:cNvSpPr/>
                          <p:nvPr/>
                        </p:nvSpPr>
                        <p:spPr>
                          <a:xfrm>
                            <a:off x="4991400" y="54216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4894560" y="57204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4894560" y="67068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4926600" y="52380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4894560" y="76968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4831920" y="44784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4918680" y="74016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909680" y="49932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732560" y="376560"/>
                    <a:ext cx="254520" cy="503280"/>
                    <a:chOff x="4732560" y="376560"/>
                    <a:chExt cx="254520" cy="5032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760280" y="67140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777560" y="52812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732560" y="37656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830840" y="47520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774320" y="45432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847400" y="70344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4732560" y="81576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802040" y="80352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4506480" y="92088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14120" y="92088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76760" y="88596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584240" y="86508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657600" y="385200"/>
                <a:ext cx="363600" cy="477360"/>
                <a:chOff x="3657600" y="385200"/>
                <a:chExt cx="363600" cy="47736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3657600" y="447840"/>
                  <a:ext cx="201960" cy="289440"/>
                  <a:chOff x="3657600" y="447840"/>
                  <a:chExt cx="201960" cy="289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3657600" y="54648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674880" y="61776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693600" y="44784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681720" y="55260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3719880" y="385200"/>
                  <a:ext cx="301320" cy="477360"/>
                  <a:chOff x="3719880" y="385200"/>
                  <a:chExt cx="301320" cy="4773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819600" y="40248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719880" y="54684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747600" y="61704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792960" y="68868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802320" y="50076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919320" y="38520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843720" y="47160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752280" y="59616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3906720" y="42552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838320" y="304920"/>
                <a:ext cx="1058760" cy="798120"/>
                <a:chOff x="3838320" y="304920"/>
                <a:chExt cx="1058760" cy="798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164120" y="33084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80120" y="30492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570200" y="52812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955320" y="67140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70480" y="71604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66040" y="74160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38320" y="57384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928680" y="37656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217400" y="77004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615560" y="40356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42480" y="30492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916080" y="36504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"/>
            <p:cNvSpPr/>
            <p:nvPr/>
          </p:nvSpPr>
          <p:spPr>
            <a:xfrm>
              <a:off x="3826440" y="50328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808440" y="1965240"/>
            <a:ext cx="755640" cy="711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868400" y="148428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86080" y="157644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19720" y="114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789200"/>
            <a:ext cx="91440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28195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9092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428280" y="270360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344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4417920" y="1965240"/>
            <a:ext cx="755640" cy="711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95920" y="160020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812960"/>
            <a:ext cx="914400" cy="276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0440" y="5143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e chann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8440" y="556272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the backbone (each device communicates with its Access Point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3581280"/>
            <a:ext cx="76176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438280"/>
            <a:ext cx="761760" cy="1143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3581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819520"/>
            <a:ext cx="7617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D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48520" y="2438280"/>
            <a:ext cx="76176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2057400"/>
            <a:ext cx="761760" cy="3808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5748-891A-4D18-837A-464EEF7C9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52280" y="1523880"/>
            <a:ext cx="8534520" cy="3200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403848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341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876920" y="4191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2 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16440" y="2703600"/>
            <a:ext cx="703440" cy="811080"/>
          </a:xfrm>
          <a:custGeom>
            <a:avLst/>
            <a:gdLst/>
            <a:ahLst/>
            <a:rect l="l" t="t" r="r" b="b"/>
            <a:pathLst>
              <a:path w="443" h="511">
                <a:moveTo>
                  <a:pt x="0" y="510"/>
                </a:moveTo>
                <a:lnTo>
                  <a:pt x="227" y="209"/>
                </a:lnTo>
                <a:lnTo>
                  <a:pt x="214" y="276"/>
                </a:lnTo>
                <a:lnTo>
                  <a:pt x="442" y="0"/>
                </a:lnTo>
                <a:lnTo>
                  <a:pt x="180" y="357"/>
                </a:lnTo>
                <a:lnTo>
                  <a:pt x="184" y="292"/>
                </a:lnTo>
                <a:lnTo>
                  <a:pt x="0" y="5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8376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57600" y="304920"/>
            <a:ext cx="1445760" cy="798120"/>
            <a:chOff x="3657600" y="304920"/>
            <a:chExt cx="1445760" cy="798120"/>
          </a:xfrm>
        </p:grpSpPr>
        <p:grpSp>
          <p:nvGrpSpPr>
            <p:cNvPr id="349" name=""/>
            <p:cNvGrpSpPr/>
            <p:nvPr/>
          </p:nvGrpSpPr>
          <p:grpSpPr>
            <a:xfrm>
              <a:off x="3657600" y="304920"/>
              <a:ext cx="1445760" cy="798120"/>
              <a:chOff x="3657600" y="304920"/>
              <a:chExt cx="1445760" cy="7981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4506480" y="376560"/>
                <a:ext cx="596880" cy="691200"/>
                <a:chOff x="4506480" y="376560"/>
                <a:chExt cx="596880" cy="69120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4732560" y="376560"/>
                  <a:ext cx="370800" cy="557280"/>
                  <a:chOff x="4732560" y="376560"/>
                  <a:chExt cx="370800" cy="55728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4831920" y="447840"/>
                    <a:ext cx="271440" cy="414360"/>
                    <a:chOff x="4831920" y="447840"/>
                    <a:chExt cx="271440" cy="41436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4831920" y="447840"/>
                      <a:ext cx="271440" cy="414360"/>
                      <a:chOff x="4831920" y="447840"/>
                      <a:chExt cx="271440" cy="41436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4894560" y="473400"/>
                        <a:ext cx="208800" cy="334080"/>
                        <a:chOff x="4894560" y="473400"/>
                        <a:chExt cx="208800" cy="33408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4921920" y="473400"/>
                          <a:ext cx="181440" cy="334080"/>
                          <a:chOff x="4921920" y="473400"/>
                          <a:chExt cx="181440" cy="334080"/>
                        </a:xfrm>
                      </p:grpSpPr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>
                            <a:off x="5011920" y="670680"/>
                            <a:ext cx="91440" cy="92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080" bIns="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>
                            <a:off x="4939200" y="687960"/>
                            <a:ext cx="11916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>
                            <a:off x="4994640" y="544680"/>
                            <a:ext cx="81000" cy="93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>
                            <a:off x="4921920" y="473400"/>
                            <a:ext cx="108720" cy="1195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>
                            <a:off x="4991400" y="542160"/>
                            <a:ext cx="82080" cy="19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4894560" y="572040"/>
                          <a:ext cx="164160" cy="16416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4894560" y="670680"/>
                          <a:ext cx="119160" cy="1195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160" bIns="38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4926600" y="523800"/>
                          <a:ext cx="83160" cy="20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4894560" y="769680"/>
                        <a:ext cx="9144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4831920" y="447840"/>
                        <a:ext cx="11124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4918680" y="740160"/>
                        <a:ext cx="648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909680" y="499320"/>
                      <a:ext cx="378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732560" y="376560"/>
                    <a:ext cx="254520" cy="503280"/>
                    <a:chOff x="4732560" y="376560"/>
                    <a:chExt cx="254520" cy="50328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760280" y="671400"/>
                      <a:ext cx="209520" cy="20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777560" y="528120"/>
                      <a:ext cx="20952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732560" y="376560"/>
                      <a:ext cx="164520" cy="164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830840" y="475200"/>
                      <a:ext cx="8316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774320" y="45432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847400" y="703440"/>
                      <a:ext cx="903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4732560" y="815760"/>
                    <a:ext cx="11088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802040" y="803520"/>
                    <a:ext cx="633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4506480" y="920880"/>
                  <a:ext cx="13896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614120" y="920880"/>
                  <a:ext cx="12060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676760" y="885960"/>
                  <a:ext cx="122040" cy="11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584240" y="865080"/>
                  <a:ext cx="227160" cy="16272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657600" y="385200"/>
                <a:ext cx="363600" cy="477360"/>
                <a:chOff x="3657600" y="385200"/>
                <a:chExt cx="363600" cy="4773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657600" y="447840"/>
                  <a:ext cx="201960" cy="289440"/>
                  <a:chOff x="3657600" y="447840"/>
                  <a:chExt cx="201960" cy="2894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657600" y="546480"/>
                    <a:ext cx="939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74880" y="617760"/>
                    <a:ext cx="11124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693600" y="44784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681720" y="552600"/>
                    <a:ext cx="6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3719880" y="385200"/>
                  <a:ext cx="301320" cy="477360"/>
                  <a:chOff x="3719880" y="385200"/>
                  <a:chExt cx="301320" cy="4773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3819600" y="402480"/>
                    <a:ext cx="201600" cy="219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719880" y="546840"/>
                    <a:ext cx="111240" cy="118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747600" y="617040"/>
                    <a:ext cx="15660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792960" y="688680"/>
                    <a:ext cx="165960" cy="173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802320" y="500760"/>
                    <a:ext cx="145800" cy="14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919320" y="385200"/>
                    <a:ext cx="92520" cy="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843720" y="471600"/>
                    <a:ext cx="110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752280" y="596160"/>
                    <a:ext cx="1206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3906720" y="425520"/>
                  <a:ext cx="74160" cy="828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838320" y="304920"/>
                <a:ext cx="1058760" cy="798120"/>
                <a:chOff x="3838320" y="304920"/>
                <a:chExt cx="1058760" cy="798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164120" y="330840"/>
                  <a:ext cx="2646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80120" y="304920"/>
                  <a:ext cx="210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200" y="528120"/>
                  <a:ext cx="32688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955320" y="671400"/>
                  <a:ext cx="37224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70480" y="716040"/>
                  <a:ext cx="281520" cy="2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866040" y="741600"/>
                  <a:ext cx="200520" cy="2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838320" y="573840"/>
                  <a:ext cx="20988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28680" y="376560"/>
                  <a:ext cx="327240" cy="34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217400" y="770040"/>
                  <a:ext cx="32832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615560" y="403560"/>
                  <a:ext cx="253800" cy="26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42480" y="304920"/>
                  <a:ext cx="23760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916080" y="365040"/>
                  <a:ext cx="923400" cy="635400"/>
                </a:xfrm>
                <a:custGeom>
                  <a:avLst/>
                  <a:gdLst/>
                  <a:ahLst/>
                  <a:rect l="l" t="t" r="r" b="b"/>
                  <a:pathLst>
                    <a:path w="796" h="515">
                      <a:moveTo>
                        <a:pt x="249" y="51"/>
                      </a:moveTo>
                      <a:lnTo>
                        <a:pt x="281" y="14"/>
                      </a:lnTo>
                      <a:lnTo>
                        <a:pt x="428" y="14"/>
                      </a:lnTo>
                      <a:lnTo>
                        <a:pt x="529" y="0"/>
                      </a:lnTo>
                      <a:lnTo>
                        <a:pt x="663" y="65"/>
                      </a:lnTo>
                      <a:lnTo>
                        <a:pt x="732" y="44"/>
                      </a:lnTo>
                      <a:lnTo>
                        <a:pt x="764" y="51"/>
                      </a:lnTo>
                      <a:lnTo>
                        <a:pt x="771" y="202"/>
                      </a:lnTo>
                      <a:lnTo>
                        <a:pt x="795" y="232"/>
                      </a:lnTo>
                      <a:lnTo>
                        <a:pt x="732" y="347"/>
                      </a:lnTo>
                      <a:lnTo>
                        <a:pt x="663" y="260"/>
                      </a:lnTo>
                      <a:lnTo>
                        <a:pt x="646" y="304"/>
                      </a:lnTo>
                      <a:lnTo>
                        <a:pt x="553" y="470"/>
                      </a:lnTo>
                      <a:lnTo>
                        <a:pt x="242" y="514"/>
                      </a:lnTo>
                      <a:lnTo>
                        <a:pt x="78" y="478"/>
                      </a:lnTo>
                      <a:lnTo>
                        <a:pt x="31" y="376"/>
                      </a:lnTo>
                      <a:lnTo>
                        <a:pt x="31" y="275"/>
                      </a:lnTo>
                      <a:lnTo>
                        <a:pt x="0" y="195"/>
                      </a:lnTo>
                      <a:lnTo>
                        <a:pt x="249" y="51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" name=""/>
            <p:cNvSpPr/>
            <p:nvPr/>
          </p:nvSpPr>
          <p:spPr>
            <a:xfrm>
              <a:off x="3826440" y="503280"/>
              <a:ext cx="1029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808440" y="1965240"/>
            <a:ext cx="1449360" cy="777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868400" y="1484280"/>
            <a:ext cx="506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86080" y="157644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19720" y="114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2031840"/>
            <a:ext cx="1676520" cy="6314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fied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2 different MA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819520" y="3583080"/>
            <a:ext cx="761760" cy="58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66880" y="4191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428280" y="2703600"/>
            <a:ext cx="609480" cy="838080"/>
          </a:xfrm>
          <a:custGeom>
            <a:avLst/>
            <a:gdLst/>
            <a:ahLst/>
            <a:rect l="l" t="t" r="r" b="b"/>
            <a:pathLst>
              <a:path w="473" h="485">
                <a:moveTo>
                  <a:pt x="472" y="484"/>
                </a:moveTo>
                <a:lnTo>
                  <a:pt x="191" y="232"/>
                </a:lnTo>
                <a:lnTo>
                  <a:pt x="256" y="250"/>
                </a:lnTo>
                <a:lnTo>
                  <a:pt x="0" y="0"/>
                </a:lnTo>
                <a:lnTo>
                  <a:pt x="334" y="292"/>
                </a:lnTo>
                <a:lnTo>
                  <a:pt x="269" y="282"/>
                </a:lnTo>
                <a:lnTo>
                  <a:pt x="472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93440" y="300816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95920" y="1600200"/>
            <a:ext cx="0" cy="35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0440" y="488304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ame chann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ame coverag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6920" y="5302080"/>
            <a:ext cx="83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exchanged between the devices using the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device communicates with the Unified Access Point but to a different MAC ent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MAC has a different addres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248520" y="2057400"/>
            <a:ext cx="1294920" cy="1905120"/>
            <a:chOff x="6248520" y="2057400"/>
            <a:chExt cx="1294920" cy="1905120"/>
          </a:xfrm>
        </p:grpSpPr>
        <p:sp>
          <p:nvSpPr>
            <p:cNvPr id="424" name=""/>
            <p:cNvSpPr/>
            <p:nvPr/>
          </p:nvSpPr>
          <p:spPr>
            <a:xfrm>
              <a:off x="6248520" y="3581280"/>
              <a:ext cx="129492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yb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48520" y="2819520"/>
              <a:ext cx="6472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95800" y="2438280"/>
              <a:ext cx="647280" cy="7621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48520" y="2438280"/>
              <a:ext cx="6472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48520" y="2057400"/>
              <a:ext cx="1294920" cy="3808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48520" y="3200400"/>
              <a:ext cx="129492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MAC/D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Osaka"/>
                </a:rPr>
                <a:t>Convergence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6C3B-E2AA-4C0A-BD5D-45D891F94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2:04:37Z</dcterms:created>
  <dc:creator>Pratik Mehta</dc:creator>
  <dc:description/>
  <dc:language>en-US</dc:language>
  <cp:lastModifiedBy>Bruce Kraemer</cp:lastModifiedBy>
  <cp:lastPrinted>2001-01-10T12:39:37Z</cp:lastPrinted>
  <dcterms:modified xsi:type="dcterms:W3CDTF">2001-01-19T05:11:55Z</dcterms:modified>
  <cp:revision>75</cp:revision>
  <dc:subject/>
  <dc:title>5GSG Report</dc:title>
</cp:coreProperties>
</file>