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817D5-9750-4384-8908-B175D27E9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B6113-DF27-4FB1-A5C9-16EB7070B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4206-0295-4E8D-9040-FE5CB6467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5641E-D982-4866-A963-4B2DC02280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447EB-5849-4AD8-B067-2ED6AF13CE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E227A-2418-44EC-9B9E-0539BBC38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29AC8-CB0F-425F-9DD9-407E3FE51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B114-0E06-4D8F-BBC5-D8C519109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E6AC-3D4E-4109-8B62-8C551CFC5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ABFF0-F671-48F8-B5E2-5A4314E2A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8BF8C-2344-4690-B82D-AA93A1A2F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DFAC-9509-4F6A-A9E3-4287D581D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/07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4120" y="316080"/>
            <a:ext cx="114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uary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8280" y="645804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Inter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3504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5C0C332-8795-4CA5-9591-F831DD77C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oint Mee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GS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existen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 hoc Regulator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January 17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00 – 5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52280" y="1523880"/>
            <a:ext cx="8534520" cy="32004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ff66"/>
              </a:gs>
            </a:gsLst>
            <a:lin ang="10800000"/>
          </a:gra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" y="4038480"/>
            <a:ext cx="8686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5334120" y="3583080"/>
            <a:ext cx="761760" cy="5842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4876920" y="41911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L2 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4816440" y="2703600"/>
            <a:ext cx="703440" cy="811080"/>
          </a:xfrm>
          <a:custGeom>
            <a:avLst/>
            <a:gdLst/>
            <a:ahLst/>
            <a:rect l="l" t="t" r="r" b="b"/>
            <a:pathLst>
              <a:path w="443" h="511">
                <a:moveTo>
                  <a:pt x="0" y="510"/>
                </a:moveTo>
                <a:lnTo>
                  <a:pt x="227" y="209"/>
                </a:lnTo>
                <a:lnTo>
                  <a:pt x="214" y="276"/>
                </a:lnTo>
                <a:lnTo>
                  <a:pt x="442" y="0"/>
                </a:lnTo>
                <a:lnTo>
                  <a:pt x="180" y="357"/>
                </a:lnTo>
                <a:lnTo>
                  <a:pt x="184" y="292"/>
                </a:lnTo>
                <a:lnTo>
                  <a:pt x="0" y="51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83760" y="300816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Ch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657600" y="304920"/>
            <a:ext cx="1445760" cy="798120"/>
            <a:chOff x="3657600" y="304920"/>
            <a:chExt cx="1445760" cy="798120"/>
          </a:xfrm>
        </p:grpSpPr>
        <p:grpSp>
          <p:nvGrpSpPr>
            <p:cNvPr id="437" name=""/>
            <p:cNvGrpSpPr/>
            <p:nvPr/>
          </p:nvGrpSpPr>
          <p:grpSpPr>
            <a:xfrm>
              <a:off x="3657600" y="304920"/>
              <a:ext cx="1445760" cy="798120"/>
              <a:chOff x="3657600" y="304920"/>
              <a:chExt cx="1445760" cy="79812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4506480" y="376560"/>
                <a:ext cx="596880" cy="691200"/>
                <a:chOff x="4506480" y="376560"/>
                <a:chExt cx="596880" cy="69120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4732560" y="376560"/>
                  <a:ext cx="370800" cy="557280"/>
                  <a:chOff x="4732560" y="376560"/>
                  <a:chExt cx="370800" cy="557280"/>
                </a:xfrm>
              </p:grpSpPr>
              <p:grpSp>
                <p:nvGrpSpPr>
                  <p:cNvPr id="440" name=""/>
                  <p:cNvGrpSpPr/>
                  <p:nvPr/>
                </p:nvGrpSpPr>
                <p:grpSpPr>
                  <a:xfrm>
                    <a:off x="4831920" y="447840"/>
                    <a:ext cx="271440" cy="414360"/>
                    <a:chOff x="4831920" y="447840"/>
                    <a:chExt cx="271440" cy="414360"/>
                  </a:xfrm>
                </p:grpSpPr>
                <p:grpSp>
                  <p:nvGrpSpPr>
                    <p:cNvPr id="441" name=""/>
                    <p:cNvGrpSpPr/>
                    <p:nvPr/>
                  </p:nvGrpSpPr>
                  <p:grpSpPr>
                    <a:xfrm>
                      <a:off x="4831920" y="447840"/>
                      <a:ext cx="271440" cy="414360"/>
                      <a:chOff x="4831920" y="447840"/>
                      <a:chExt cx="271440" cy="414360"/>
                    </a:xfrm>
                  </p:grpSpPr>
                  <p:grpSp>
                    <p:nvGrpSpPr>
                      <p:cNvPr id="442" name=""/>
                      <p:cNvGrpSpPr/>
                      <p:nvPr/>
                    </p:nvGrpSpPr>
                    <p:grpSpPr>
                      <a:xfrm>
                        <a:off x="4894560" y="473400"/>
                        <a:ext cx="208800" cy="334080"/>
                        <a:chOff x="4894560" y="473400"/>
                        <a:chExt cx="208800" cy="334080"/>
                      </a:xfrm>
                    </p:grpSpPr>
                    <p:grpSp>
                      <p:nvGrpSpPr>
                        <p:cNvPr id="443" name=""/>
                        <p:cNvGrpSpPr/>
                        <p:nvPr/>
                      </p:nvGrpSpPr>
                      <p:grpSpPr>
                        <a:xfrm>
                          <a:off x="4921920" y="473400"/>
                          <a:ext cx="181440" cy="334080"/>
                          <a:chOff x="4921920" y="473400"/>
                          <a:chExt cx="181440" cy="334080"/>
                        </a:xfrm>
                      </p:grpSpPr>
                      <p:sp>
                        <p:nvSpPr>
                          <p:cNvPr id="444" name=""/>
                          <p:cNvSpPr/>
                          <p:nvPr/>
                        </p:nvSpPr>
                        <p:spPr>
                          <a:xfrm>
                            <a:off x="5011920" y="670680"/>
                            <a:ext cx="91440" cy="9252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080" bIns="19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5" name=""/>
                          <p:cNvSpPr/>
                          <p:nvPr/>
                        </p:nvSpPr>
                        <p:spPr>
                          <a:xfrm>
                            <a:off x="4939200" y="687960"/>
                            <a:ext cx="119160" cy="11952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160" bIns="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6" name=""/>
                          <p:cNvSpPr/>
                          <p:nvPr/>
                        </p:nvSpPr>
                        <p:spPr>
                          <a:xfrm>
                            <a:off x="4994640" y="544680"/>
                            <a:ext cx="81000" cy="9360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7" name=""/>
                          <p:cNvSpPr/>
                          <p:nvPr/>
                        </p:nvSpPr>
                        <p:spPr>
                          <a:xfrm>
                            <a:off x="4921920" y="473400"/>
                            <a:ext cx="108720" cy="11952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160" bIns="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8" name=""/>
                          <p:cNvSpPr/>
                          <p:nvPr/>
                        </p:nvSpPr>
                        <p:spPr>
                          <a:xfrm>
                            <a:off x="4991400" y="542160"/>
                            <a:ext cx="82080" cy="197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" h="160">
                                <a:moveTo>
                                  <a:pt x="70" y="159"/>
                                </a:moveTo>
                                <a:lnTo>
                                  <a:pt x="39" y="159"/>
                                </a:lnTo>
                                <a:lnTo>
                                  <a:pt x="0" y="0"/>
                                </a:lnTo>
                                <a:lnTo>
                                  <a:pt x="39" y="14"/>
                                </a:lnTo>
                                <a:lnTo>
                                  <a:pt x="46" y="94"/>
                                </a:lnTo>
                                <a:lnTo>
                                  <a:pt x="70" y="159"/>
                                </a:lnTo>
                              </a:path>
                            </a:pathLst>
                          </a:cu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49" name=""/>
                        <p:cNvSpPr/>
                        <p:nvPr/>
                      </p:nvSpPr>
                      <p:spPr>
                        <a:xfrm>
                          <a:off x="4894560" y="572040"/>
                          <a:ext cx="164160" cy="16416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0" name=""/>
                        <p:cNvSpPr/>
                        <p:nvPr/>
                      </p:nvSpPr>
                      <p:spPr>
                        <a:xfrm>
                          <a:off x="4894560" y="670680"/>
                          <a:ext cx="119160" cy="11952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160" bIns="38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1" name=""/>
                        <p:cNvSpPr/>
                        <p:nvPr/>
                      </p:nvSpPr>
                      <p:spPr>
                        <a:xfrm>
                          <a:off x="4926600" y="523800"/>
                          <a:ext cx="83160" cy="20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2" h="168">
                              <a:moveTo>
                                <a:pt x="71" y="29"/>
                              </a:moveTo>
                              <a:lnTo>
                                <a:pt x="62" y="66"/>
                              </a:lnTo>
                              <a:lnTo>
                                <a:pt x="71" y="145"/>
                              </a:lnTo>
                              <a:lnTo>
                                <a:pt x="47" y="167"/>
                              </a:lnTo>
                              <a:lnTo>
                                <a:pt x="0" y="73"/>
                              </a:lnTo>
                              <a:lnTo>
                                <a:pt x="39" y="0"/>
                              </a:lnTo>
                              <a:lnTo>
                                <a:pt x="71" y="29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52" name=""/>
                      <p:cNvSpPr/>
                      <p:nvPr/>
                    </p:nvSpPr>
                    <p:spPr>
                      <a:xfrm>
                        <a:off x="4894560" y="769680"/>
                        <a:ext cx="91440" cy="92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9080" bIns="19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3" name=""/>
                      <p:cNvSpPr/>
                      <p:nvPr/>
                    </p:nvSpPr>
                    <p:spPr>
                      <a:xfrm>
                        <a:off x="4831920" y="447840"/>
                        <a:ext cx="111240" cy="119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4" name=""/>
                      <p:cNvSpPr/>
                      <p:nvPr/>
                    </p:nvSpPr>
                    <p:spPr>
                      <a:xfrm>
                        <a:off x="4918680" y="740160"/>
                        <a:ext cx="64800" cy="4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37">
                            <a:moveTo>
                              <a:pt x="55" y="21"/>
                            </a:moveTo>
                            <a:lnTo>
                              <a:pt x="39" y="36"/>
                            </a:lnTo>
                            <a:lnTo>
                              <a:pt x="0" y="21"/>
                            </a:lnTo>
                            <a:lnTo>
                              <a:pt x="39" y="0"/>
                            </a:lnTo>
                            <a:lnTo>
                              <a:pt x="55" y="2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4909680" y="499320"/>
                      <a:ext cx="3780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58">
                          <a:moveTo>
                            <a:pt x="15" y="0"/>
                          </a:moveTo>
                          <a:lnTo>
                            <a:pt x="32" y="7"/>
                          </a:lnTo>
                          <a:lnTo>
                            <a:pt x="32" y="57"/>
                          </a:lnTo>
                          <a:lnTo>
                            <a:pt x="0" y="50"/>
                          </a:lnTo>
                          <a:lnTo>
                            <a:pt x="15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4732560" y="376560"/>
                    <a:ext cx="254520" cy="503280"/>
                    <a:chOff x="4732560" y="376560"/>
                    <a:chExt cx="254520" cy="503280"/>
                  </a:xfrm>
                </p:grpSpPr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4760280" y="671400"/>
                      <a:ext cx="209520" cy="20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4777560" y="528120"/>
                      <a:ext cx="209520" cy="209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4732560" y="376560"/>
                      <a:ext cx="164520" cy="164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4830840" y="475200"/>
                      <a:ext cx="83160" cy="92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080" bIns="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4774320" y="454320"/>
                      <a:ext cx="145800" cy="18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153">
                          <a:moveTo>
                            <a:pt x="85" y="7"/>
                          </a:moveTo>
                          <a:lnTo>
                            <a:pt x="85" y="21"/>
                          </a:lnTo>
                          <a:lnTo>
                            <a:pt x="116" y="58"/>
                          </a:lnTo>
                          <a:lnTo>
                            <a:pt x="125" y="65"/>
                          </a:lnTo>
                          <a:lnTo>
                            <a:pt x="78" y="152"/>
                          </a:lnTo>
                          <a:lnTo>
                            <a:pt x="0" y="0"/>
                          </a:lnTo>
                          <a:lnTo>
                            <a:pt x="85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>
                      <a:off x="4847400" y="703440"/>
                      <a:ext cx="9036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53">
                          <a:moveTo>
                            <a:pt x="68" y="7"/>
                          </a:moveTo>
                          <a:lnTo>
                            <a:pt x="77" y="22"/>
                          </a:lnTo>
                          <a:lnTo>
                            <a:pt x="0" y="52"/>
                          </a:lnTo>
                          <a:lnTo>
                            <a:pt x="0" y="0"/>
                          </a:lnTo>
                          <a:lnTo>
                            <a:pt x="68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3" name=""/>
                  <p:cNvSpPr/>
                  <p:nvPr/>
                </p:nvSpPr>
                <p:spPr>
                  <a:xfrm>
                    <a:off x="4732560" y="815760"/>
                    <a:ext cx="110880" cy="118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4802040" y="803520"/>
                    <a:ext cx="6336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1">
                        <a:moveTo>
                          <a:pt x="23" y="50"/>
                        </a:moveTo>
                        <a:lnTo>
                          <a:pt x="54" y="36"/>
                        </a:lnTo>
                        <a:lnTo>
                          <a:pt x="15" y="0"/>
                        </a:lnTo>
                        <a:lnTo>
                          <a:pt x="0" y="14"/>
                        </a:lnTo>
                        <a:lnTo>
                          <a:pt x="23" y="5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5" name=""/>
                <p:cNvSpPr/>
                <p:nvPr/>
              </p:nvSpPr>
              <p:spPr>
                <a:xfrm>
                  <a:off x="4506480" y="920880"/>
                  <a:ext cx="138960" cy="14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614120" y="920880"/>
                  <a:ext cx="12060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676760" y="885960"/>
                  <a:ext cx="122040" cy="11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584240" y="865080"/>
                  <a:ext cx="227160" cy="162720"/>
                </a:xfrm>
                <a:custGeom>
                  <a:avLst/>
                  <a:gdLst/>
                  <a:ahLst/>
                  <a:rect l="l" t="t" r="r" b="b"/>
                  <a:pathLst>
                    <a:path w="196" h="132">
                      <a:moveTo>
                        <a:pt x="186" y="37"/>
                      </a:moveTo>
                      <a:lnTo>
                        <a:pt x="164" y="44"/>
                      </a:lnTo>
                      <a:lnTo>
                        <a:pt x="108" y="94"/>
                      </a:lnTo>
                      <a:lnTo>
                        <a:pt x="101" y="117"/>
                      </a:lnTo>
                      <a:lnTo>
                        <a:pt x="39" y="117"/>
                      </a:lnTo>
                      <a:lnTo>
                        <a:pt x="31" y="131"/>
                      </a:lnTo>
                      <a:lnTo>
                        <a:pt x="0" y="87"/>
                      </a:lnTo>
                      <a:lnTo>
                        <a:pt x="132" y="0"/>
                      </a:lnTo>
                      <a:lnTo>
                        <a:pt x="195" y="21"/>
                      </a:lnTo>
                      <a:lnTo>
                        <a:pt x="186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3657600" y="385200"/>
                <a:ext cx="363600" cy="477360"/>
                <a:chOff x="3657600" y="385200"/>
                <a:chExt cx="363600" cy="47736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3657600" y="447840"/>
                  <a:ext cx="201960" cy="289440"/>
                  <a:chOff x="3657600" y="447840"/>
                  <a:chExt cx="201960" cy="28944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3657600" y="546480"/>
                    <a:ext cx="93960" cy="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3674880" y="617760"/>
                    <a:ext cx="111240" cy="11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3693600" y="447840"/>
                    <a:ext cx="165960" cy="173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3681720" y="552600"/>
                    <a:ext cx="6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81">
                        <a:moveTo>
                          <a:pt x="31" y="0"/>
                        </a:moveTo>
                        <a:lnTo>
                          <a:pt x="0" y="14"/>
                        </a:lnTo>
                        <a:lnTo>
                          <a:pt x="0" y="66"/>
                        </a:lnTo>
                        <a:lnTo>
                          <a:pt x="15" y="80"/>
                        </a:lnTo>
                        <a:lnTo>
                          <a:pt x="55" y="66"/>
                        </a:lnTo>
                        <a:lnTo>
                          <a:pt x="31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3719880" y="385200"/>
                  <a:ext cx="301320" cy="477360"/>
                  <a:chOff x="3719880" y="385200"/>
                  <a:chExt cx="301320" cy="47736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3819600" y="402480"/>
                    <a:ext cx="201600" cy="219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3719880" y="546840"/>
                    <a:ext cx="111240" cy="118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3747600" y="617040"/>
                    <a:ext cx="156600" cy="173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3792960" y="688680"/>
                    <a:ext cx="165960" cy="173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3802320" y="500760"/>
                    <a:ext cx="145800" cy="14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3919320" y="385200"/>
                    <a:ext cx="92520" cy="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3843720" y="471600"/>
                    <a:ext cx="1101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67">
                        <a:moveTo>
                          <a:pt x="0" y="14"/>
                        </a:moveTo>
                        <a:lnTo>
                          <a:pt x="15" y="44"/>
                        </a:lnTo>
                        <a:lnTo>
                          <a:pt x="94" y="66"/>
                        </a:lnTo>
                        <a:lnTo>
                          <a:pt x="94" y="22"/>
                        </a:lnTo>
                        <a:lnTo>
                          <a:pt x="8" y="0"/>
                        </a:lnTo>
                        <a:lnTo>
                          <a:pt x="0" y="1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3752280" y="596160"/>
                    <a:ext cx="12060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26">
                        <a:moveTo>
                          <a:pt x="64" y="0"/>
                        </a:moveTo>
                        <a:lnTo>
                          <a:pt x="0" y="29"/>
                        </a:lnTo>
                        <a:lnTo>
                          <a:pt x="24" y="59"/>
                        </a:lnTo>
                        <a:lnTo>
                          <a:pt x="24" y="118"/>
                        </a:lnTo>
                        <a:lnTo>
                          <a:pt x="39" y="125"/>
                        </a:lnTo>
                        <a:lnTo>
                          <a:pt x="94" y="88"/>
                        </a:lnTo>
                        <a:lnTo>
                          <a:pt x="103" y="14"/>
                        </a:lnTo>
                        <a:lnTo>
                          <a:pt x="64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4" name=""/>
                <p:cNvSpPr/>
                <p:nvPr/>
              </p:nvSpPr>
              <p:spPr>
                <a:xfrm>
                  <a:off x="3906720" y="425520"/>
                  <a:ext cx="74160" cy="82800"/>
                </a:xfrm>
                <a:custGeom>
                  <a:avLst/>
                  <a:gdLst/>
                  <a:ahLst/>
                  <a:rect l="l" t="t" r="r" b="b"/>
                  <a:pathLst>
                    <a:path w="64" h="67">
                      <a:moveTo>
                        <a:pt x="0" y="37"/>
                      </a:moveTo>
                      <a:lnTo>
                        <a:pt x="31" y="0"/>
                      </a:lnTo>
                      <a:lnTo>
                        <a:pt x="63" y="37"/>
                      </a:lnTo>
                      <a:lnTo>
                        <a:pt x="31" y="66"/>
                      </a:lnTo>
                      <a:lnTo>
                        <a:pt x="0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3838320" y="304920"/>
                <a:ext cx="1058760" cy="798120"/>
                <a:chOff x="3838320" y="304920"/>
                <a:chExt cx="1058760" cy="79812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4164120" y="330840"/>
                  <a:ext cx="264600" cy="26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380120" y="304920"/>
                  <a:ext cx="21096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570200" y="528120"/>
                  <a:ext cx="326880" cy="33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955320" y="671400"/>
                  <a:ext cx="372240" cy="387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4470480" y="716040"/>
                  <a:ext cx="281520" cy="28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866040" y="741600"/>
                  <a:ext cx="200520" cy="21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838320" y="573840"/>
                  <a:ext cx="20988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928680" y="376560"/>
                  <a:ext cx="327240" cy="34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217400" y="770040"/>
                  <a:ext cx="328320" cy="33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615560" y="403560"/>
                  <a:ext cx="253800" cy="26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542480" y="304920"/>
                  <a:ext cx="23760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916080" y="365040"/>
                  <a:ext cx="923400" cy="635400"/>
                </a:xfrm>
                <a:custGeom>
                  <a:avLst/>
                  <a:gdLst/>
                  <a:ahLst/>
                  <a:rect l="l" t="t" r="r" b="b"/>
                  <a:pathLst>
                    <a:path w="796" h="515">
                      <a:moveTo>
                        <a:pt x="249" y="51"/>
                      </a:moveTo>
                      <a:lnTo>
                        <a:pt x="281" y="14"/>
                      </a:lnTo>
                      <a:lnTo>
                        <a:pt x="428" y="14"/>
                      </a:lnTo>
                      <a:lnTo>
                        <a:pt x="529" y="0"/>
                      </a:lnTo>
                      <a:lnTo>
                        <a:pt x="663" y="65"/>
                      </a:lnTo>
                      <a:lnTo>
                        <a:pt x="732" y="44"/>
                      </a:lnTo>
                      <a:lnTo>
                        <a:pt x="764" y="51"/>
                      </a:lnTo>
                      <a:lnTo>
                        <a:pt x="771" y="202"/>
                      </a:lnTo>
                      <a:lnTo>
                        <a:pt x="795" y="232"/>
                      </a:lnTo>
                      <a:lnTo>
                        <a:pt x="732" y="347"/>
                      </a:lnTo>
                      <a:lnTo>
                        <a:pt x="663" y="260"/>
                      </a:lnTo>
                      <a:lnTo>
                        <a:pt x="646" y="304"/>
                      </a:lnTo>
                      <a:lnTo>
                        <a:pt x="553" y="470"/>
                      </a:lnTo>
                      <a:lnTo>
                        <a:pt x="242" y="514"/>
                      </a:lnTo>
                      <a:lnTo>
                        <a:pt x="78" y="478"/>
                      </a:lnTo>
                      <a:lnTo>
                        <a:pt x="31" y="376"/>
                      </a:lnTo>
                      <a:lnTo>
                        <a:pt x="31" y="275"/>
                      </a:lnTo>
                      <a:lnTo>
                        <a:pt x="0" y="195"/>
                      </a:lnTo>
                      <a:lnTo>
                        <a:pt x="249" y="51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8" name=""/>
            <p:cNvSpPr/>
            <p:nvPr/>
          </p:nvSpPr>
          <p:spPr>
            <a:xfrm>
              <a:off x="3826440" y="503280"/>
              <a:ext cx="10296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3808440" y="1965240"/>
            <a:ext cx="1449360" cy="7779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868400" y="1484280"/>
            <a:ext cx="506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19720" y="1576440"/>
            <a:ext cx="0" cy="35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4419720" y="1142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57400" y="2031840"/>
            <a:ext cx="1676520" cy="63144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ified 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Unifi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Dual 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3"/>
          <a:stretch/>
        </p:blipFill>
        <p:spPr>
          <a:xfrm>
            <a:off x="2819520" y="3583080"/>
            <a:ext cx="761760" cy="58428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2666880" y="4191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1 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3428280" y="2703600"/>
            <a:ext cx="609480" cy="838080"/>
          </a:xfrm>
          <a:custGeom>
            <a:avLst/>
            <a:gdLst/>
            <a:ahLst/>
            <a:rect l="l" t="t" r="r" b="b"/>
            <a:pathLst>
              <a:path w="473" h="485">
                <a:moveTo>
                  <a:pt x="472" y="484"/>
                </a:moveTo>
                <a:lnTo>
                  <a:pt x="191" y="232"/>
                </a:lnTo>
                <a:lnTo>
                  <a:pt x="256" y="250"/>
                </a:lnTo>
                <a:lnTo>
                  <a:pt x="0" y="0"/>
                </a:lnTo>
                <a:lnTo>
                  <a:pt x="334" y="292"/>
                </a:lnTo>
                <a:lnTo>
                  <a:pt x="269" y="282"/>
                </a:lnTo>
                <a:lnTo>
                  <a:pt x="472" y="484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293440" y="300816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0440" y="5143680"/>
            <a:ext cx="71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existence  –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vel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Using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same chann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the same coverag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1600" y="5562720"/>
            <a:ext cx="58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exchanged between the devices using Layer 2 of the 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ly one MAC address is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2438280"/>
            <a:ext cx="7621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/D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2438280"/>
            <a:ext cx="3808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057400"/>
            <a:ext cx="762120" cy="38088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400800" y="3581280"/>
            <a:ext cx="7621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50CB-509F-4095-8106-A9EC838DE3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2244600" y="1143000"/>
            <a:ext cx="4743720" cy="4876560"/>
            <a:chOff x="2244600" y="1143000"/>
            <a:chExt cx="4743720" cy="4876560"/>
          </a:xfrm>
        </p:grpSpPr>
        <p:sp>
          <p:nvSpPr>
            <p:cNvPr id="515" name=""/>
            <p:cNvSpPr/>
            <p:nvPr/>
          </p:nvSpPr>
          <p:spPr>
            <a:xfrm>
              <a:off x="2244600" y="1143000"/>
              <a:ext cx="0" cy="47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19600" y="1143000"/>
              <a:ext cx="0" cy="47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88320" y="1239120"/>
              <a:ext cx="0" cy="47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3137040" y="2286000"/>
            <a:ext cx="685800" cy="1247760"/>
          </a:xfrm>
          <a:custGeom>
            <a:avLst/>
            <a:gdLst>
              <a:gd name="textAreaLeft" fmla="*/ 0 w 685800"/>
              <a:gd name="textAreaRight" fmla="*/ 686160 w 685800"/>
              <a:gd name="textAreaTop" fmla="*/ 360 h 1247760"/>
              <a:gd name="textAreaBottom" fmla="*/ 1248480 h 1247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435" stAng="10800000" swAng="5400000"/>
                <a:lnTo>
                  <a:pt x="12427" y="4725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7433"/>
                </a:lnTo>
                <a:lnTo>
                  <a:pt x="12427" y="7433"/>
                </a:lnTo>
                <a:arcTo wR="9719" hR="4727" stAng="16200000" swAng="-5400000"/>
                <a:lnTo>
                  <a:pt x="270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137040" y="2819520"/>
            <a:ext cx="685800" cy="1247760"/>
          </a:xfrm>
          <a:custGeom>
            <a:avLst/>
            <a:gdLst>
              <a:gd name="textAreaLeft" fmla="*/ 0 w 685800"/>
              <a:gd name="textAreaRight" fmla="*/ 686160 w 68580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435" stAng="10800000" swAng="5400000"/>
                <a:lnTo>
                  <a:pt x="12427" y="4725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7433"/>
                </a:lnTo>
                <a:lnTo>
                  <a:pt x="12427" y="7433"/>
                </a:lnTo>
                <a:arcTo wR="9719" hR="4727" stAng="16200000" swAng="-5400000"/>
                <a:lnTo>
                  <a:pt x="270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GHz standardization roadm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5400000">
            <a:off x="7391520" y="1600200"/>
            <a:ext cx="761760" cy="914400"/>
          </a:xfrm>
          <a:custGeom>
            <a:avLst/>
            <a:gdLst>
              <a:gd name="textAreaLeft" fmla="*/ 0 w 761760"/>
              <a:gd name="textAreaRight" fmla="*/ 762120 w 7617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rot="5320200">
            <a:off x="7391160" y="3733200"/>
            <a:ext cx="762120" cy="914400"/>
          </a:xfrm>
          <a:custGeom>
            <a:avLst/>
            <a:gdLst>
              <a:gd name="textAreaLeft" fmla="*/ -360 w 762120"/>
              <a:gd name="textAreaRight" fmla="*/ 76212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57200" y="1371600"/>
            <a:ext cx="2475000" cy="78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ireless Ethern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932200" y="1371600"/>
            <a:ext cx="3506760" cy="78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11e/f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QoS, Security, DFS/TPC, 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25600" y="4172040"/>
            <a:ext cx="2955960" cy="11214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-HL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ireless ATM, 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481560" y="4172040"/>
            <a:ext cx="1787400" cy="145044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394 CL, brid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917800" y="5638680"/>
            <a:ext cx="87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60840" y="5638680"/>
            <a:ext cx="87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22840" y="2424240"/>
            <a:ext cx="1442880" cy="1459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int 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-exis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086600" y="2590920"/>
            <a:ext cx="1905120" cy="1070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lobal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268960" y="4172040"/>
            <a:ext cx="1444680" cy="153144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 phas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MTS - interwo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lic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270400" y="2666880"/>
            <a:ext cx="1525680" cy="95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int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917720" y="2971800"/>
            <a:ext cx="1525680" cy="384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GWI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867280" y="3629160"/>
            <a:ext cx="228600" cy="533160"/>
          </a:xfrm>
          <a:prstGeom prst="upDownArrow">
            <a:avLst>
              <a:gd name="adj1" fmla="val 50000"/>
              <a:gd name="adj2" fmla="val 4643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886360" y="2171880"/>
            <a:ext cx="228600" cy="495000"/>
          </a:xfrm>
          <a:prstGeom prst="upDownArrow">
            <a:avLst>
              <a:gd name="adj1" fmla="val 50000"/>
              <a:gd name="adj2" fmla="val 43106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343400" y="2171880"/>
            <a:ext cx="228600" cy="266400"/>
          </a:xfrm>
          <a:prstGeom prst="upDownArrow">
            <a:avLst>
              <a:gd name="adj1" fmla="val 50000"/>
              <a:gd name="adj2" fmla="val 2319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381560" y="3905280"/>
            <a:ext cx="228600" cy="26676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2400" y="601992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AC also particip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EF7A-067F-4510-BE74-07FCB944C5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ards Convergenc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380880" y="1608120"/>
          <a:ext cx="8305920" cy="2963880"/>
        </p:xfrm>
        <a:graphic>
          <a:graphicData uri="http://schemas.openxmlformats.org/drawingml/2006/table">
            <a:tbl>
              <a:tblPr/>
              <a:tblGrid>
                <a:gridCol w="1646280"/>
                <a:gridCol w="2244960"/>
                <a:gridCol w="2170080"/>
                <a:gridCol w="22446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exist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wor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 Global 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507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ent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s in standard(s) to remove destructive interference [whether different or same channels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s in standard(s) to remove obstacles to data sharing [beyond interference], but without going to a single global 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ent 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sals (d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1360" indent="-1713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(d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sals (d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9160" indent="-1191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(d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sals (d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9160" indent="-1191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(d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1" name=""/>
          <p:cNvSpPr/>
          <p:nvPr/>
        </p:nvSpPr>
        <p:spPr>
          <a:xfrm>
            <a:off x="386640" y="1341360"/>
            <a:ext cx="39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sumption: This will also apply to M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066D4-1B40-4290-A90D-96149F8C20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ards Convergenc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228600" y="1268280"/>
          <a:ext cx="8686800" cy="5132520"/>
        </p:xfrm>
        <a:graphic>
          <a:graphicData uri="http://schemas.openxmlformats.org/drawingml/2006/table">
            <a:tbl>
              <a:tblPr/>
              <a:tblGrid>
                <a:gridCol w="1847880"/>
                <a:gridCol w="2571840"/>
                <a:gridCol w="1962000"/>
                <a:gridCol w="230508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exist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wor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 Global 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507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19160" indent="-1191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mful interference (2 standard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9160" indent="-119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unicating devices using 802.11a or HiperLAN2 can not operate in the same coverage area without harmful inter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9160" indent="-119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unicating devices using 802.11a or HiperLAN2 can not exchange dat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507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vel-1: Operation in the different channels (e.g. DFS, TP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1360" indent="-507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unicating devices using 802.11a or HiperLAN2 can operate in the same coverage area by using different channel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1360" indent="-507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Wireless Terminal can talk to any AP that is multi-mode, but with two radi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vel-1: Wireless Terminal of one standard can exchange data with an AP of another 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9160" indent="-119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unicating devices may not exchange QoS and other aspe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wireless terminal can talk to any AP or any Wireless Termin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9160" indent="-11916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unicating devices using 802.11a or HiperLAN2 can exchange data directly on ad-hoc ba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507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vel-2: Operation in the same chann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1360" indent="-507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unicating devices using 802.11a or HiperLAN2 can operate in the same coverage area using a standardized mechanism that enables devices of both types to efficiently share the same channe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1360" indent="-507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Wireless Terminal can talk to any AP that is multi-mode, but with one radi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"/>
          <p:cNvSpPr/>
          <p:nvPr/>
        </p:nvSpPr>
        <p:spPr>
          <a:xfrm>
            <a:off x="386640" y="958680"/>
            <a:ext cx="39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sumption: This will also apply to M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A613-C95C-4A71-81C8-755E314356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gulatory Convergence St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ing 802.11a in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S/TPC (TG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11a would have to add the upper part of the band when talking about DFS, not just the lower 200 MHz portion of the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unclear whether there is a 2nd step needed for 802.11a to be classified as a HiperLAN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ly, ERC calls out HiperLAN1 and HiperLAN2 “as defined by ETSI” as the legal standards in Europe, but not certain how this could be interpr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to write a test specification for 802.11a for certifying the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ing HiperLAN2 in 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and allocation in the US is limited, so the HiperLAN2 solution would have to limit itself to operate in the US-allocated frequency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lower 100MHz, the US power limit is lower than in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CA1EB-230D-49B6-941B-F5AF99151B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7467480" y="2362320"/>
            <a:ext cx="1219320" cy="304776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3047760"/>
              <a:gd name="textAreaBottom" fmla="*/ 2988360 h 3047760"/>
            </a:gdLst>
            <a:ahLst/>
            <a:rect l="textAreaLeft" t="textAreaTop" r="textAreaRight" b="textAreaBottom"/>
            <a:pathLst>
              <a:path w="21600" h="53981">
                <a:moveTo>
                  <a:pt x="3600" y="0"/>
                </a:moveTo>
                <a:arcTo wR="3600" hR="3600" stAng="16200000" swAng="-5400000"/>
                <a:lnTo>
                  <a:pt x="0" y="50381"/>
                </a:lnTo>
                <a:arcTo wR="3600" hR="3600" stAng="10800000" swAng="-5400000"/>
                <a:lnTo>
                  <a:pt x="18000" y="539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00800" y="3040200"/>
            <a:ext cx="762120" cy="16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/D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971800" y="4732200"/>
            <a:ext cx="38088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52680" y="4732200"/>
            <a:ext cx="381240" cy="5652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1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71800" y="3603600"/>
            <a:ext cx="380880" cy="11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D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352680" y="3040200"/>
            <a:ext cx="381240" cy="1692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971800" y="3040200"/>
            <a:ext cx="380880" cy="563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971800" y="2475000"/>
            <a:ext cx="762120" cy="565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400800" y="3040200"/>
            <a:ext cx="380880" cy="563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400800" y="2475000"/>
            <a:ext cx="762120" cy="565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28800" y="4732200"/>
            <a:ext cx="762120" cy="5652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1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28800" y="3040200"/>
            <a:ext cx="762120" cy="1692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28800" y="2475000"/>
            <a:ext cx="762120" cy="565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4732200"/>
            <a:ext cx="762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5800" y="3603600"/>
            <a:ext cx="762120" cy="11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D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3040200"/>
            <a:ext cx="762120" cy="563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5800" y="2475000"/>
            <a:ext cx="762120" cy="565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400800" y="4732200"/>
            <a:ext cx="762120" cy="565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543800" y="2475000"/>
            <a:ext cx="1066320" cy="2822040"/>
            <a:chOff x="7543800" y="2475000"/>
            <a:chExt cx="1066320" cy="2822040"/>
          </a:xfrm>
        </p:grpSpPr>
        <p:sp>
          <p:nvSpPr>
            <p:cNvPr id="566" name=""/>
            <p:cNvSpPr/>
            <p:nvPr/>
          </p:nvSpPr>
          <p:spPr>
            <a:xfrm>
              <a:off x="7543800" y="3039480"/>
              <a:ext cx="1066320" cy="1693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Hybr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MAC/DLC/C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3800" y="2475000"/>
              <a:ext cx="1066320" cy="5644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M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Bri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43800" y="4732920"/>
              <a:ext cx="1066320" cy="564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Hybr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PH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4114800" y="4732200"/>
            <a:ext cx="762120" cy="565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114800" y="3603600"/>
            <a:ext cx="380880" cy="11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D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95680" y="3040200"/>
            <a:ext cx="381240" cy="1692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114800" y="3040200"/>
            <a:ext cx="380880" cy="563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114800" y="2475000"/>
            <a:ext cx="762120" cy="565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5105520" y="2475000"/>
            <a:ext cx="1066320" cy="2822400"/>
            <a:chOff x="5105520" y="2475000"/>
            <a:chExt cx="1066320" cy="2822400"/>
          </a:xfrm>
        </p:grpSpPr>
        <p:sp>
          <p:nvSpPr>
            <p:cNvPr id="575" name=""/>
            <p:cNvSpPr/>
            <p:nvPr/>
          </p:nvSpPr>
          <p:spPr>
            <a:xfrm>
              <a:off x="5105520" y="4732200"/>
              <a:ext cx="1066320" cy="565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Hybr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PH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5520" y="3603600"/>
              <a:ext cx="532800" cy="565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H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DL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638320" y="3040200"/>
              <a:ext cx="533520" cy="11286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M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05520" y="3040200"/>
              <a:ext cx="532800" cy="563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H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C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05520" y="2475000"/>
              <a:ext cx="1066320" cy="56520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M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Bri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05520" y="4168800"/>
              <a:ext cx="1066320" cy="563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MAC/DL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Converg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2895480" y="16765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(2 radi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038480" y="16765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Inter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(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467480" y="160020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Single 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(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09480" y="16765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752480" y="16765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181480" y="16765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Inter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(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324480" y="16765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Single 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(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vergence Prog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1D02-DEE8-4CCF-9BBF-4041A94B8C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615960" y="1981080"/>
            <a:ext cx="101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518200" y="1981080"/>
            <a:ext cx="37058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ad hoc Regul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 Regulatory Ombuds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752480" y="2286000"/>
            <a:ext cx="762120" cy="533520"/>
          </a:xfrm>
          <a:prstGeom prst="leftRightArrow">
            <a:avLst>
              <a:gd name="adj1" fmla="val 50000"/>
              <a:gd name="adj2" fmla="val 284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248520" y="2286000"/>
            <a:ext cx="761760" cy="533520"/>
          </a:xfrm>
          <a:prstGeom prst="leftRightArrow">
            <a:avLst>
              <a:gd name="adj1" fmla="val 50000"/>
              <a:gd name="adj2" fmla="val 284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967800" y="1981080"/>
            <a:ext cx="111816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 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59960" y="3429000"/>
            <a:ext cx="11455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2480" y="3886200"/>
            <a:ext cx="762120" cy="533520"/>
          </a:xfrm>
          <a:prstGeom prst="leftRightArrow">
            <a:avLst>
              <a:gd name="adj1" fmla="val 50000"/>
              <a:gd name="adj2" fmla="val 284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90920" y="60948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15960" y="3124080"/>
            <a:ext cx="101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15960" y="4419720"/>
            <a:ext cx="101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8600" y="990720"/>
            <a:ext cx="63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8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57200" y="1447920"/>
            <a:ext cx="129528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21E86-90BA-44D8-B374-6AA64A9385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ep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22240" y="16876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28600" y="1523880"/>
            <a:ext cx="8534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tiv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icensed spectrum is spa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multiple types of equipment sharing the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s acceptance (and Market) success depends on vendor  and customer confidence in robus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serv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 Wireless working groups need to improve the method by which standards using the 5GHz spectrum are developed by 802.11, 802.16 and 802.1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EC66E-64C1-4F89-A3B2-7AC0FCF8F7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2200" y="1219320"/>
            <a:ext cx="78814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– Bruce Kraemer - Inter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GSG Work Concept – Pratik Mehta - 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GSG Criteria for Evaluation Document – Don Gray - Web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xistence  - User Expectations – Richard Paine - Boe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 Organizational concept – Steve Shellhammer -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A3F35-F1E7-4D98-9E6B-555B1FDCFA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8720" y="1752480"/>
            <a:ext cx="8065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air wishes to acknowledge that the following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based, in part, upon valuable slide contributions fr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as Kuehnel – N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ik Schylander – Phil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l Bar-Noy – h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keshi Onizawa – N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tik Mehta - 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AB68-12C6-41A7-A027-DBED08D0B3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jor 5GSG Top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-existence (of the standar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sharing etiquet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ference robust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working (between two standar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-existence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WT of one standard can work with a (hybrid) AP of the other st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Global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new joint developed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usage scenarios and applications functional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L2 need to restrict the frequency range and power for USA to comply to F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adoptions are needed to use 802.11a outside 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11050-AE3A-40BB-93F3-265B2900AE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28800" y="3897360"/>
            <a:ext cx="1515960" cy="674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HIPER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200 m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ind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67520" y="4483080"/>
            <a:ext cx="1143000" cy="88920"/>
          </a:xfrm>
          <a:prstGeom prst="rect">
            <a:avLst/>
          </a:prstGeom>
          <a:solidFill>
            <a:srgbClr val="ffc5c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GHz Spectrum Europ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900680"/>
            <a:ext cx="8686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52472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10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20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30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40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50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60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70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80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90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.000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7240" y="4800600"/>
            <a:ext cx="358920" cy="74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4800600"/>
            <a:ext cx="358560" cy="74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4800600"/>
            <a:ext cx="3603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4800600"/>
            <a:ext cx="3603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4800600"/>
            <a:ext cx="358920" cy="74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4800600"/>
            <a:ext cx="361800" cy="74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3240" y="4800600"/>
            <a:ext cx="3574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1240" y="4800600"/>
            <a:ext cx="3603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32120" y="4800600"/>
            <a:ext cx="358920" cy="74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13360" y="4800600"/>
            <a:ext cx="358560" cy="74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2800" y="4800600"/>
            <a:ext cx="3585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3680" y="4800600"/>
            <a:ext cx="3585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3120" y="4800600"/>
            <a:ext cx="360360" cy="74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4000" y="4800600"/>
            <a:ext cx="360360" cy="74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4880" y="4800600"/>
            <a:ext cx="3589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96120" y="4800600"/>
            <a:ext cx="3585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75560" y="4800600"/>
            <a:ext cx="360360" cy="74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56440" y="4800600"/>
            <a:ext cx="360360" cy="74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37320" y="4800600"/>
            <a:ext cx="3621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0000" y="4800600"/>
            <a:ext cx="3571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7240" y="4572000"/>
            <a:ext cx="180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277120" y="4572000"/>
            <a:ext cx="180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8600" y="1625760"/>
            <a:ext cx="3340080" cy="119376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 HIPERLAN/2 must comply with (ERC/DEC/(99)2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 TPC provides 3dB mitigation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1427040" y="4800240"/>
            <a:ext cx="2088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4800600"/>
            <a:ext cx="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8240" y="4800600"/>
            <a:ext cx="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68560" y="4800600"/>
            <a:ext cx="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28880" y="4800600"/>
            <a:ext cx="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89560" y="4800600"/>
            <a:ext cx="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49880" y="4800600"/>
            <a:ext cx="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0200" y="4800600"/>
            <a:ext cx="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67640" y="4800600"/>
            <a:ext cx="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31200" y="4800600"/>
            <a:ext cx="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2400" y="1568520"/>
            <a:ext cx="1905120" cy="3003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HIPER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1 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indoor/outd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9320" y="3719520"/>
            <a:ext cx="745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25 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08200" y="3665520"/>
            <a:ext cx="1860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.150                              5.3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76720" y="1339920"/>
            <a:ext cx="221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.470                                        5.7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65800" y="4152960"/>
            <a:ext cx="17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.725                      5.8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5335560"/>
            <a:ext cx="755640" cy="7254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tellite F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9040" y="5335560"/>
            <a:ext cx="1146240" cy="7254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eronautic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5600" y="5335560"/>
            <a:ext cx="1581120" cy="7254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dar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vigation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arth explorat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76720" y="5335560"/>
            <a:ext cx="1436760" cy="7254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dio navigation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itime nav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13480" y="5335560"/>
            <a:ext cx="1522440" cy="7254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diolocation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ate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3505320"/>
            <a:ext cx="151596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75000" y="3505320"/>
            <a:ext cx="97812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6720" y="3125880"/>
            <a:ext cx="378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3a. DFS across at least  330 MHz (indo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78480" y="1959120"/>
            <a:ext cx="218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Times New Roman"/>
              </a:rPr>
              <a:t>3b. DFS across at lea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Times New Roman"/>
              </a:rPr>
              <a:t>255 MHz (outdo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75000" y="2251080"/>
            <a:ext cx="1892520" cy="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167520" y="4327560"/>
            <a:ext cx="16200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310520" y="4317480"/>
            <a:ext cx="16200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56560" y="5264280"/>
            <a:ext cx="1165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54864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D831-A391-421E-823D-205EBABD719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1523880"/>
            <a:ext cx="64767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236de"/>
                </a:solidFill>
                <a:latin typeface="Times New Roman"/>
              </a:rPr>
              <a:t>Spectrum Allocation at 5 GH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000080" y="5029200"/>
            <a:ext cx="7829640" cy="1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133640" y="2211120"/>
            <a:ext cx="0" cy="2879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995480" y="221112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859120" y="2209680"/>
            <a:ext cx="0" cy="288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722760" y="2209680"/>
            <a:ext cx="0" cy="288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586400" y="2209680"/>
            <a:ext cx="0" cy="288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450040" y="2209680"/>
            <a:ext cx="0" cy="288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311880" y="2209680"/>
            <a:ext cx="0" cy="288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176960" y="2209680"/>
            <a:ext cx="0" cy="288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8040600" y="2209680"/>
            <a:ext cx="0" cy="288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63560" y="51069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27200" y="5105520"/>
            <a:ext cx="74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90840" y="51055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55920" y="510552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105520"/>
            <a:ext cx="6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83200" y="5105520"/>
            <a:ext cx="6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6840" y="510552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10480" y="51055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0280" y="51055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768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33750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24750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59800" y="551196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./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65280" y="4497480"/>
            <a:ext cx="1295280" cy="0"/>
          </a:xfrm>
          <a:prstGeom prst="line">
            <a:avLst/>
          </a:prstGeom>
          <a:ln w="63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60560" y="4497480"/>
            <a:ext cx="432000" cy="0"/>
          </a:xfrm>
          <a:prstGeom prst="line">
            <a:avLst/>
          </a:prstGeom>
          <a:ln w="63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1133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3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65280" y="3554280"/>
            <a:ext cx="1727280" cy="0"/>
          </a:xfrm>
          <a:prstGeom prst="line">
            <a:avLst/>
          </a:prstGeom>
          <a:ln w="63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65280" y="2666880"/>
            <a:ext cx="863640" cy="0"/>
          </a:xfrm>
          <a:prstGeom prst="line">
            <a:avLst/>
          </a:prstGeom>
          <a:ln w="63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27880" y="3554280"/>
            <a:ext cx="863640" cy="0"/>
          </a:xfrm>
          <a:prstGeom prst="line">
            <a:avLst/>
          </a:prstGeom>
          <a:ln w="63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1654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230184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230184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2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3165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3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1654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7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3165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8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495680"/>
            <a:ext cx="2286000" cy="0"/>
          </a:xfrm>
          <a:prstGeom prst="line">
            <a:avLst/>
          </a:prstGeom>
          <a:ln w="63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41148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41148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4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41148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7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572000"/>
            <a:ext cx="1676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tdoor 1W EIR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30200" y="4570560"/>
            <a:ext cx="2286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oor 200 mW EIR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39574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29494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28920" y="3429000"/>
            <a:ext cx="0" cy="152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581280"/>
            <a:ext cx="2913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oor 200 mW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utdoor 1 W EIR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7320" y="41911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Max mean Tx pow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48520" y="3581280"/>
            <a:ext cx="1676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tdoor 4 W EIR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077320" y="320040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Max peak Tx pow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29120" y="41022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FS &amp; TP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70200" y="4102200"/>
            <a:ext cx="11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FS &amp; TP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5791320"/>
            <a:ext cx="3576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FS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ynamic Frequency Se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PC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mitPowe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311880" y="965160"/>
            <a:ext cx="2514240" cy="838080"/>
            <a:chOff x="6311880" y="965160"/>
            <a:chExt cx="2514240" cy="83808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7675560" y="965160"/>
              <a:ext cx="11505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6311880" y="991800"/>
              <a:ext cx="1335600" cy="45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BC678-AF24-4FAA-8481-C0BFE2D7F434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2280" y="1676520"/>
            <a:ext cx="8534520" cy="32004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ff66"/>
              </a:gs>
            </a:gsLst>
            <a:lin ang="10800000"/>
          </a:gra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191120"/>
            <a:ext cx="86868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42670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L2 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83760" y="31608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657600" y="457200"/>
            <a:ext cx="1445760" cy="798120"/>
            <a:chOff x="3657600" y="457200"/>
            <a:chExt cx="1445760" cy="798120"/>
          </a:xfrm>
        </p:grpSpPr>
        <p:grpSp>
          <p:nvGrpSpPr>
            <p:cNvPr id="167" name=""/>
            <p:cNvGrpSpPr/>
            <p:nvPr/>
          </p:nvGrpSpPr>
          <p:grpSpPr>
            <a:xfrm>
              <a:off x="3657600" y="457200"/>
              <a:ext cx="1445760" cy="798120"/>
              <a:chOff x="3657600" y="457200"/>
              <a:chExt cx="1445760" cy="79812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4506480" y="528840"/>
                <a:ext cx="596880" cy="691200"/>
                <a:chOff x="4506480" y="528840"/>
                <a:chExt cx="596880" cy="691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4732560" y="528840"/>
                  <a:ext cx="370800" cy="557280"/>
                  <a:chOff x="4732560" y="528840"/>
                  <a:chExt cx="370800" cy="557280"/>
                </a:xfrm>
              </p:grpSpPr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4831920" y="600120"/>
                    <a:ext cx="271440" cy="414360"/>
                    <a:chOff x="4831920" y="600120"/>
                    <a:chExt cx="271440" cy="414360"/>
                  </a:xfrm>
                </p:grpSpPr>
                <p:grpSp>
                  <p:nvGrpSpPr>
                    <p:cNvPr id="171" name=""/>
                    <p:cNvGrpSpPr/>
                    <p:nvPr/>
                  </p:nvGrpSpPr>
                  <p:grpSpPr>
                    <a:xfrm>
                      <a:off x="4831920" y="600120"/>
                      <a:ext cx="271440" cy="414360"/>
                      <a:chOff x="4831920" y="600120"/>
                      <a:chExt cx="271440" cy="414360"/>
                    </a:xfrm>
                  </p:grpSpPr>
                  <p:grpSp>
                    <p:nvGrpSpPr>
                      <p:cNvPr id="172" name=""/>
                      <p:cNvGrpSpPr/>
                      <p:nvPr/>
                    </p:nvGrpSpPr>
                    <p:grpSpPr>
                      <a:xfrm>
                        <a:off x="4894560" y="625680"/>
                        <a:ext cx="208800" cy="334080"/>
                        <a:chOff x="4894560" y="625680"/>
                        <a:chExt cx="208800" cy="334080"/>
                      </a:xfrm>
                    </p:grpSpPr>
                    <p:grpSp>
                      <p:nvGrpSpPr>
                        <p:cNvPr id="173" name=""/>
                        <p:cNvGrpSpPr/>
                        <p:nvPr/>
                      </p:nvGrpSpPr>
                      <p:grpSpPr>
                        <a:xfrm>
                          <a:off x="4921920" y="625680"/>
                          <a:ext cx="181440" cy="334080"/>
                          <a:chOff x="4921920" y="625680"/>
                          <a:chExt cx="181440" cy="334080"/>
                        </a:xfrm>
                      </p:grpSpPr>
                      <p:sp>
                        <p:nvSpPr>
                          <p:cNvPr id="174" name=""/>
                          <p:cNvSpPr/>
                          <p:nvPr/>
                        </p:nvSpPr>
                        <p:spPr>
                          <a:xfrm>
                            <a:off x="5011920" y="822960"/>
                            <a:ext cx="91440" cy="9252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080" bIns="19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5" name=""/>
                          <p:cNvSpPr/>
                          <p:nvPr/>
                        </p:nvSpPr>
                        <p:spPr>
                          <a:xfrm>
                            <a:off x="4939200" y="840240"/>
                            <a:ext cx="119160" cy="11952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160" bIns="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6" name=""/>
                          <p:cNvSpPr/>
                          <p:nvPr/>
                        </p:nvSpPr>
                        <p:spPr>
                          <a:xfrm>
                            <a:off x="4994640" y="696960"/>
                            <a:ext cx="81000" cy="9360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7" name=""/>
                          <p:cNvSpPr/>
                          <p:nvPr/>
                        </p:nvSpPr>
                        <p:spPr>
                          <a:xfrm>
                            <a:off x="4921920" y="625680"/>
                            <a:ext cx="108720" cy="11952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160" bIns="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8" name=""/>
                          <p:cNvSpPr/>
                          <p:nvPr/>
                        </p:nvSpPr>
                        <p:spPr>
                          <a:xfrm>
                            <a:off x="4991400" y="694440"/>
                            <a:ext cx="82080" cy="197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" h="160">
                                <a:moveTo>
                                  <a:pt x="70" y="159"/>
                                </a:moveTo>
                                <a:lnTo>
                                  <a:pt x="39" y="159"/>
                                </a:lnTo>
                                <a:lnTo>
                                  <a:pt x="0" y="0"/>
                                </a:lnTo>
                                <a:lnTo>
                                  <a:pt x="39" y="14"/>
                                </a:lnTo>
                                <a:lnTo>
                                  <a:pt x="46" y="94"/>
                                </a:lnTo>
                                <a:lnTo>
                                  <a:pt x="70" y="159"/>
                                </a:lnTo>
                              </a:path>
                            </a:pathLst>
                          </a:cu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>
                          <a:off x="4894560" y="724320"/>
                          <a:ext cx="164160" cy="16416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>
                          <a:off x="4894560" y="822960"/>
                          <a:ext cx="119160" cy="11952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160" bIns="38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>
                          <a:off x="4926600" y="676080"/>
                          <a:ext cx="83160" cy="20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2" h="168">
                              <a:moveTo>
                                <a:pt x="71" y="29"/>
                              </a:moveTo>
                              <a:lnTo>
                                <a:pt x="62" y="66"/>
                              </a:lnTo>
                              <a:lnTo>
                                <a:pt x="71" y="145"/>
                              </a:lnTo>
                              <a:lnTo>
                                <a:pt x="47" y="167"/>
                              </a:lnTo>
                              <a:lnTo>
                                <a:pt x="0" y="73"/>
                              </a:lnTo>
                              <a:lnTo>
                                <a:pt x="39" y="0"/>
                              </a:lnTo>
                              <a:lnTo>
                                <a:pt x="71" y="29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4894560" y="921960"/>
                        <a:ext cx="91440" cy="92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9080" bIns="19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3" name=""/>
                      <p:cNvSpPr/>
                      <p:nvPr/>
                    </p:nvSpPr>
                    <p:spPr>
                      <a:xfrm>
                        <a:off x="4831920" y="600120"/>
                        <a:ext cx="111240" cy="119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4918680" y="892440"/>
                        <a:ext cx="64800" cy="4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37">
                            <a:moveTo>
                              <a:pt x="55" y="21"/>
                            </a:moveTo>
                            <a:lnTo>
                              <a:pt x="39" y="36"/>
                            </a:lnTo>
                            <a:lnTo>
                              <a:pt x="0" y="21"/>
                            </a:lnTo>
                            <a:lnTo>
                              <a:pt x="39" y="0"/>
                            </a:lnTo>
                            <a:lnTo>
                              <a:pt x="55" y="2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909680" y="651600"/>
                      <a:ext cx="3780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58">
                          <a:moveTo>
                            <a:pt x="15" y="0"/>
                          </a:moveTo>
                          <a:lnTo>
                            <a:pt x="32" y="7"/>
                          </a:lnTo>
                          <a:lnTo>
                            <a:pt x="32" y="57"/>
                          </a:lnTo>
                          <a:lnTo>
                            <a:pt x="0" y="50"/>
                          </a:lnTo>
                          <a:lnTo>
                            <a:pt x="15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4732560" y="528840"/>
                    <a:ext cx="254520" cy="503280"/>
                    <a:chOff x="4732560" y="528840"/>
                    <a:chExt cx="254520" cy="50328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760280" y="823680"/>
                      <a:ext cx="209520" cy="20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777560" y="680400"/>
                      <a:ext cx="209520" cy="209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732560" y="528840"/>
                      <a:ext cx="164520" cy="164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4830840" y="627480"/>
                      <a:ext cx="83160" cy="92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080" bIns="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4774320" y="606600"/>
                      <a:ext cx="145800" cy="18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153">
                          <a:moveTo>
                            <a:pt x="85" y="7"/>
                          </a:moveTo>
                          <a:lnTo>
                            <a:pt x="85" y="21"/>
                          </a:lnTo>
                          <a:lnTo>
                            <a:pt x="116" y="58"/>
                          </a:lnTo>
                          <a:lnTo>
                            <a:pt x="125" y="65"/>
                          </a:lnTo>
                          <a:lnTo>
                            <a:pt x="78" y="152"/>
                          </a:lnTo>
                          <a:lnTo>
                            <a:pt x="0" y="0"/>
                          </a:lnTo>
                          <a:lnTo>
                            <a:pt x="85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847400" y="855720"/>
                      <a:ext cx="9036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53">
                          <a:moveTo>
                            <a:pt x="68" y="7"/>
                          </a:moveTo>
                          <a:lnTo>
                            <a:pt x="77" y="22"/>
                          </a:lnTo>
                          <a:lnTo>
                            <a:pt x="0" y="52"/>
                          </a:lnTo>
                          <a:lnTo>
                            <a:pt x="0" y="0"/>
                          </a:lnTo>
                          <a:lnTo>
                            <a:pt x="68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3" name=""/>
                  <p:cNvSpPr/>
                  <p:nvPr/>
                </p:nvSpPr>
                <p:spPr>
                  <a:xfrm>
                    <a:off x="4732560" y="968040"/>
                    <a:ext cx="110880" cy="118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4802040" y="955800"/>
                    <a:ext cx="6336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1">
                        <a:moveTo>
                          <a:pt x="23" y="50"/>
                        </a:moveTo>
                        <a:lnTo>
                          <a:pt x="54" y="36"/>
                        </a:lnTo>
                        <a:lnTo>
                          <a:pt x="15" y="0"/>
                        </a:lnTo>
                        <a:lnTo>
                          <a:pt x="0" y="14"/>
                        </a:lnTo>
                        <a:lnTo>
                          <a:pt x="23" y="5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5" name=""/>
                <p:cNvSpPr/>
                <p:nvPr/>
              </p:nvSpPr>
              <p:spPr>
                <a:xfrm>
                  <a:off x="4506480" y="1073160"/>
                  <a:ext cx="138960" cy="14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614120" y="1073160"/>
                  <a:ext cx="12060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676760" y="1038240"/>
                  <a:ext cx="122040" cy="11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584240" y="1017360"/>
                  <a:ext cx="227160" cy="162720"/>
                </a:xfrm>
                <a:custGeom>
                  <a:avLst/>
                  <a:gdLst/>
                  <a:ahLst/>
                  <a:rect l="l" t="t" r="r" b="b"/>
                  <a:pathLst>
                    <a:path w="196" h="132">
                      <a:moveTo>
                        <a:pt x="186" y="37"/>
                      </a:moveTo>
                      <a:lnTo>
                        <a:pt x="164" y="44"/>
                      </a:lnTo>
                      <a:lnTo>
                        <a:pt x="108" y="94"/>
                      </a:lnTo>
                      <a:lnTo>
                        <a:pt x="101" y="117"/>
                      </a:lnTo>
                      <a:lnTo>
                        <a:pt x="39" y="117"/>
                      </a:lnTo>
                      <a:lnTo>
                        <a:pt x="31" y="131"/>
                      </a:lnTo>
                      <a:lnTo>
                        <a:pt x="0" y="87"/>
                      </a:lnTo>
                      <a:lnTo>
                        <a:pt x="132" y="0"/>
                      </a:lnTo>
                      <a:lnTo>
                        <a:pt x="195" y="21"/>
                      </a:lnTo>
                      <a:lnTo>
                        <a:pt x="186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657600" y="537480"/>
                <a:ext cx="363600" cy="477360"/>
                <a:chOff x="3657600" y="537480"/>
                <a:chExt cx="363600" cy="47736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3657600" y="600120"/>
                  <a:ext cx="201960" cy="289440"/>
                  <a:chOff x="3657600" y="600120"/>
                  <a:chExt cx="201960" cy="28944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3657600" y="698760"/>
                    <a:ext cx="93960" cy="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674880" y="770040"/>
                    <a:ext cx="111240" cy="11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693600" y="600120"/>
                    <a:ext cx="165960" cy="173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681720" y="704880"/>
                    <a:ext cx="6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81">
                        <a:moveTo>
                          <a:pt x="31" y="0"/>
                        </a:moveTo>
                        <a:lnTo>
                          <a:pt x="0" y="14"/>
                        </a:lnTo>
                        <a:lnTo>
                          <a:pt x="0" y="66"/>
                        </a:lnTo>
                        <a:lnTo>
                          <a:pt x="15" y="80"/>
                        </a:lnTo>
                        <a:lnTo>
                          <a:pt x="55" y="66"/>
                        </a:lnTo>
                        <a:lnTo>
                          <a:pt x="31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3719880" y="537480"/>
                  <a:ext cx="301320" cy="477360"/>
                  <a:chOff x="3719880" y="537480"/>
                  <a:chExt cx="301320" cy="47736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3819600" y="554760"/>
                    <a:ext cx="201600" cy="219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719880" y="699120"/>
                    <a:ext cx="111240" cy="118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747600" y="769320"/>
                    <a:ext cx="156600" cy="173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792960" y="840960"/>
                    <a:ext cx="165960" cy="173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802320" y="653040"/>
                    <a:ext cx="145800" cy="14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3919320" y="537480"/>
                    <a:ext cx="92520" cy="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843720" y="623880"/>
                    <a:ext cx="1101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67">
                        <a:moveTo>
                          <a:pt x="0" y="14"/>
                        </a:moveTo>
                        <a:lnTo>
                          <a:pt x="15" y="44"/>
                        </a:lnTo>
                        <a:lnTo>
                          <a:pt x="94" y="66"/>
                        </a:lnTo>
                        <a:lnTo>
                          <a:pt x="94" y="22"/>
                        </a:lnTo>
                        <a:lnTo>
                          <a:pt x="8" y="0"/>
                        </a:lnTo>
                        <a:lnTo>
                          <a:pt x="0" y="1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752280" y="748440"/>
                    <a:ext cx="12060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26">
                        <a:moveTo>
                          <a:pt x="64" y="0"/>
                        </a:moveTo>
                        <a:lnTo>
                          <a:pt x="0" y="29"/>
                        </a:lnTo>
                        <a:lnTo>
                          <a:pt x="24" y="59"/>
                        </a:lnTo>
                        <a:lnTo>
                          <a:pt x="24" y="118"/>
                        </a:lnTo>
                        <a:lnTo>
                          <a:pt x="39" y="125"/>
                        </a:lnTo>
                        <a:lnTo>
                          <a:pt x="94" y="88"/>
                        </a:lnTo>
                        <a:lnTo>
                          <a:pt x="103" y="14"/>
                        </a:lnTo>
                        <a:lnTo>
                          <a:pt x="64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3906720" y="577800"/>
                  <a:ext cx="74160" cy="82800"/>
                </a:xfrm>
                <a:custGeom>
                  <a:avLst/>
                  <a:gdLst/>
                  <a:ahLst/>
                  <a:rect l="l" t="t" r="r" b="b"/>
                  <a:pathLst>
                    <a:path w="64" h="67">
                      <a:moveTo>
                        <a:pt x="0" y="37"/>
                      </a:moveTo>
                      <a:lnTo>
                        <a:pt x="31" y="0"/>
                      </a:lnTo>
                      <a:lnTo>
                        <a:pt x="63" y="37"/>
                      </a:lnTo>
                      <a:lnTo>
                        <a:pt x="31" y="66"/>
                      </a:lnTo>
                      <a:lnTo>
                        <a:pt x="0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3838320" y="457200"/>
                <a:ext cx="1058760" cy="798120"/>
                <a:chOff x="3838320" y="457200"/>
                <a:chExt cx="1058760" cy="79812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164120" y="483120"/>
                  <a:ext cx="264600" cy="26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380120" y="457200"/>
                  <a:ext cx="21096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570200" y="680400"/>
                  <a:ext cx="326880" cy="33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955320" y="823680"/>
                  <a:ext cx="372240" cy="387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470480" y="868320"/>
                  <a:ext cx="281520" cy="28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66040" y="893880"/>
                  <a:ext cx="200520" cy="21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838320" y="726120"/>
                  <a:ext cx="20988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928680" y="528840"/>
                  <a:ext cx="327240" cy="34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217400" y="922320"/>
                  <a:ext cx="328320" cy="33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615560" y="555840"/>
                  <a:ext cx="253800" cy="26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542480" y="457200"/>
                  <a:ext cx="23760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916080" y="517320"/>
                  <a:ext cx="923400" cy="635400"/>
                </a:xfrm>
                <a:custGeom>
                  <a:avLst/>
                  <a:gdLst/>
                  <a:ahLst/>
                  <a:rect l="l" t="t" r="r" b="b"/>
                  <a:pathLst>
                    <a:path w="796" h="515">
                      <a:moveTo>
                        <a:pt x="249" y="51"/>
                      </a:moveTo>
                      <a:lnTo>
                        <a:pt x="281" y="14"/>
                      </a:lnTo>
                      <a:lnTo>
                        <a:pt x="428" y="14"/>
                      </a:lnTo>
                      <a:lnTo>
                        <a:pt x="529" y="0"/>
                      </a:lnTo>
                      <a:lnTo>
                        <a:pt x="663" y="65"/>
                      </a:lnTo>
                      <a:lnTo>
                        <a:pt x="732" y="44"/>
                      </a:lnTo>
                      <a:lnTo>
                        <a:pt x="764" y="51"/>
                      </a:lnTo>
                      <a:lnTo>
                        <a:pt x="771" y="202"/>
                      </a:lnTo>
                      <a:lnTo>
                        <a:pt x="795" y="232"/>
                      </a:lnTo>
                      <a:lnTo>
                        <a:pt x="732" y="347"/>
                      </a:lnTo>
                      <a:lnTo>
                        <a:pt x="663" y="260"/>
                      </a:lnTo>
                      <a:lnTo>
                        <a:pt x="646" y="304"/>
                      </a:lnTo>
                      <a:lnTo>
                        <a:pt x="553" y="470"/>
                      </a:lnTo>
                      <a:lnTo>
                        <a:pt x="242" y="514"/>
                      </a:lnTo>
                      <a:lnTo>
                        <a:pt x="78" y="478"/>
                      </a:lnTo>
                      <a:lnTo>
                        <a:pt x="31" y="376"/>
                      </a:lnTo>
                      <a:lnTo>
                        <a:pt x="31" y="275"/>
                      </a:lnTo>
                      <a:lnTo>
                        <a:pt x="0" y="195"/>
                      </a:lnTo>
                      <a:lnTo>
                        <a:pt x="249" y="51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8" name=""/>
            <p:cNvSpPr/>
            <p:nvPr/>
          </p:nvSpPr>
          <p:spPr>
            <a:xfrm>
              <a:off x="3826440" y="655560"/>
              <a:ext cx="10296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808440" y="2117880"/>
            <a:ext cx="755640" cy="711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868400" y="1636560"/>
            <a:ext cx="506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86080" y="1728720"/>
            <a:ext cx="0" cy="35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19720" y="1294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1941480"/>
            <a:ext cx="914400" cy="276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1 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819520" y="3735360"/>
            <a:ext cx="761760" cy="584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 flipH="1">
            <a:off x="3428280" y="2855880"/>
            <a:ext cx="609480" cy="838080"/>
          </a:xfrm>
          <a:custGeom>
            <a:avLst/>
            <a:gdLst/>
            <a:ahLst/>
            <a:rect l="l" t="t" r="r" b="b"/>
            <a:pathLst>
              <a:path w="473" h="485">
                <a:moveTo>
                  <a:pt x="472" y="484"/>
                </a:moveTo>
                <a:lnTo>
                  <a:pt x="191" y="232"/>
                </a:lnTo>
                <a:lnTo>
                  <a:pt x="256" y="250"/>
                </a:lnTo>
                <a:lnTo>
                  <a:pt x="0" y="0"/>
                </a:lnTo>
                <a:lnTo>
                  <a:pt x="334" y="292"/>
                </a:lnTo>
                <a:lnTo>
                  <a:pt x="269" y="282"/>
                </a:lnTo>
                <a:lnTo>
                  <a:pt x="472" y="484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417920" y="2117880"/>
            <a:ext cx="755640" cy="711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795920" y="1752480"/>
            <a:ext cx="0" cy="35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81480" y="1965240"/>
            <a:ext cx="914400" cy="276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L2 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0440" y="5295960"/>
            <a:ext cx="72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existence  – Level 1 - Using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fferent channe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the same coverag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" y="5715000"/>
            <a:ext cx="83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exchanged between the devices using the backbone (each device communicates with its Access Point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334120" y="3699000"/>
            <a:ext cx="761760" cy="583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flipH="1">
            <a:off x="4816440" y="2819520"/>
            <a:ext cx="703440" cy="811080"/>
          </a:xfrm>
          <a:custGeom>
            <a:avLst/>
            <a:gdLst/>
            <a:ahLst/>
            <a:rect l="l" t="t" r="r" b="b"/>
            <a:pathLst>
              <a:path w="443" h="511">
                <a:moveTo>
                  <a:pt x="0" y="510"/>
                </a:moveTo>
                <a:lnTo>
                  <a:pt x="227" y="209"/>
                </a:lnTo>
                <a:lnTo>
                  <a:pt x="214" y="276"/>
                </a:lnTo>
                <a:lnTo>
                  <a:pt x="442" y="0"/>
                </a:lnTo>
                <a:lnTo>
                  <a:pt x="180" y="357"/>
                </a:lnTo>
                <a:lnTo>
                  <a:pt x="184" y="292"/>
                </a:lnTo>
                <a:lnTo>
                  <a:pt x="0" y="51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434340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1 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93440" y="312408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3581280"/>
            <a:ext cx="761760" cy="3812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1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5120" y="2438280"/>
            <a:ext cx="761760" cy="1143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5120" y="2057400"/>
            <a:ext cx="761760" cy="38088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3581280"/>
            <a:ext cx="76176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48520" y="2819520"/>
            <a:ext cx="761760" cy="76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D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48520" y="2438280"/>
            <a:ext cx="76176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48520" y="2057400"/>
            <a:ext cx="761760" cy="38088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86EA-F2F7-4BEE-BB33-248CE80918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2280" y="1523880"/>
            <a:ext cx="8534520" cy="32004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ff66"/>
              </a:gs>
            </a:gsLst>
            <a:lin ang="10800000"/>
          </a:gra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4038480"/>
            <a:ext cx="8686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334120" y="3583080"/>
            <a:ext cx="761760" cy="5842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800600" y="41911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L2 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816440" y="2703600"/>
            <a:ext cx="703440" cy="811080"/>
          </a:xfrm>
          <a:custGeom>
            <a:avLst/>
            <a:gdLst/>
            <a:ahLst/>
            <a:rect l="l" t="t" r="r" b="b"/>
            <a:pathLst>
              <a:path w="443" h="511">
                <a:moveTo>
                  <a:pt x="0" y="510"/>
                </a:moveTo>
                <a:lnTo>
                  <a:pt x="227" y="209"/>
                </a:lnTo>
                <a:lnTo>
                  <a:pt x="214" y="276"/>
                </a:lnTo>
                <a:lnTo>
                  <a:pt x="442" y="0"/>
                </a:lnTo>
                <a:lnTo>
                  <a:pt x="180" y="357"/>
                </a:lnTo>
                <a:lnTo>
                  <a:pt x="184" y="292"/>
                </a:lnTo>
                <a:lnTo>
                  <a:pt x="0" y="51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83760" y="300816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Ch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657600" y="304920"/>
            <a:ext cx="1445760" cy="798120"/>
            <a:chOff x="3657600" y="304920"/>
            <a:chExt cx="1445760" cy="798120"/>
          </a:xfrm>
        </p:grpSpPr>
        <p:grpSp>
          <p:nvGrpSpPr>
            <p:cNvPr id="259" name=""/>
            <p:cNvGrpSpPr/>
            <p:nvPr/>
          </p:nvGrpSpPr>
          <p:grpSpPr>
            <a:xfrm>
              <a:off x="3657600" y="304920"/>
              <a:ext cx="1445760" cy="798120"/>
              <a:chOff x="3657600" y="304920"/>
              <a:chExt cx="1445760" cy="79812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4506480" y="376560"/>
                <a:ext cx="596880" cy="691200"/>
                <a:chOff x="4506480" y="376560"/>
                <a:chExt cx="596880" cy="691200"/>
              </a:xfrm>
            </p:grpSpPr>
            <p:grpSp>
              <p:nvGrpSpPr>
                <p:cNvPr id="261" name=""/>
                <p:cNvGrpSpPr/>
                <p:nvPr/>
              </p:nvGrpSpPr>
              <p:grpSpPr>
                <a:xfrm>
                  <a:off x="4732560" y="376560"/>
                  <a:ext cx="370800" cy="557280"/>
                  <a:chOff x="4732560" y="376560"/>
                  <a:chExt cx="370800" cy="557280"/>
                </a:xfrm>
              </p:grpSpPr>
              <p:grpSp>
                <p:nvGrpSpPr>
                  <p:cNvPr id="262" name=""/>
                  <p:cNvGrpSpPr/>
                  <p:nvPr/>
                </p:nvGrpSpPr>
                <p:grpSpPr>
                  <a:xfrm>
                    <a:off x="4831920" y="447840"/>
                    <a:ext cx="271440" cy="414360"/>
                    <a:chOff x="4831920" y="447840"/>
                    <a:chExt cx="271440" cy="414360"/>
                  </a:xfrm>
                </p:grpSpPr>
                <p:grpSp>
                  <p:nvGrpSpPr>
                    <p:cNvPr id="263" name=""/>
                    <p:cNvGrpSpPr/>
                    <p:nvPr/>
                  </p:nvGrpSpPr>
                  <p:grpSpPr>
                    <a:xfrm>
                      <a:off x="4831920" y="447840"/>
                      <a:ext cx="271440" cy="414360"/>
                      <a:chOff x="4831920" y="447840"/>
                      <a:chExt cx="271440" cy="414360"/>
                    </a:xfrm>
                  </p:grpSpPr>
                  <p:grpSp>
                    <p:nvGrpSpPr>
                      <p:cNvPr id="264" name=""/>
                      <p:cNvGrpSpPr/>
                      <p:nvPr/>
                    </p:nvGrpSpPr>
                    <p:grpSpPr>
                      <a:xfrm>
                        <a:off x="4894560" y="473400"/>
                        <a:ext cx="208800" cy="334080"/>
                        <a:chOff x="4894560" y="473400"/>
                        <a:chExt cx="208800" cy="334080"/>
                      </a:xfrm>
                    </p:grpSpPr>
                    <p:grpSp>
                      <p:nvGrpSpPr>
                        <p:cNvPr id="265" name=""/>
                        <p:cNvGrpSpPr/>
                        <p:nvPr/>
                      </p:nvGrpSpPr>
                      <p:grpSpPr>
                        <a:xfrm>
                          <a:off x="4921920" y="473400"/>
                          <a:ext cx="181440" cy="334080"/>
                          <a:chOff x="4921920" y="473400"/>
                          <a:chExt cx="181440" cy="334080"/>
                        </a:xfrm>
                      </p:grpSpPr>
                      <p:sp>
                        <p:nvSpPr>
                          <p:cNvPr id="266" name=""/>
                          <p:cNvSpPr/>
                          <p:nvPr/>
                        </p:nvSpPr>
                        <p:spPr>
                          <a:xfrm>
                            <a:off x="5011920" y="670680"/>
                            <a:ext cx="91440" cy="9252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080" bIns="19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7" name=""/>
                          <p:cNvSpPr/>
                          <p:nvPr/>
                        </p:nvSpPr>
                        <p:spPr>
                          <a:xfrm>
                            <a:off x="4939200" y="687960"/>
                            <a:ext cx="119160" cy="11952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160" bIns="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8" name=""/>
                          <p:cNvSpPr/>
                          <p:nvPr/>
                        </p:nvSpPr>
                        <p:spPr>
                          <a:xfrm>
                            <a:off x="4994640" y="544680"/>
                            <a:ext cx="81000" cy="9360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9" name=""/>
                          <p:cNvSpPr/>
                          <p:nvPr/>
                        </p:nvSpPr>
                        <p:spPr>
                          <a:xfrm>
                            <a:off x="4921920" y="473400"/>
                            <a:ext cx="108720" cy="11952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160" bIns="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0" name=""/>
                          <p:cNvSpPr/>
                          <p:nvPr/>
                        </p:nvSpPr>
                        <p:spPr>
                          <a:xfrm>
                            <a:off x="4991400" y="542160"/>
                            <a:ext cx="82080" cy="197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" h="160">
                                <a:moveTo>
                                  <a:pt x="70" y="159"/>
                                </a:moveTo>
                                <a:lnTo>
                                  <a:pt x="39" y="159"/>
                                </a:lnTo>
                                <a:lnTo>
                                  <a:pt x="0" y="0"/>
                                </a:lnTo>
                                <a:lnTo>
                                  <a:pt x="39" y="14"/>
                                </a:lnTo>
                                <a:lnTo>
                                  <a:pt x="46" y="94"/>
                                </a:lnTo>
                                <a:lnTo>
                                  <a:pt x="70" y="159"/>
                                </a:lnTo>
                              </a:path>
                            </a:pathLst>
                          </a:cu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71" name=""/>
                        <p:cNvSpPr/>
                        <p:nvPr/>
                      </p:nvSpPr>
                      <p:spPr>
                        <a:xfrm>
                          <a:off x="4894560" y="572040"/>
                          <a:ext cx="164160" cy="16416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2" name=""/>
                        <p:cNvSpPr/>
                        <p:nvPr/>
                      </p:nvSpPr>
                      <p:spPr>
                        <a:xfrm>
                          <a:off x="4894560" y="670680"/>
                          <a:ext cx="119160" cy="11952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160" bIns="38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3" name=""/>
                        <p:cNvSpPr/>
                        <p:nvPr/>
                      </p:nvSpPr>
                      <p:spPr>
                        <a:xfrm>
                          <a:off x="4926600" y="523800"/>
                          <a:ext cx="83160" cy="20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2" h="168">
                              <a:moveTo>
                                <a:pt x="71" y="29"/>
                              </a:moveTo>
                              <a:lnTo>
                                <a:pt x="62" y="66"/>
                              </a:lnTo>
                              <a:lnTo>
                                <a:pt x="71" y="145"/>
                              </a:lnTo>
                              <a:lnTo>
                                <a:pt x="47" y="167"/>
                              </a:lnTo>
                              <a:lnTo>
                                <a:pt x="0" y="73"/>
                              </a:lnTo>
                              <a:lnTo>
                                <a:pt x="39" y="0"/>
                              </a:lnTo>
                              <a:lnTo>
                                <a:pt x="71" y="29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74" name=""/>
                      <p:cNvSpPr/>
                      <p:nvPr/>
                    </p:nvSpPr>
                    <p:spPr>
                      <a:xfrm>
                        <a:off x="4894560" y="769680"/>
                        <a:ext cx="91440" cy="92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9080" bIns="19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5" name=""/>
                      <p:cNvSpPr/>
                      <p:nvPr/>
                    </p:nvSpPr>
                    <p:spPr>
                      <a:xfrm>
                        <a:off x="4831920" y="447840"/>
                        <a:ext cx="111240" cy="119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6" name=""/>
                      <p:cNvSpPr/>
                      <p:nvPr/>
                    </p:nvSpPr>
                    <p:spPr>
                      <a:xfrm>
                        <a:off x="4918680" y="740160"/>
                        <a:ext cx="64800" cy="4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37">
                            <a:moveTo>
                              <a:pt x="55" y="21"/>
                            </a:moveTo>
                            <a:lnTo>
                              <a:pt x="39" y="36"/>
                            </a:lnTo>
                            <a:lnTo>
                              <a:pt x="0" y="21"/>
                            </a:lnTo>
                            <a:lnTo>
                              <a:pt x="39" y="0"/>
                            </a:lnTo>
                            <a:lnTo>
                              <a:pt x="55" y="2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4909680" y="499320"/>
                      <a:ext cx="3780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58">
                          <a:moveTo>
                            <a:pt x="15" y="0"/>
                          </a:moveTo>
                          <a:lnTo>
                            <a:pt x="32" y="7"/>
                          </a:lnTo>
                          <a:lnTo>
                            <a:pt x="32" y="57"/>
                          </a:lnTo>
                          <a:lnTo>
                            <a:pt x="0" y="50"/>
                          </a:lnTo>
                          <a:lnTo>
                            <a:pt x="15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732560" y="376560"/>
                    <a:ext cx="254520" cy="503280"/>
                    <a:chOff x="4732560" y="376560"/>
                    <a:chExt cx="254520" cy="5032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4760280" y="671400"/>
                      <a:ext cx="209520" cy="20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4777560" y="528120"/>
                      <a:ext cx="209520" cy="209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4732560" y="376560"/>
                      <a:ext cx="164520" cy="164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4830840" y="475200"/>
                      <a:ext cx="83160" cy="92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080" bIns="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4774320" y="454320"/>
                      <a:ext cx="145800" cy="18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153">
                          <a:moveTo>
                            <a:pt x="85" y="7"/>
                          </a:moveTo>
                          <a:lnTo>
                            <a:pt x="85" y="21"/>
                          </a:lnTo>
                          <a:lnTo>
                            <a:pt x="116" y="58"/>
                          </a:lnTo>
                          <a:lnTo>
                            <a:pt x="125" y="65"/>
                          </a:lnTo>
                          <a:lnTo>
                            <a:pt x="78" y="152"/>
                          </a:lnTo>
                          <a:lnTo>
                            <a:pt x="0" y="0"/>
                          </a:lnTo>
                          <a:lnTo>
                            <a:pt x="85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4847400" y="703440"/>
                      <a:ext cx="9036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53">
                          <a:moveTo>
                            <a:pt x="68" y="7"/>
                          </a:moveTo>
                          <a:lnTo>
                            <a:pt x="77" y="22"/>
                          </a:lnTo>
                          <a:lnTo>
                            <a:pt x="0" y="52"/>
                          </a:lnTo>
                          <a:lnTo>
                            <a:pt x="0" y="0"/>
                          </a:lnTo>
                          <a:lnTo>
                            <a:pt x="68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5" name=""/>
                  <p:cNvSpPr/>
                  <p:nvPr/>
                </p:nvSpPr>
                <p:spPr>
                  <a:xfrm>
                    <a:off x="4732560" y="815760"/>
                    <a:ext cx="110880" cy="118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802040" y="803520"/>
                    <a:ext cx="6336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1">
                        <a:moveTo>
                          <a:pt x="23" y="50"/>
                        </a:moveTo>
                        <a:lnTo>
                          <a:pt x="54" y="36"/>
                        </a:lnTo>
                        <a:lnTo>
                          <a:pt x="15" y="0"/>
                        </a:lnTo>
                        <a:lnTo>
                          <a:pt x="0" y="14"/>
                        </a:lnTo>
                        <a:lnTo>
                          <a:pt x="23" y="5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7" name=""/>
                <p:cNvSpPr/>
                <p:nvPr/>
              </p:nvSpPr>
              <p:spPr>
                <a:xfrm>
                  <a:off x="4506480" y="920880"/>
                  <a:ext cx="138960" cy="14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614120" y="920880"/>
                  <a:ext cx="12060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676760" y="885960"/>
                  <a:ext cx="122040" cy="11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584240" y="865080"/>
                  <a:ext cx="227160" cy="162720"/>
                </a:xfrm>
                <a:custGeom>
                  <a:avLst/>
                  <a:gdLst/>
                  <a:ahLst/>
                  <a:rect l="l" t="t" r="r" b="b"/>
                  <a:pathLst>
                    <a:path w="196" h="132">
                      <a:moveTo>
                        <a:pt x="186" y="37"/>
                      </a:moveTo>
                      <a:lnTo>
                        <a:pt x="164" y="44"/>
                      </a:lnTo>
                      <a:lnTo>
                        <a:pt x="108" y="94"/>
                      </a:lnTo>
                      <a:lnTo>
                        <a:pt x="101" y="117"/>
                      </a:lnTo>
                      <a:lnTo>
                        <a:pt x="39" y="117"/>
                      </a:lnTo>
                      <a:lnTo>
                        <a:pt x="31" y="131"/>
                      </a:lnTo>
                      <a:lnTo>
                        <a:pt x="0" y="87"/>
                      </a:lnTo>
                      <a:lnTo>
                        <a:pt x="132" y="0"/>
                      </a:lnTo>
                      <a:lnTo>
                        <a:pt x="195" y="21"/>
                      </a:lnTo>
                      <a:lnTo>
                        <a:pt x="186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657600" y="385200"/>
                <a:ext cx="363600" cy="477360"/>
                <a:chOff x="3657600" y="385200"/>
                <a:chExt cx="363600" cy="477360"/>
              </a:xfrm>
            </p:grpSpPr>
            <p:grpSp>
              <p:nvGrpSpPr>
                <p:cNvPr id="292" name=""/>
                <p:cNvGrpSpPr/>
                <p:nvPr/>
              </p:nvGrpSpPr>
              <p:grpSpPr>
                <a:xfrm>
                  <a:off x="3657600" y="447840"/>
                  <a:ext cx="201960" cy="289440"/>
                  <a:chOff x="3657600" y="447840"/>
                  <a:chExt cx="201960" cy="28944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3657600" y="546480"/>
                    <a:ext cx="93960" cy="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3674880" y="617760"/>
                    <a:ext cx="111240" cy="11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3693600" y="447840"/>
                    <a:ext cx="165960" cy="173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3681720" y="552600"/>
                    <a:ext cx="6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81">
                        <a:moveTo>
                          <a:pt x="31" y="0"/>
                        </a:moveTo>
                        <a:lnTo>
                          <a:pt x="0" y="14"/>
                        </a:lnTo>
                        <a:lnTo>
                          <a:pt x="0" y="66"/>
                        </a:lnTo>
                        <a:lnTo>
                          <a:pt x="15" y="80"/>
                        </a:lnTo>
                        <a:lnTo>
                          <a:pt x="55" y="66"/>
                        </a:lnTo>
                        <a:lnTo>
                          <a:pt x="31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3719880" y="385200"/>
                  <a:ext cx="301320" cy="477360"/>
                  <a:chOff x="3719880" y="385200"/>
                  <a:chExt cx="301320" cy="47736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3819600" y="402480"/>
                    <a:ext cx="201600" cy="219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3719880" y="546840"/>
                    <a:ext cx="111240" cy="118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3747600" y="617040"/>
                    <a:ext cx="156600" cy="173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3792960" y="688680"/>
                    <a:ext cx="165960" cy="173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3802320" y="500760"/>
                    <a:ext cx="145800" cy="14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3919320" y="385200"/>
                    <a:ext cx="92520" cy="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843720" y="471600"/>
                    <a:ext cx="1101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67">
                        <a:moveTo>
                          <a:pt x="0" y="14"/>
                        </a:moveTo>
                        <a:lnTo>
                          <a:pt x="15" y="44"/>
                        </a:lnTo>
                        <a:lnTo>
                          <a:pt x="94" y="66"/>
                        </a:lnTo>
                        <a:lnTo>
                          <a:pt x="94" y="22"/>
                        </a:lnTo>
                        <a:lnTo>
                          <a:pt x="8" y="0"/>
                        </a:lnTo>
                        <a:lnTo>
                          <a:pt x="0" y="1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752280" y="596160"/>
                    <a:ext cx="12060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26">
                        <a:moveTo>
                          <a:pt x="64" y="0"/>
                        </a:moveTo>
                        <a:lnTo>
                          <a:pt x="0" y="29"/>
                        </a:lnTo>
                        <a:lnTo>
                          <a:pt x="24" y="59"/>
                        </a:lnTo>
                        <a:lnTo>
                          <a:pt x="24" y="118"/>
                        </a:lnTo>
                        <a:lnTo>
                          <a:pt x="39" y="125"/>
                        </a:lnTo>
                        <a:lnTo>
                          <a:pt x="94" y="88"/>
                        </a:lnTo>
                        <a:lnTo>
                          <a:pt x="103" y="14"/>
                        </a:lnTo>
                        <a:lnTo>
                          <a:pt x="64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6" name=""/>
                <p:cNvSpPr/>
                <p:nvPr/>
              </p:nvSpPr>
              <p:spPr>
                <a:xfrm>
                  <a:off x="3906720" y="425520"/>
                  <a:ext cx="74160" cy="82800"/>
                </a:xfrm>
                <a:custGeom>
                  <a:avLst/>
                  <a:gdLst/>
                  <a:ahLst/>
                  <a:rect l="l" t="t" r="r" b="b"/>
                  <a:pathLst>
                    <a:path w="64" h="67">
                      <a:moveTo>
                        <a:pt x="0" y="37"/>
                      </a:moveTo>
                      <a:lnTo>
                        <a:pt x="31" y="0"/>
                      </a:lnTo>
                      <a:lnTo>
                        <a:pt x="63" y="37"/>
                      </a:lnTo>
                      <a:lnTo>
                        <a:pt x="31" y="66"/>
                      </a:lnTo>
                      <a:lnTo>
                        <a:pt x="0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3838320" y="304920"/>
                <a:ext cx="1058760" cy="798120"/>
                <a:chOff x="3838320" y="304920"/>
                <a:chExt cx="1058760" cy="7981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4164120" y="330840"/>
                  <a:ext cx="264600" cy="26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80120" y="304920"/>
                  <a:ext cx="21096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570200" y="528120"/>
                  <a:ext cx="326880" cy="33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955320" y="671400"/>
                  <a:ext cx="372240" cy="387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470480" y="716040"/>
                  <a:ext cx="281520" cy="28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866040" y="741600"/>
                  <a:ext cx="200520" cy="21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838320" y="573840"/>
                  <a:ext cx="20988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928680" y="376560"/>
                  <a:ext cx="327240" cy="34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217400" y="770040"/>
                  <a:ext cx="328320" cy="33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615560" y="403560"/>
                  <a:ext cx="253800" cy="26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542480" y="304920"/>
                  <a:ext cx="23760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916080" y="365040"/>
                  <a:ext cx="923400" cy="635400"/>
                </a:xfrm>
                <a:custGeom>
                  <a:avLst/>
                  <a:gdLst/>
                  <a:ahLst/>
                  <a:rect l="l" t="t" r="r" b="b"/>
                  <a:pathLst>
                    <a:path w="796" h="515">
                      <a:moveTo>
                        <a:pt x="249" y="51"/>
                      </a:moveTo>
                      <a:lnTo>
                        <a:pt x="281" y="14"/>
                      </a:lnTo>
                      <a:lnTo>
                        <a:pt x="428" y="14"/>
                      </a:lnTo>
                      <a:lnTo>
                        <a:pt x="529" y="0"/>
                      </a:lnTo>
                      <a:lnTo>
                        <a:pt x="663" y="65"/>
                      </a:lnTo>
                      <a:lnTo>
                        <a:pt x="732" y="44"/>
                      </a:lnTo>
                      <a:lnTo>
                        <a:pt x="764" y="51"/>
                      </a:lnTo>
                      <a:lnTo>
                        <a:pt x="771" y="202"/>
                      </a:lnTo>
                      <a:lnTo>
                        <a:pt x="795" y="232"/>
                      </a:lnTo>
                      <a:lnTo>
                        <a:pt x="732" y="347"/>
                      </a:lnTo>
                      <a:lnTo>
                        <a:pt x="663" y="260"/>
                      </a:lnTo>
                      <a:lnTo>
                        <a:pt x="646" y="304"/>
                      </a:lnTo>
                      <a:lnTo>
                        <a:pt x="553" y="470"/>
                      </a:lnTo>
                      <a:lnTo>
                        <a:pt x="242" y="514"/>
                      </a:lnTo>
                      <a:lnTo>
                        <a:pt x="78" y="478"/>
                      </a:lnTo>
                      <a:lnTo>
                        <a:pt x="31" y="376"/>
                      </a:lnTo>
                      <a:lnTo>
                        <a:pt x="31" y="275"/>
                      </a:lnTo>
                      <a:lnTo>
                        <a:pt x="0" y="195"/>
                      </a:lnTo>
                      <a:lnTo>
                        <a:pt x="249" y="51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0" name=""/>
            <p:cNvSpPr/>
            <p:nvPr/>
          </p:nvSpPr>
          <p:spPr>
            <a:xfrm>
              <a:off x="3826440" y="503280"/>
              <a:ext cx="10296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3808440" y="1965240"/>
            <a:ext cx="755640" cy="7113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868400" y="1484280"/>
            <a:ext cx="506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86080" y="1576440"/>
            <a:ext cx="0" cy="35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4419720" y="1142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1789200"/>
            <a:ext cx="914400" cy="276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1 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2819520" y="3583080"/>
            <a:ext cx="761760" cy="5842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590920" y="41911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1 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3428280" y="2703600"/>
            <a:ext cx="609480" cy="838080"/>
          </a:xfrm>
          <a:custGeom>
            <a:avLst/>
            <a:gdLst/>
            <a:ahLst/>
            <a:rect l="l" t="t" r="r" b="b"/>
            <a:pathLst>
              <a:path w="473" h="485">
                <a:moveTo>
                  <a:pt x="472" y="484"/>
                </a:moveTo>
                <a:lnTo>
                  <a:pt x="191" y="232"/>
                </a:lnTo>
                <a:lnTo>
                  <a:pt x="256" y="250"/>
                </a:lnTo>
                <a:lnTo>
                  <a:pt x="0" y="0"/>
                </a:lnTo>
                <a:lnTo>
                  <a:pt x="334" y="292"/>
                </a:lnTo>
                <a:lnTo>
                  <a:pt x="269" y="282"/>
                </a:lnTo>
                <a:lnTo>
                  <a:pt x="472" y="484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293440" y="300816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4417920" y="1965240"/>
            <a:ext cx="755640" cy="711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4795920" y="1600200"/>
            <a:ext cx="0" cy="35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1480" y="1812960"/>
            <a:ext cx="914400" cy="276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L2 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0440" y="5143680"/>
            <a:ext cx="71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existence  –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vel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Using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same chann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the same coverag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8440" y="5562720"/>
            <a:ext cx="83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exchanged between the devices using the backbone (each device communicates with its Access Point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05120" y="3581280"/>
            <a:ext cx="761760" cy="3812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1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05120" y="2438280"/>
            <a:ext cx="761760" cy="1143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05120" y="2057400"/>
            <a:ext cx="761760" cy="38088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48520" y="3581280"/>
            <a:ext cx="76176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48520" y="2819520"/>
            <a:ext cx="761760" cy="76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D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48520" y="2438280"/>
            <a:ext cx="76176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48520" y="2057400"/>
            <a:ext cx="761760" cy="38088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22649-064E-4BFF-8FE3-A7876D67F9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52280" y="1523880"/>
            <a:ext cx="8534520" cy="32004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ff66"/>
              </a:gs>
            </a:gsLst>
            <a:lin ang="10800000"/>
          </a:gra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4038480"/>
            <a:ext cx="8686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5334120" y="3583080"/>
            <a:ext cx="761760" cy="5842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4876920" y="41911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L2 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816440" y="2703600"/>
            <a:ext cx="703440" cy="811080"/>
          </a:xfrm>
          <a:custGeom>
            <a:avLst/>
            <a:gdLst/>
            <a:ahLst/>
            <a:rect l="l" t="t" r="r" b="b"/>
            <a:pathLst>
              <a:path w="443" h="511">
                <a:moveTo>
                  <a:pt x="0" y="510"/>
                </a:moveTo>
                <a:lnTo>
                  <a:pt x="227" y="209"/>
                </a:lnTo>
                <a:lnTo>
                  <a:pt x="214" y="276"/>
                </a:lnTo>
                <a:lnTo>
                  <a:pt x="442" y="0"/>
                </a:lnTo>
                <a:lnTo>
                  <a:pt x="180" y="357"/>
                </a:lnTo>
                <a:lnTo>
                  <a:pt x="184" y="292"/>
                </a:lnTo>
                <a:lnTo>
                  <a:pt x="0" y="51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83760" y="300816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Ch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657600" y="304920"/>
            <a:ext cx="1445760" cy="798120"/>
            <a:chOff x="3657600" y="304920"/>
            <a:chExt cx="1445760" cy="798120"/>
          </a:xfrm>
        </p:grpSpPr>
        <p:grpSp>
          <p:nvGrpSpPr>
            <p:cNvPr id="349" name=""/>
            <p:cNvGrpSpPr/>
            <p:nvPr/>
          </p:nvGrpSpPr>
          <p:grpSpPr>
            <a:xfrm>
              <a:off x="3657600" y="304920"/>
              <a:ext cx="1445760" cy="798120"/>
              <a:chOff x="3657600" y="304920"/>
              <a:chExt cx="1445760" cy="79812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4506480" y="376560"/>
                <a:ext cx="596880" cy="691200"/>
                <a:chOff x="4506480" y="376560"/>
                <a:chExt cx="596880" cy="691200"/>
              </a:xfrm>
            </p:grpSpPr>
            <p:grpSp>
              <p:nvGrpSpPr>
                <p:cNvPr id="351" name=""/>
                <p:cNvGrpSpPr/>
                <p:nvPr/>
              </p:nvGrpSpPr>
              <p:grpSpPr>
                <a:xfrm>
                  <a:off x="4732560" y="376560"/>
                  <a:ext cx="370800" cy="557280"/>
                  <a:chOff x="4732560" y="376560"/>
                  <a:chExt cx="370800" cy="557280"/>
                </a:xfrm>
              </p:grpSpPr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4831920" y="447840"/>
                    <a:ext cx="271440" cy="414360"/>
                    <a:chOff x="4831920" y="447840"/>
                    <a:chExt cx="271440" cy="414360"/>
                  </a:xfrm>
                </p:grpSpPr>
                <p:grpSp>
                  <p:nvGrpSpPr>
                    <p:cNvPr id="353" name=""/>
                    <p:cNvGrpSpPr/>
                    <p:nvPr/>
                  </p:nvGrpSpPr>
                  <p:grpSpPr>
                    <a:xfrm>
                      <a:off x="4831920" y="447840"/>
                      <a:ext cx="271440" cy="414360"/>
                      <a:chOff x="4831920" y="447840"/>
                      <a:chExt cx="271440" cy="414360"/>
                    </a:xfrm>
                  </p:grpSpPr>
                  <p:grpSp>
                    <p:nvGrpSpPr>
                      <p:cNvPr id="354" name=""/>
                      <p:cNvGrpSpPr/>
                      <p:nvPr/>
                    </p:nvGrpSpPr>
                    <p:grpSpPr>
                      <a:xfrm>
                        <a:off x="4894560" y="473400"/>
                        <a:ext cx="208800" cy="334080"/>
                        <a:chOff x="4894560" y="473400"/>
                        <a:chExt cx="208800" cy="334080"/>
                      </a:xfrm>
                    </p:grpSpPr>
                    <p:grpSp>
                      <p:nvGrpSpPr>
                        <p:cNvPr id="355" name=""/>
                        <p:cNvGrpSpPr/>
                        <p:nvPr/>
                      </p:nvGrpSpPr>
                      <p:grpSpPr>
                        <a:xfrm>
                          <a:off x="4921920" y="473400"/>
                          <a:ext cx="181440" cy="334080"/>
                          <a:chOff x="4921920" y="473400"/>
                          <a:chExt cx="181440" cy="334080"/>
                        </a:xfrm>
                      </p:grpSpPr>
                      <p:sp>
                        <p:nvSpPr>
                          <p:cNvPr id="356" name=""/>
                          <p:cNvSpPr/>
                          <p:nvPr/>
                        </p:nvSpPr>
                        <p:spPr>
                          <a:xfrm>
                            <a:off x="5011920" y="670680"/>
                            <a:ext cx="91440" cy="9252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080" bIns="19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7" name=""/>
                          <p:cNvSpPr/>
                          <p:nvPr/>
                        </p:nvSpPr>
                        <p:spPr>
                          <a:xfrm>
                            <a:off x="4939200" y="687960"/>
                            <a:ext cx="119160" cy="11952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160" bIns="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8" name=""/>
                          <p:cNvSpPr/>
                          <p:nvPr/>
                        </p:nvSpPr>
                        <p:spPr>
                          <a:xfrm>
                            <a:off x="4994640" y="544680"/>
                            <a:ext cx="81000" cy="9360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9" name=""/>
                          <p:cNvSpPr/>
                          <p:nvPr/>
                        </p:nvSpPr>
                        <p:spPr>
                          <a:xfrm>
                            <a:off x="4921920" y="473400"/>
                            <a:ext cx="108720" cy="11952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160" bIns="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0" name=""/>
                          <p:cNvSpPr/>
                          <p:nvPr/>
                        </p:nvSpPr>
                        <p:spPr>
                          <a:xfrm>
                            <a:off x="4991400" y="542160"/>
                            <a:ext cx="82080" cy="197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" h="160">
                                <a:moveTo>
                                  <a:pt x="70" y="159"/>
                                </a:moveTo>
                                <a:lnTo>
                                  <a:pt x="39" y="159"/>
                                </a:lnTo>
                                <a:lnTo>
                                  <a:pt x="0" y="0"/>
                                </a:lnTo>
                                <a:lnTo>
                                  <a:pt x="39" y="14"/>
                                </a:lnTo>
                                <a:lnTo>
                                  <a:pt x="46" y="94"/>
                                </a:lnTo>
                                <a:lnTo>
                                  <a:pt x="70" y="159"/>
                                </a:lnTo>
                              </a:path>
                            </a:pathLst>
                          </a:cu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61" name=""/>
                        <p:cNvSpPr/>
                        <p:nvPr/>
                      </p:nvSpPr>
                      <p:spPr>
                        <a:xfrm>
                          <a:off x="4894560" y="572040"/>
                          <a:ext cx="164160" cy="16416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2" name=""/>
                        <p:cNvSpPr/>
                        <p:nvPr/>
                      </p:nvSpPr>
                      <p:spPr>
                        <a:xfrm>
                          <a:off x="4894560" y="670680"/>
                          <a:ext cx="119160" cy="11952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160" bIns="38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3" name=""/>
                        <p:cNvSpPr/>
                        <p:nvPr/>
                      </p:nvSpPr>
                      <p:spPr>
                        <a:xfrm>
                          <a:off x="4926600" y="523800"/>
                          <a:ext cx="83160" cy="20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2" h="168">
                              <a:moveTo>
                                <a:pt x="71" y="29"/>
                              </a:moveTo>
                              <a:lnTo>
                                <a:pt x="62" y="66"/>
                              </a:lnTo>
                              <a:lnTo>
                                <a:pt x="71" y="145"/>
                              </a:lnTo>
                              <a:lnTo>
                                <a:pt x="47" y="167"/>
                              </a:lnTo>
                              <a:lnTo>
                                <a:pt x="0" y="73"/>
                              </a:lnTo>
                              <a:lnTo>
                                <a:pt x="39" y="0"/>
                              </a:lnTo>
                              <a:lnTo>
                                <a:pt x="71" y="29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64" name=""/>
                      <p:cNvSpPr/>
                      <p:nvPr/>
                    </p:nvSpPr>
                    <p:spPr>
                      <a:xfrm>
                        <a:off x="4894560" y="769680"/>
                        <a:ext cx="91440" cy="92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9080" bIns="19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5" name=""/>
                      <p:cNvSpPr/>
                      <p:nvPr/>
                    </p:nvSpPr>
                    <p:spPr>
                      <a:xfrm>
                        <a:off x="4831920" y="447840"/>
                        <a:ext cx="111240" cy="119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6" name=""/>
                      <p:cNvSpPr/>
                      <p:nvPr/>
                    </p:nvSpPr>
                    <p:spPr>
                      <a:xfrm>
                        <a:off x="4918680" y="740160"/>
                        <a:ext cx="64800" cy="4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37">
                            <a:moveTo>
                              <a:pt x="55" y="21"/>
                            </a:moveTo>
                            <a:lnTo>
                              <a:pt x="39" y="36"/>
                            </a:lnTo>
                            <a:lnTo>
                              <a:pt x="0" y="21"/>
                            </a:lnTo>
                            <a:lnTo>
                              <a:pt x="39" y="0"/>
                            </a:lnTo>
                            <a:lnTo>
                              <a:pt x="55" y="2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4909680" y="499320"/>
                      <a:ext cx="3780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58">
                          <a:moveTo>
                            <a:pt x="15" y="0"/>
                          </a:moveTo>
                          <a:lnTo>
                            <a:pt x="32" y="7"/>
                          </a:lnTo>
                          <a:lnTo>
                            <a:pt x="32" y="57"/>
                          </a:lnTo>
                          <a:lnTo>
                            <a:pt x="0" y="50"/>
                          </a:lnTo>
                          <a:lnTo>
                            <a:pt x="15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4732560" y="376560"/>
                    <a:ext cx="254520" cy="503280"/>
                    <a:chOff x="4732560" y="376560"/>
                    <a:chExt cx="254520" cy="50328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4760280" y="671400"/>
                      <a:ext cx="209520" cy="20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4777560" y="528120"/>
                      <a:ext cx="209520" cy="209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4732560" y="376560"/>
                      <a:ext cx="164520" cy="164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4830840" y="475200"/>
                      <a:ext cx="83160" cy="92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080" bIns="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4774320" y="454320"/>
                      <a:ext cx="145800" cy="18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153">
                          <a:moveTo>
                            <a:pt x="85" y="7"/>
                          </a:moveTo>
                          <a:lnTo>
                            <a:pt x="85" y="21"/>
                          </a:lnTo>
                          <a:lnTo>
                            <a:pt x="116" y="58"/>
                          </a:lnTo>
                          <a:lnTo>
                            <a:pt x="125" y="65"/>
                          </a:lnTo>
                          <a:lnTo>
                            <a:pt x="78" y="152"/>
                          </a:lnTo>
                          <a:lnTo>
                            <a:pt x="0" y="0"/>
                          </a:lnTo>
                          <a:lnTo>
                            <a:pt x="85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4847400" y="703440"/>
                      <a:ext cx="9036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53">
                          <a:moveTo>
                            <a:pt x="68" y="7"/>
                          </a:moveTo>
                          <a:lnTo>
                            <a:pt x="77" y="22"/>
                          </a:lnTo>
                          <a:lnTo>
                            <a:pt x="0" y="52"/>
                          </a:lnTo>
                          <a:lnTo>
                            <a:pt x="0" y="0"/>
                          </a:lnTo>
                          <a:lnTo>
                            <a:pt x="68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75" name=""/>
                  <p:cNvSpPr/>
                  <p:nvPr/>
                </p:nvSpPr>
                <p:spPr>
                  <a:xfrm>
                    <a:off x="4732560" y="815760"/>
                    <a:ext cx="110880" cy="118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4802040" y="803520"/>
                    <a:ext cx="6336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1">
                        <a:moveTo>
                          <a:pt x="23" y="50"/>
                        </a:moveTo>
                        <a:lnTo>
                          <a:pt x="54" y="36"/>
                        </a:lnTo>
                        <a:lnTo>
                          <a:pt x="15" y="0"/>
                        </a:lnTo>
                        <a:lnTo>
                          <a:pt x="0" y="14"/>
                        </a:lnTo>
                        <a:lnTo>
                          <a:pt x="23" y="5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" name=""/>
                <p:cNvSpPr/>
                <p:nvPr/>
              </p:nvSpPr>
              <p:spPr>
                <a:xfrm>
                  <a:off x="4506480" y="920880"/>
                  <a:ext cx="138960" cy="14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614120" y="920880"/>
                  <a:ext cx="12060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676760" y="885960"/>
                  <a:ext cx="122040" cy="11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584240" y="865080"/>
                  <a:ext cx="227160" cy="162720"/>
                </a:xfrm>
                <a:custGeom>
                  <a:avLst/>
                  <a:gdLst/>
                  <a:ahLst/>
                  <a:rect l="l" t="t" r="r" b="b"/>
                  <a:pathLst>
                    <a:path w="196" h="132">
                      <a:moveTo>
                        <a:pt x="186" y="37"/>
                      </a:moveTo>
                      <a:lnTo>
                        <a:pt x="164" y="44"/>
                      </a:lnTo>
                      <a:lnTo>
                        <a:pt x="108" y="94"/>
                      </a:lnTo>
                      <a:lnTo>
                        <a:pt x="101" y="117"/>
                      </a:lnTo>
                      <a:lnTo>
                        <a:pt x="39" y="117"/>
                      </a:lnTo>
                      <a:lnTo>
                        <a:pt x="31" y="131"/>
                      </a:lnTo>
                      <a:lnTo>
                        <a:pt x="0" y="87"/>
                      </a:lnTo>
                      <a:lnTo>
                        <a:pt x="132" y="0"/>
                      </a:lnTo>
                      <a:lnTo>
                        <a:pt x="195" y="21"/>
                      </a:lnTo>
                      <a:lnTo>
                        <a:pt x="186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3657600" y="385200"/>
                <a:ext cx="363600" cy="477360"/>
                <a:chOff x="3657600" y="385200"/>
                <a:chExt cx="363600" cy="477360"/>
              </a:xfrm>
            </p:grpSpPr>
            <p:grpSp>
              <p:nvGrpSpPr>
                <p:cNvPr id="382" name=""/>
                <p:cNvGrpSpPr/>
                <p:nvPr/>
              </p:nvGrpSpPr>
              <p:grpSpPr>
                <a:xfrm>
                  <a:off x="3657600" y="447840"/>
                  <a:ext cx="201960" cy="289440"/>
                  <a:chOff x="3657600" y="447840"/>
                  <a:chExt cx="201960" cy="28944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>
                    <a:off x="3657600" y="546480"/>
                    <a:ext cx="93960" cy="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674880" y="617760"/>
                    <a:ext cx="111240" cy="11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3693600" y="447840"/>
                    <a:ext cx="165960" cy="173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3681720" y="552600"/>
                    <a:ext cx="6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81">
                        <a:moveTo>
                          <a:pt x="31" y="0"/>
                        </a:moveTo>
                        <a:lnTo>
                          <a:pt x="0" y="14"/>
                        </a:lnTo>
                        <a:lnTo>
                          <a:pt x="0" y="66"/>
                        </a:lnTo>
                        <a:lnTo>
                          <a:pt x="15" y="80"/>
                        </a:lnTo>
                        <a:lnTo>
                          <a:pt x="55" y="66"/>
                        </a:lnTo>
                        <a:lnTo>
                          <a:pt x="31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3719880" y="385200"/>
                  <a:ext cx="301320" cy="477360"/>
                  <a:chOff x="3719880" y="385200"/>
                  <a:chExt cx="301320" cy="47736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3819600" y="402480"/>
                    <a:ext cx="201600" cy="219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3719880" y="546840"/>
                    <a:ext cx="111240" cy="118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747600" y="617040"/>
                    <a:ext cx="156600" cy="173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3792960" y="688680"/>
                    <a:ext cx="165960" cy="173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3802320" y="500760"/>
                    <a:ext cx="145800" cy="14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3919320" y="385200"/>
                    <a:ext cx="92520" cy="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3843720" y="471600"/>
                    <a:ext cx="1101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67">
                        <a:moveTo>
                          <a:pt x="0" y="14"/>
                        </a:moveTo>
                        <a:lnTo>
                          <a:pt x="15" y="44"/>
                        </a:lnTo>
                        <a:lnTo>
                          <a:pt x="94" y="66"/>
                        </a:lnTo>
                        <a:lnTo>
                          <a:pt x="94" y="22"/>
                        </a:lnTo>
                        <a:lnTo>
                          <a:pt x="8" y="0"/>
                        </a:lnTo>
                        <a:lnTo>
                          <a:pt x="0" y="1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3752280" y="596160"/>
                    <a:ext cx="12060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26">
                        <a:moveTo>
                          <a:pt x="64" y="0"/>
                        </a:moveTo>
                        <a:lnTo>
                          <a:pt x="0" y="29"/>
                        </a:lnTo>
                        <a:lnTo>
                          <a:pt x="24" y="59"/>
                        </a:lnTo>
                        <a:lnTo>
                          <a:pt x="24" y="118"/>
                        </a:lnTo>
                        <a:lnTo>
                          <a:pt x="39" y="125"/>
                        </a:lnTo>
                        <a:lnTo>
                          <a:pt x="94" y="88"/>
                        </a:lnTo>
                        <a:lnTo>
                          <a:pt x="103" y="14"/>
                        </a:lnTo>
                        <a:lnTo>
                          <a:pt x="64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6" name=""/>
                <p:cNvSpPr/>
                <p:nvPr/>
              </p:nvSpPr>
              <p:spPr>
                <a:xfrm>
                  <a:off x="3906720" y="425520"/>
                  <a:ext cx="74160" cy="82800"/>
                </a:xfrm>
                <a:custGeom>
                  <a:avLst/>
                  <a:gdLst/>
                  <a:ahLst/>
                  <a:rect l="l" t="t" r="r" b="b"/>
                  <a:pathLst>
                    <a:path w="64" h="67">
                      <a:moveTo>
                        <a:pt x="0" y="37"/>
                      </a:moveTo>
                      <a:lnTo>
                        <a:pt x="31" y="0"/>
                      </a:lnTo>
                      <a:lnTo>
                        <a:pt x="63" y="37"/>
                      </a:lnTo>
                      <a:lnTo>
                        <a:pt x="31" y="66"/>
                      </a:lnTo>
                      <a:lnTo>
                        <a:pt x="0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3838320" y="304920"/>
                <a:ext cx="1058760" cy="798120"/>
                <a:chOff x="3838320" y="304920"/>
                <a:chExt cx="1058760" cy="7981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4164120" y="330840"/>
                  <a:ext cx="264600" cy="26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380120" y="304920"/>
                  <a:ext cx="21096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570200" y="528120"/>
                  <a:ext cx="326880" cy="33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955320" y="671400"/>
                  <a:ext cx="372240" cy="387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470480" y="716040"/>
                  <a:ext cx="281520" cy="28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866040" y="741600"/>
                  <a:ext cx="200520" cy="21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838320" y="573840"/>
                  <a:ext cx="20988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928680" y="376560"/>
                  <a:ext cx="327240" cy="34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217400" y="770040"/>
                  <a:ext cx="328320" cy="33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615560" y="403560"/>
                  <a:ext cx="253800" cy="26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542480" y="304920"/>
                  <a:ext cx="23760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3916080" y="365040"/>
                  <a:ext cx="923400" cy="635400"/>
                </a:xfrm>
                <a:custGeom>
                  <a:avLst/>
                  <a:gdLst/>
                  <a:ahLst/>
                  <a:rect l="l" t="t" r="r" b="b"/>
                  <a:pathLst>
                    <a:path w="796" h="515">
                      <a:moveTo>
                        <a:pt x="249" y="51"/>
                      </a:moveTo>
                      <a:lnTo>
                        <a:pt x="281" y="14"/>
                      </a:lnTo>
                      <a:lnTo>
                        <a:pt x="428" y="14"/>
                      </a:lnTo>
                      <a:lnTo>
                        <a:pt x="529" y="0"/>
                      </a:lnTo>
                      <a:lnTo>
                        <a:pt x="663" y="65"/>
                      </a:lnTo>
                      <a:lnTo>
                        <a:pt x="732" y="44"/>
                      </a:lnTo>
                      <a:lnTo>
                        <a:pt x="764" y="51"/>
                      </a:lnTo>
                      <a:lnTo>
                        <a:pt x="771" y="202"/>
                      </a:lnTo>
                      <a:lnTo>
                        <a:pt x="795" y="232"/>
                      </a:lnTo>
                      <a:lnTo>
                        <a:pt x="732" y="347"/>
                      </a:lnTo>
                      <a:lnTo>
                        <a:pt x="663" y="260"/>
                      </a:lnTo>
                      <a:lnTo>
                        <a:pt x="646" y="304"/>
                      </a:lnTo>
                      <a:lnTo>
                        <a:pt x="553" y="470"/>
                      </a:lnTo>
                      <a:lnTo>
                        <a:pt x="242" y="514"/>
                      </a:lnTo>
                      <a:lnTo>
                        <a:pt x="78" y="478"/>
                      </a:lnTo>
                      <a:lnTo>
                        <a:pt x="31" y="376"/>
                      </a:lnTo>
                      <a:lnTo>
                        <a:pt x="31" y="275"/>
                      </a:lnTo>
                      <a:lnTo>
                        <a:pt x="0" y="195"/>
                      </a:lnTo>
                      <a:lnTo>
                        <a:pt x="249" y="51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0" name=""/>
            <p:cNvSpPr/>
            <p:nvPr/>
          </p:nvSpPr>
          <p:spPr>
            <a:xfrm>
              <a:off x="3826440" y="503280"/>
              <a:ext cx="10296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3808440" y="1965240"/>
            <a:ext cx="1449360" cy="7779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868400" y="1484280"/>
            <a:ext cx="506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86080" y="1576440"/>
            <a:ext cx="0" cy="35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419720" y="1142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057400" y="2031840"/>
            <a:ext cx="1676520" cy="63144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ified 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2 different MA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2819520" y="3583080"/>
            <a:ext cx="761760" cy="584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666880" y="4191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1 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3428280" y="2703600"/>
            <a:ext cx="609480" cy="838080"/>
          </a:xfrm>
          <a:custGeom>
            <a:avLst/>
            <a:gdLst/>
            <a:ahLst/>
            <a:rect l="l" t="t" r="r" b="b"/>
            <a:pathLst>
              <a:path w="473" h="485">
                <a:moveTo>
                  <a:pt x="472" y="484"/>
                </a:moveTo>
                <a:lnTo>
                  <a:pt x="191" y="232"/>
                </a:lnTo>
                <a:lnTo>
                  <a:pt x="256" y="250"/>
                </a:lnTo>
                <a:lnTo>
                  <a:pt x="0" y="0"/>
                </a:lnTo>
                <a:lnTo>
                  <a:pt x="334" y="292"/>
                </a:lnTo>
                <a:lnTo>
                  <a:pt x="269" y="282"/>
                </a:lnTo>
                <a:lnTo>
                  <a:pt x="472" y="484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93440" y="300816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795920" y="1600200"/>
            <a:ext cx="0" cy="35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0440" y="4883040"/>
            <a:ext cx="71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existence  –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vel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Using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same chann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the same coverag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6920" y="5302080"/>
            <a:ext cx="83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exchanged between the devices using the 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device communicates with the Unified Access Point but to a different MAC ent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MAC has a different addres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6248520" y="2057400"/>
            <a:ext cx="1294920" cy="1905120"/>
            <a:chOff x="6248520" y="2057400"/>
            <a:chExt cx="1294920" cy="1905120"/>
          </a:xfrm>
        </p:grpSpPr>
        <p:sp>
          <p:nvSpPr>
            <p:cNvPr id="424" name=""/>
            <p:cNvSpPr/>
            <p:nvPr/>
          </p:nvSpPr>
          <p:spPr>
            <a:xfrm>
              <a:off x="6248520" y="3581280"/>
              <a:ext cx="1294920" cy="38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Hybr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PH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48520" y="2819520"/>
              <a:ext cx="6472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H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DL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95800" y="2438280"/>
              <a:ext cx="647280" cy="7621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M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48520" y="2438280"/>
              <a:ext cx="64728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H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C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248520" y="2057400"/>
              <a:ext cx="1294920" cy="3808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M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Bri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248520" y="3200400"/>
              <a:ext cx="129492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MAC/DL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Osaka"/>
                </a:rPr>
                <a:t>Convergence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18B99-2DF5-487A-A251-157DC4A698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2:04:37Z</dcterms:created>
  <dc:creator>Pratik Mehta</dc:creator>
  <dc:description/>
  <dc:language>en-US</dc:language>
  <cp:lastModifiedBy>Bruce Kraemer</cp:lastModifiedBy>
  <cp:lastPrinted>2001-01-10T12:39:37Z</cp:lastPrinted>
  <dcterms:modified xsi:type="dcterms:W3CDTF">2001-01-19T00:07:49Z</dcterms:modified>
  <cp:revision>74</cp:revision>
  <dc:subject/>
  <dc:title>5GSG Report</dc:title>
</cp:coreProperties>
</file>