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2825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28D-68D5-4A7B-9321-A8F02AAF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259-9264-4A3C-AACC-827F7EAC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2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2A0D-8661-4002-8ED6-600F138D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7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496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7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496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E42-846E-44C3-9F02-71714A5B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4F9-8D58-4953-9EC3-6A6D97FF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B1C-F6E9-47A2-91A9-360126DE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3B7-F388-4159-9BBC-FB035C17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417-3941-4618-B9D3-F5020882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800-6B31-4C93-9CEE-A8DFD4E3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314-2474-40B5-AA65-739C38AA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2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5F7-51CD-4896-BC77-D8422B57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9A3-3432-4AC2-BA7D-FBEBEFD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9564840" y="4800600"/>
          <a:ext cx="326880" cy="198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64840" y="4800600"/>
                    <a:ext cx="32688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37320" indent="-337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160" indent="-28188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25000" indent="-223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75720" indent="-2253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24640" indent="-2253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24640" indent="-2253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24640" indent="-2253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42640" y="31968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19920" y="639900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878000" y="639900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9EBB0FB-00FF-4946-A119-C045649CA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29200" y="32004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5335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639936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219320" y="640080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762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lementation Options for th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stribution System in th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Wireless LAN Infrastructur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86080" y="3200040"/>
            <a:ext cx="69307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re El-Hoiyd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EM, Switzer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EEE ICC 2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F03-93F8-444B-946A-A04CFCE0368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 Options for the Distribu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ice of a distribution transport protocol and addr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LC Type 1 (connectionless) transport, MAC addres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62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DP/IP transport, IP layer addres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ice of a mobility management signalling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247-598D-460A-A6DB-AC162E751B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the discussed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86295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C Layer Addr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tion 1: Separated Access Points and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tion 2: Joined Access Point and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tion 3: MAC Brid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Layer Addr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tion 4: Network Layer Addres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ED8-60EE-4627-93C6-88D077553D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762120"/>
            <a:ext cx="62830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arated AP / Por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90720" y="1447920"/>
          <a:ext cx="845820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845820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FED-4BF1-4BCB-BEBB-C5D290004D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43040" y="2133720"/>
            <a:ext cx="84168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 size of a 802.11 MSDU = 2304 By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 size of the payload in 802.3 = 1492 By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ation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ion protocol needed to avoid mixing segments from different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ort pl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9C8-D2C0-45B4-932A-5FB4CF5C12A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8626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of the mobility management signalling is that each access point or portal knows through which access point or portal a given MAC address can be re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ccess point correspond to what MAC addres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posed to use a dynamic route resolution protocol similar to the Ethernet Address Resolution Protocol (ARP, RCF8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E40-73E5-4558-9A9D-DE390A27EC2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1622520"/>
          <a:ext cx="915984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22520"/>
                    <a:ext cx="91598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ute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9B1-B45C-4BA6-917C-5785360C626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80880" y="1905120"/>
          <a:ext cx="9068040" cy="33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906804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4EB-BFE4-4533-A9BE-F910B188F1F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09480" y="1181160"/>
          <a:ext cx="876312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81160"/>
                    <a:ext cx="876312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609480" y="1522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522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ined AP / Port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B6B-EEC5-46AB-B8CE-D69A768B533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2 versus Op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3040" y="1676520"/>
            <a:ext cx="8416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bility management signalling protocol is identical as in opti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the portal functions in the access points prevents the need of forwarding over the distribution medium the traffic to/from the wired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EF4-EF84-4E36-A72F-2EAC896455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42680" y="1752120"/>
            <a:ext cx="870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SDU maximum size in 802.11 is reduced from 2304 to 1476, each access point can be a filtering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cess point will forward into the cell the frames destined to associated s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of mobility management signa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protocol is sufficient to give enough information for the filtering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C Bri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6E8-8DD5-43FB-B9CD-08DB1F7E218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41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requency-Hopping / DSSS / Infra R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C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ireless Ethern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twork Architect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 Hoc Net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frastructure Net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4E5-63D7-4050-A7DE-69B86019A2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85680" y="1228680"/>
          <a:ext cx="800604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228680"/>
                    <a:ext cx="800604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work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AC6-CE75-4612-AD63-29243DC4A2D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1295280"/>
          <a:ext cx="8382240" cy="539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8382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3049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work Layer Addr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15F-ED77-4283-9AFB-A6F69C669B3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43040" y="1447560"/>
            <a:ext cx="84772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points not linked through a broadcast medium any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Request and RoutingIndication messages cannot be broadcast any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posed to use a dynamic address resolution protocol similar to the Address Resolution Protocol over ATM (ARP over ATM, RCF22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ccess point must be given the IP address of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F85-2204-42FF-8A04-910F8F56229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50760" y="1371600"/>
          <a:ext cx="79534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1371600"/>
                    <a:ext cx="79534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ute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3AE-5AA6-4AD6-9879-8B4B6B731FEA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28600" y="1676520"/>
          <a:ext cx="9296280" cy="35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9296280" cy="35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967-BE49-4715-B46A-4B7C315C55FC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297080"/>
          <a:ext cx="10287000" cy="499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7080"/>
                    <a:ext cx="1028700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787-4366-42B8-94AE-FCD50E694D9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9067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TGf Task Group has started the work on I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APP proposal made in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s IP layer address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nsmission of unsolicited “announce”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57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y 2000, fist meeting he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uly 2000, propos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pt 2000, first draf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697-A0DB-4CB0-819F-E3B20932F97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3040" y="1676520"/>
            <a:ext cx="8416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bridge solution simple but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augmented with a network layer I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points to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f los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f crossed handover messages (RoutingIndic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between schemes based on requests or on unsolicited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85E2-4EA1-4197-A60A-8F940BC0156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 Hoc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670120" y="1981080"/>
          <a:ext cx="433548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0120" y="1981080"/>
                    <a:ext cx="433548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213-09BC-4640-9A76-22F32247B80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rastructure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66680" y="1413000"/>
          <a:ext cx="77724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13000"/>
                    <a:ext cx="77724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505-2A54-436E-BD8C-016FF1A79C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ic Service Set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wireless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ded Service Set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ll wireless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 System: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Point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nection DS - B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rtal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nection DS - Wired 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2819520"/>
            <a:ext cx="4191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Glue between the BSS to form the 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AA2-7608-4CC1-AE64-6D88876951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ribu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ral cells form a virtual single shared-med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 system responsible of routing fr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 system transparent to LL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rtal + Access Points = MAC Bridge between the wired LAN and the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19320" y="4278240"/>
          <a:ext cx="720540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278240"/>
                    <a:ext cx="720540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07C-4DDE-4B8B-970F-53BA0256FE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: Traf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3657240"/>
            <a:ext cx="3048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rect traffic between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76520"/>
          <a:ext cx="8991720" cy="17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99172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200400" y="3809880"/>
          <a:ext cx="5875200" cy="24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58752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FB0-DC5C-4A49-A57E-5F997B7433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: Roa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14400" y="1371600"/>
          <a:ext cx="792468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9246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43040" y="4800600"/>
            <a:ext cx="841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 fontScale="87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ion protocol gives to the distribution system the necessary information to perform the mobility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7FD-B0EA-4BAC-98EE-6C005F91FB2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2960" y="38052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ical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660840" y="1371600"/>
          <a:ext cx="5711760" cy="49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0840" y="1371600"/>
                    <a:ext cx="571176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44520" indent="-34452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on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DU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tion System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(unspecified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(unspecif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74B-3A1D-473F-B62E-750E0D1964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8:02:14Z</dcterms:created>
  <dc:creator>Amre El-Hoiydi</dc:creator>
  <dc:description/>
  <dc:language>en-US</dc:language>
  <cp:lastModifiedBy>Harry R. Worstell</cp:lastModifiedBy>
  <cp:lastPrinted>2000-06-09T12:50:42Z</cp:lastPrinted>
  <dcterms:modified xsi:type="dcterms:W3CDTF">2000-07-11T23:24:05Z</dcterms:modified>
  <cp:revision>45</cp:revision>
  <dc:subject>Submission</dc:subject>
  <dc:title>Implementation Options for the              Distribution System in the 802.11 Wireless LAN Infrastructure Network</dc:title>
</cp:coreProperties>
</file>