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9B9-90AB-4D9B-8BE4-8E023603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FFB-8317-42FB-8D75-D13F07E6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DE27-C904-426C-85AB-516BC7BD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01E-EF65-4AF4-BC35-2E42C2EC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A8CA-43DE-4904-940F-F3BEC586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597-6B2E-4D2E-A890-7AF62A7F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BF99-2C01-45E7-8438-3538DCA0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FAD8-D634-445F-9D03-32CC0E41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8F2-7A8E-41C4-83CD-803D074C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C12-D6C1-4BCF-A488-ADBBEB95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C33-E23E-4A4F-AF9C-A4A7EFAB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A78-87DB-4E07-B9EF-6183968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182520"/>
            <a:ext cx="72576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ly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86400" y="6474960"/>
            <a:ext cx="31240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92C3D634-D4C8-4645-99EE-6C7702B2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5680" y="396000"/>
            <a:ext cx="3962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0/19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475320"/>
            <a:ext cx="71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ynamic Channel Selection (DCS) Scheme for 802.11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. Cervello, S. Choi, S. Mangold, and A. Soom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lips Research-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arcliff Manor, New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995C-1CBC-410B-B57A-8648AEC28AE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947A5C-9E78-49A2-8AA8-B4C06D9BAA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6. Announce of Channel Switch 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nnounce the channel move decision to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 or define new fields in beacon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broadcast it several times to ensure the decision re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implement some ACK mechanism for some STAs such as ones with isochronous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03F-C5CF-43E1-986A-A0DD39F9396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9AE33-4C4A-4922-8A72-F8FDB4108C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7. Switch into New Channel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oves first, then STAs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simple as changing the carrie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no such a service primitive def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LME primitives such as MLME-JUMP.request &amp; MLME-JUMP.confi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not to require any change in PHY since channel change can be ordered to existing PHY by MA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eed to move at the end of a CF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552-D56F-40D6-B863-E971A883A35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6D973-D0C1-4FCC-8AC0-B1105A341C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CS mechanism proposed for infrastructure BSS of 802.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add some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some new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posal can be defined WITHOUT any change in 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20AE-B60F-4225-8184-74F2B92ED16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06FBC5-D27D-43FD-9931-5A054FEE69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Channel Selection (DCS) instead of DFS for 802.1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SI requires DFS and T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e to have DCS for some environments, e.g., home environment and offices in a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S first, if not working, overlapping BS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a DCS mechanism WITHOUT requiring any change in PH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ould work with all the current and future PH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s subject to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F3C-D745-4D21-BA77-B3992DE0F82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4BEAD-9047-4FF9-808B-908D19513C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Basic Mechanism for Infrastructure B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tion of a new channe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 of a channel measur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measurement process of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making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nel switch announcement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into the new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79A5-B802-4ACC-8BD6-E38D84A4A5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39AAF3-9CD8-4AB3-902B-6D7E5BDD47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. Initiation of Channel Selection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 of channel selection ini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SS is formed by an 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P and/or STA(s) of a BSS experience bad channel condition persist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management frames for the channel condition feedback from STAs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frames can work for overlapping BSS f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o initiate will be up to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D9C2-73F3-4DB6-9428-C90ECC3645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5B8CC-C41C-435F-8D15-0115A3B2DF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. Channel Measurement Request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requests channel measurements to some STAs to find the best channel to run its B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se STAs will be considered as sleeping 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by AP not desi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nagement frames need to be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begin th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hannels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ong to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easure (explained n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E14-6222-43BE-A977-1DAEBF59BF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039620-3BD0-42B8-AED7-9E9324C7D0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 moves to channel(s) to measure as requested by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of channel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other BSSs running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RSSI and PER when BSSs det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busy channel p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ction of other BS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“scan” service from MLME to 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ME-SCAN.request and MLME-SCAN.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AA4F-2B96-456E-BB41-7C1E0E2B01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E7A98-D846-4E48-8DB4-85AE5C6488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. Channel Measurement Process (Cont.)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RSSI and 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I value is available to MAC via PHY_RXSTART only when a meaningful MAC frame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standardize the RSSI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busy channel 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ime and number of cases of PHY_CCA(BUSY) without PHY_RX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used to measure alien devices, e.g., H/2 and micro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3520-8971-417B-8C00-11B68E8E72C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A371C9-612F-4441-8B7C-6C1ED96F5E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. Measurement Report to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ment report of STA(s) to 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BSS detected in a channel, the result of the third measurement is only meaning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reported during CP or CFP (per being poll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define new management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BFB9-B970-463B-ADE5-EB37D6535EC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EC3E98-CF51-4187-85B3-323394E746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5. Decision Making by AP</a:t>
            </a:r>
            <a:endParaRPr b="0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 make a decision per hearing the reports from S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move or n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hich channel per deciding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mpare other channels with the current cha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consider sleeping STAs to determine when to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unghyun Choi, Philips Re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36CB-2B2C-430B-B953-A6147391DC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D0027-7F8D-4BD1-8A7B-A01E7667E1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0T23:27:42Z</dcterms:created>
  <dc:creator>Sunghyun Choi, Philips Research</dc:creator>
  <dc:description>Sunghyun Choi, Philips Research-USA</dc:description>
  <dc:language>en-US</dc:language>
  <cp:lastModifiedBy>Sunghyun Choi</cp:lastModifiedBy>
  <cp:lastPrinted>1998-02-10T13:28:06Z</cp:lastPrinted>
  <dcterms:modified xsi:type="dcterms:W3CDTF">2000-07-11T03:48:56Z</dcterms:modified>
  <cp:revision>69</cp:revision>
  <dc:subject>Submissions</dc:subject>
  <dc:title>Dynamic Channel Selection (DCS) Scheme for 802.11</dc:title>
</cp:coreProperties>
</file>