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5888-0562-4978-B556-F0A37D809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32B-206C-4C3F-99A7-0A67BC36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358-8BF3-469D-B88F-CEE11B96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ADF6-2D65-4EB3-8B2E-C27A1F03B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D4E-42C6-4F6C-94F5-E7C92A0A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75E7-1616-4B1D-8C33-6C07D21A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5E9B-03EA-4E8E-BA33-D886ECDD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B432-1BAD-40E0-BB2F-74FB31A0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E81-7D49-4DCD-A9EC-665D0E60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E01-E3CE-4CF7-AEE4-595AD928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CF7-783D-41ED-87AB-A4DEB5FB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E77-41B3-4351-8872-D51E4CD7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296492-7A0A-4157-95E7-8C4F1D9E3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Collision Avoidance in Overlapping BSSs of 802.11 WLAN</a:t>
            </a:r>
            <a:endParaRPr b="0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rd G. Cervello and Sunghyun Ch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ips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arcliff Manor, New Y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E03-267A-4902-A583-D4748CF40FE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8CCFF-06E7-4305-9090-968C41AAA8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609480" y="1152360"/>
          <a:ext cx="7848720" cy="570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52360"/>
                    <a:ext cx="7848720" cy="57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33520" y="1152360"/>
          <a:ext cx="7848360" cy="570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152360"/>
                    <a:ext cx="7848360" cy="57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09480" y="1152360"/>
          <a:ext cx="7848720" cy="570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1152360"/>
                    <a:ext cx="7848720" cy="57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33520" y="1152360"/>
          <a:ext cx="7848360" cy="570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1152360"/>
                    <a:ext cx="7848360" cy="57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Usage of ONAV (Situation C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E9E-7FBD-4CA9-AE9C-D20648B33CE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65C409-7A19-47CA-8594-F258F79307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762120" y="2984400"/>
          <a:ext cx="8001000" cy="38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84400"/>
                    <a:ext cx="800100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762120" y="2971800"/>
          <a:ext cx="8001000" cy="387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971800"/>
                    <a:ext cx="800100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762120" y="2984400"/>
          <a:ext cx="8001000" cy="387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984400"/>
                    <a:ext cx="800100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hysical Channel Sensing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sensing by PC in CFP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frame (e.g., beacon) transmitted in CFB/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CF-poll (+data+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3CF-70D2-4D35-BFAC-121F953D62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1792C-3064-44A7-B1F5-9F6E51B661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air Channel Sharing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ontention window size for channel-releasing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 CFB: need to adjust CFBMax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33520" y="2625840"/>
          <a:ext cx="8001000" cy="40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25840"/>
                    <a:ext cx="8001000" cy="40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63F8-B2A7-4DF0-8BC2-2FEEA9DC4CF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30AE5-192A-492F-809E-17B43AEF88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TS/CTS during CF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 to CFB for situations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Ps cannot hear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work as a channel probing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event collisions due to bursty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501-BD73-46F3-A93D-9BA3F6CA31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400B4-A22C-4481-AA3F-9DC49A4ECD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7000"/>
          </a:bodyPr>
          <a:p>
            <a:pPr marL="92520" indent="-9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+ CF-Ack + CF-Poll: not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S actually not updating ON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,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s actual “Duration” per 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f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-9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fg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9480" y="1752480"/>
          <a:ext cx="7620120" cy="28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7620120" cy="28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perations of RTS/CT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6FE-EEDC-4C64-B08D-EAA88ECA11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A3D67-5C63-4AD0-8D9A-D492D7891D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eedback System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reports existence of other BSSs and frame reception statistics to its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frames received (in err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S” and/or “From DS” frame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determine whether to use RTS/CTS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also to initiate a dynamic channel selection (00/195r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5D5E-3C08-4FF3-8672-7F714A9CD1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50170-F8F2-4378-B399-2DDCA35C26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ummary of Proposa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 of RTS/CTS in C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about when to use and its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of Overlapping NAV (ONA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with how to use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channel sensing during CF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first frame (of a CFB) and CF-poll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tion on channel sharing fairness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55A-9A27-47FF-AB23-665FE12E780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1312C-045C-4476-98F1-FB24FC2771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pen Questio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handle situation 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CFB nor RTS/CTS work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situation B via Dynamic Channel Selectio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ness iss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handle the fairness without explicit communication between 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1F0-6DEF-4945-8D9A-6647F45D47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7B8EF-7AE3-4100-95F8-6948F6489D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verlapping BSS Issue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from core .11e MAC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they are based on P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/proposed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channel selection (00/195r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sharing among overlapping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 correction/control and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sharing with feedback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Philips (00/108) and NWN (00/113) proposals presented in 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5E3-B369-482C-B749-6C6C268565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EE870-31B5-487C-8D94-3B6E2D2AEB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ree Overlapping Situatio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A: ST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not reachable from A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905120" y="2819520"/>
          <a:ext cx="5257800" cy="33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19520"/>
                    <a:ext cx="525780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905120" y="2819520"/>
          <a:ext cx="5257800" cy="33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819520"/>
                    <a:ext cx="5257800" cy="33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3B2E-C852-4D97-9C07-DF6D1DCC72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86700-2EDE-4956-8EB6-9956C793F2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ee Overlapping Situatio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B: ST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reachable from A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28800" y="2514600"/>
          <a:ext cx="472428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14600"/>
                    <a:ext cx="472428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905120" y="2768760"/>
          <a:ext cx="5314680" cy="393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768760"/>
                    <a:ext cx="531468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C452-5ACA-4730-ADB5-F23A84E5FD2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3A0B6-AF1F-4DA3-AB1A-1820407FA9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hree Overlapping Situatio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C: both APs are reachable to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05120" y="2533680"/>
          <a:ext cx="5029200" cy="38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533680"/>
                    <a:ext cx="502920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828800" y="2448000"/>
          <a:ext cx="5029200" cy="387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448000"/>
                    <a:ext cx="5029200" cy="38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C97D-3912-4AE2-8370-BC190D3ED2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33DF9-19B9-40BA-992E-B245956CA0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ecapture of NWN Proposa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ion-Free Burst (CFB) for situ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ment of Clause 9.3.3.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Duration/ID field of CF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62120" y="3048120"/>
            <a:ext cx="7619760" cy="2286000"/>
            <a:chOff x="762120" y="3048120"/>
            <a:chExt cx="7619760" cy="2286000"/>
          </a:xfrm>
        </p:grpSpPr>
        <p:sp>
          <p:nvSpPr>
            <p:cNvPr id="70" name=""/>
            <p:cNvSpPr/>
            <p:nvPr/>
          </p:nvSpPr>
          <p:spPr>
            <a:xfrm>
              <a:off x="762120" y="3048120"/>
              <a:ext cx="761976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82800" y="3476520"/>
              <a:ext cx="419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82800" y="3262320"/>
              <a:ext cx="3975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982800" y="4977000"/>
              <a:ext cx="2208240" cy="214200"/>
              <a:chOff x="982800" y="4977000"/>
              <a:chExt cx="2208240" cy="214200"/>
            </a:xfrm>
          </p:grpSpPr>
          <p:sp>
            <p:nvSpPr>
              <p:cNvPr id="74" name=""/>
              <p:cNvSpPr/>
              <p:nvPr/>
            </p:nvSpPr>
            <p:spPr>
              <a:xfrm>
                <a:off x="1203480" y="4977000"/>
                <a:ext cx="1987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eacon or CF-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982800" y="5012640"/>
                <a:ext cx="220680" cy="142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2970720" y="4977000"/>
              <a:ext cx="2208240" cy="214200"/>
              <a:chOff x="2970720" y="4977000"/>
              <a:chExt cx="2208240" cy="214200"/>
            </a:xfrm>
          </p:grpSpPr>
          <p:sp>
            <p:nvSpPr>
              <p:cNvPr id="77" name=""/>
              <p:cNvSpPr/>
              <p:nvPr/>
            </p:nvSpPr>
            <p:spPr>
              <a:xfrm>
                <a:off x="3191400" y="4977000"/>
                <a:ext cx="1987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tention Free Bur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970720" y="5012640"/>
                <a:ext cx="220680" cy="142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982800" y="3905280"/>
              <a:ext cx="71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82800" y="3619440"/>
              <a:ext cx="22068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03480" y="3619440"/>
              <a:ext cx="121464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95880" y="3619440"/>
              <a:ext cx="77292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68800" y="3619440"/>
              <a:ext cx="11016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87920" y="3619440"/>
              <a:ext cx="22068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08960" y="3619440"/>
              <a:ext cx="55188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18480" y="376236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5179320" y="4977000"/>
              <a:ext cx="1545840" cy="214200"/>
              <a:chOff x="5179320" y="4977000"/>
              <a:chExt cx="1545840" cy="214200"/>
            </a:xfrm>
          </p:grpSpPr>
          <p:sp>
            <p:nvSpPr>
              <p:cNvPr id="88" name=""/>
              <p:cNvSpPr/>
              <p:nvPr/>
            </p:nvSpPr>
            <p:spPr>
              <a:xfrm>
                <a:off x="5179320" y="5077080"/>
                <a:ext cx="22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400000" y="4977000"/>
                <a:ext cx="1325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FB Backof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982800" y="4762800"/>
              <a:ext cx="71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39520" y="4476960"/>
              <a:ext cx="22068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60200" y="4476960"/>
              <a:ext cx="121464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39520" y="3762360"/>
              <a:ext cx="0" cy="8571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18480" y="3619440"/>
              <a:ext cx="0" cy="100008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18480" y="461988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424520" y="4619880"/>
              <a:ext cx="993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82800" y="4405320"/>
              <a:ext cx="1656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ferred backo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74840" y="3762360"/>
              <a:ext cx="0" cy="8571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95880" y="3619440"/>
              <a:ext cx="0" cy="100008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39520" y="3762360"/>
              <a:ext cx="14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95880" y="4619880"/>
              <a:ext cx="883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79320" y="3476520"/>
              <a:ext cx="0" cy="114300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10520" y="3905280"/>
              <a:ext cx="0" cy="71424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10520" y="4476960"/>
              <a:ext cx="77292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83800" y="4476960"/>
              <a:ext cx="11016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79320" y="4619880"/>
              <a:ext cx="33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93960" y="3905280"/>
              <a:ext cx="0" cy="57132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39520" y="4334040"/>
              <a:ext cx="375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39520" y="4119480"/>
              <a:ext cx="37544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87920" y="3905280"/>
              <a:ext cx="0" cy="8571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82800" y="3476520"/>
              <a:ext cx="0" cy="1425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74840" y="376236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74840" y="461988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82800" y="3190680"/>
              <a:ext cx="9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SS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82800" y="4048200"/>
              <a:ext cx="9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S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93960" y="4119480"/>
              <a:ext cx="9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93960" y="4119480"/>
              <a:ext cx="9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85800" y="5486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S/CTS during CFP for situation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ips proposed the same in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970-5120-464E-8B52-BA468FBE85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6D7AD-0802-448D-95E7-E7615570C2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roblems of NWN Proposal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S/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not update NAV of STAs in overlapping BSSs in 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collision after defer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a CFB, BSSs can end back-off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sharing fai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SS may never grab the channel: blank 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D769-D27E-438E-B16F-14443BA14D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3F47BB-28B6-4BA9-B756-F268DA4D30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Enhanced CFB Mechanism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lapping Network Allocation Vector (ONA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channel sensing during CF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sharing fai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3CBC-0012-4A52-9358-6FA2972E8A3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703F0-D50F-4054-BC79-0CD4A935B4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verlapping NAV (ONAV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NAV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cy STAs w/ only N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STAs (ESTAs) w/ both NAV and ON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AV updated w/ same rule for NAV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frames from neighboring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 does not transmit/resp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ven with (CF-)ACK and 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NAV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PC (EPC) will contend for a CF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zero ONAV, even with non-zero N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60B-4A12-46AC-95DC-9BF389213E5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B483E-23CB-42BE-955C-A353C868A9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15:04:30Z</dcterms:created>
  <dc:creator>Sunghyun Choi, Philips Research</dc:creator>
  <dc:description>Sunghyun Choi, Philips Research-USA</dc:description>
  <dc:language>en-US</dc:language>
  <cp:lastModifiedBy>Sunghyun Choi</cp:lastModifiedBy>
  <cp:lastPrinted>1998-02-10T13:28:06Z</cp:lastPrinted>
  <dcterms:modified xsi:type="dcterms:W3CDTF">2000-09-20T02:01:01Z</dcterms:modified>
  <cp:revision>136</cp:revision>
  <dc:subject>Submissions</dc:subject>
  <dc:title>Collision Avoidance of IEEE 802.11e MAC in Overlapping BSSs</dc:title>
</cp:coreProperties>
</file>