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E44B-AEF4-4D38-9A9F-8197D2B9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BD6-0D8A-4AC9-B326-277D33A6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AACC-0DA6-4184-8EBA-67975073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E2B-B112-4BBE-9709-3C4D3161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00CC-842B-4F7E-B54A-2EC6C1FC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C9FE-FB5A-4EE5-A61D-1F1B9E03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D70-DE79-4608-863A-9BF28436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4B99-E918-4882-9DE8-BF9B696F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5FE-CCAD-437F-978E-E29453F2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450C-3C62-4820-9208-9366E3BE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9A5B-F81D-4EFD-BFE9-5AC8846D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A39-D232-435C-89E7-E684A59B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257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ka Kasslin and Antti Lappeteläinen, Nok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7ED3DAD-272B-4C29-8556-220A6FEAE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7621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mitter Power Control (TPC) for 802.11 WLAN - Rev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ka Kasslin and Antti Lappetelä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kia Research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818-B1B8-4B65-85AB-5755CC251D9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 format modifications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tion/ID field used to signa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+ CF-Poll, Data + CF-Ack + CF-Poll and CF-P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2280" y="3594240"/>
          <a:ext cx="9068040" cy="74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594240"/>
                    <a:ext cx="90680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990720" y="4329000"/>
          <a:ext cx="7238880" cy="214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329000"/>
                    <a:ext cx="7238880" cy="21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0A92-5BEB-4268-A1B4-3AE2B12D77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sting TxP in 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chanism to adjust AP's transmission power in a range of few decibels, e.g. 6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ly up to the manufacturer to decide how many power levels and which ones ar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B9CB-584F-4927-A75C-8B41503954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sting TxP in DL -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ments on a frame-by-frame base (i.e. in the beginning of the CF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 3 dB between consecutive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per limit (e.g. 9 dB) for the cumulative power changes over several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1A0F-94FA-483D-85DD-09058966FD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required in 5 GHz in CEP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up- and down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dB mi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tailored for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-specific power control for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power limitation for D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s to the existing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rules for TPC in 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E4EC-516C-4DDD-956D-991C75704CC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a TP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R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for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for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for D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format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D98-1774-4BF4-92F9-40F98E8B8E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 TP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LANs can be deployed in 5 GHz band in CEPT countries under certain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Radiocommunications Committee (ERC) decision ERC/DEC/(99)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limitations, indoor vs. indoor+out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mitter Power Control (T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Frequency Selection (DF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 power dissipation, system capacity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F29F-5CF5-47D1-9024-43A6480C9E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RC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ated b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50-5350 MHz for indoor use, mean EIRP limited to 2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70-5725 MHz for indoor and outdoor use, mean EIRP limited to 1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process requir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in up- and downlink to reduce the interference effect caused by RLANs under the coverage area of a 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nsure a mitigation factor of at least 3 dB on the average output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DC4F-D9E4-44B5-8F85-929521F849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schemes for CP and CF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mon power limit for 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-specific power limitation for CF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mainly to uplin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ownlink AP's transmission power has to be adju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beyond the scope of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ly slow adjustments with small steps prefe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5847-ADBC-45F4-9534-C2CF1A45C8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for CFP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control signals conveyed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040" indent="-4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aconTx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Beacon management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040" indent="-4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x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Poll data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17524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17524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97760" y="13716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400" y="13716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213372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95360" y="1801800"/>
            <a:ext cx="27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's transmission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95000" y="205740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roadcasted regul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057400" y="289548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57120" y="2575080"/>
            <a:ext cx="29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frame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94280" y="281952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"background"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380988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3400" y="3489480"/>
            <a:ext cx="33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-specific powe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51400" y="373392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unicast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981080"/>
            <a:ext cx="1066680" cy="838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P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981080"/>
            <a:ext cx="1067040" cy="838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P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120" y="2895480"/>
            <a:ext cx="1730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djust ow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eterm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-specif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0400" y="2879640"/>
            <a:ext cx="192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eterm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wn TxPow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_TxP + Co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36A-649B-443A-BB82-B602E44A82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for CFP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 determines its own transmission power "freely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cy requirements in the stand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x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B3D-9810-46ED-9024-64355F5EF3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for 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upper power li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aconTx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bea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adjustment needed also in IB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227016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227016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5520" y="188928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/1st 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92400" y="18892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265104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36360" y="2319480"/>
            <a:ext cx="36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/1st STA's transmission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95000" y="257508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roadcasted regul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98760"/>
            <a:ext cx="1066680" cy="8380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P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2498760"/>
            <a:ext cx="1067040" cy="8380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P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400" y="3413160"/>
            <a:ext cx="157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djust ow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60760" y="3397320"/>
            <a:ext cx="174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eterm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wn Tx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B6E5-701E-4BAA-9234-7156CB7F4DD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 format modifications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ew frame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ixed field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aconTx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beacon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5812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bout defin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aconTx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AP_TxP in HIPERLAN/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5-30 dBm covered by 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124080" y="3124080"/>
          <a:ext cx="6934320" cy="33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124080"/>
                    <a:ext cx="693432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649-F46C-4769-88D0-82F80EAB476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16:48:11Z</dcterms:created>
  <dc:creator>Mika Kasslin</dc:creator>
  <dc:description/>
  <dc:language>en-US</dc:language>
  <cp:lastModifiedBy>Mika Kasslin</cp:lastModifiedBy>
  <cp:lastPrinted>1998-02-10T13:28:06Z</cp:lastPrinted>
  <dcterms:modified xsi:type="dcterms:W3CDTF">2000-09-09T14:09:15Z</dcterms:modified>
  <cp:revision>31</cp:revision>
  <dc:subject/>
  <dc:title>Transmitter Power Control (TPC) for 802.11 WLAN</dc:title>
</cp:coreProperties>
</file>