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1F9-C727-4FE6-90AD-9D23E323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3EE-0BF7-4E4F-85A1-ECF116FC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338-BFA2-4E16-9F93-6B4FDD76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8DB-4C9C-4A98-ABA8-44DB6F5A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2AE-214B-467D-B255-EF3E7D44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2C0-2A2D-4376-A9F6-487BB01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E73-D155-4D9C-A25A-88294C45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696-63CA-4727-AB2E-592C55A7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8A2-6481-4F67-A3CA-9133B8B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3F8-89C9-4995-82B2-D550B3B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BB4-759A-45AF-AE1E-6E662F3C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FF0-189F-4BDF-B8B4-6A9ED98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a Kasslin and Antti Lappeteläinen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242D3B-2D32-4B26-A95A-AF286455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tter Power Control (TPC) for 802.11 WLAN - Rev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a Kasslin and Antti Lappetelä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155-F1F2-4A6D-88D4-1FC9A7977F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/ID field used to sign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+ CF-Poll, Data + CF-Ack + CF-Poll and CF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3594240"/>
          <a:ext cx="9068040" cy="74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94240"/>
                    <a:ext cx="90680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90720" y="4329000"/>
          <a:ext cx="7238880" cy="21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29000"/>
                    <a:ext cx="723888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F80-C609-4C81-9E1D-5DE75369D9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chanism to adjust AP's transmission power in a range of few decibels, e.g. 6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ly up to the manufacturer to decide how many power levels and which one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091-A243-48F1-8BA9-A413EDFCB1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ments on a frame-by-frame base (i.e. in the beginning of the CF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3 dB between consecutiv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imit (e.g. 9 dB) for the cumulative power changes over severa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D1E-9495-4FB7-9A4B-FA321233C8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required in 5 GHz in CEP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p- and down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B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tailored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control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power limitation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the existing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 for TPC in 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3C3-619F-4A2D-91E9-577DA74DB0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B9D-A33E-4CE5-AD92-8F9D11DD87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ANs can be deployed in 5 GHz band in CEPT countries under certai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adiocommunications Committee (ERC) decision ERC/DEC/(99)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limitations, indoor vs. indoor+out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ter Power Control (T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Frequency Selection (D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 power dissipation, system capacit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F1F-68E4-493E-9EDC-E1E0D4B692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50-5350 MHz for indoor use, mean EIRP limited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70-5725 MHz for indoor and outdoor use, mean EIRP limited to 1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process requi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in up- and downlink to reduce the interference effect caused by RLANs under the coverage area of a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a mitigation factor of at least 3 dB on the average output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47B-59D0-4B4E-AC88-B851CF332F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chemes for CP and C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ower limit for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limitation for 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mainly to up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ownlink AP's transmission power has to be adju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beyond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slow adjustments with small step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648-D2B2-4772-AF04-8741CE9BC6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ol signals convey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 managem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oll data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97760" y="13716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40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13372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95360" y="180180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000" y="205740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57400" y="28954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57120" y="25750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fram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4280" y="2819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"background"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3400" y="348948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powe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1400" y="37339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nica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106668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981080"/>
            <a:ext cx="106704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120" y="2895480"/>
            <a:ext cx="173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0400" y="2879640"/>
            <a:ext cx="192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_TxP + C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BD6-E7F9-4713-9033-012CF95E4E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its own transmission power "freel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requirements in the stand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BF5-FF18-40AE-8C4B-DEF87BFE37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pper pow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djustment needed also in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5520" y="18892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/1st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2400" y="1889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65104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6360" y="23194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/1st STA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5000" y="257508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98760"/>
            <a:ext cx="106668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498760"/>
            <a:ext cx="106704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400" y="3413160"/>
            <a:ext cx="15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0760" y="3397320"/>
            <a:ext cx="17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C28-FBA1-476F-AAB1-C95B7D9603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fram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ixed field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beac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5812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def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P_TxP in HIPERLAN/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5-30 dBm covered by 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24080" y="3124080"/>
          <a:ext cx="693432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4080"/>
                    <a:ext cx="693432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1B6-08E4-4B65-8A6E-08EC1399A7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6:48:11Z</dcterms:created>
  <dc:creator>Mika Kasslin</dc:creator>
  <dc:description/>
  <dc:language>en-US</dc:language>
  <cp:lastModifiedBy>Mika Kasslin</cp:lastModifiedBy>
  <cp:lastPrinted>1998-02-10T13:28:06Z</cp:lastPrinted>
  <dcterms:modified xsi:type="dcterms:W3CDTF">2000-09-09T14:09:15Z</dcterms:modified>
  <cp:revision>31</cp:revision>
  <dc:subject/>
  <dc:title>Transmitter Power Control (TPC) for 802.11 WLAN</dc:title>
</cp:coreProperties>
</file>