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149-0341-4216-8A3C-0991E81D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E7F-387C-4350-99ED-ECB4F284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7CB-F6E6-4BCE-B1E0-2900DD12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BAF-74F4-4B77-8AAE-EDAAF665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C85-97D9-416D-8F6C-12056AF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3FB-FA28-486E-AB22-DA7EB14B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95C-296D-49E3-9E1F-FC06E728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4D7-D6FA-445F-B692-D6926244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06C-F030-40E4-B86C-6ABAF8A5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43F-EF6E-495B-B770-460D62A6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D73-B558-4980-9390-67AB6766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BB0-01EF-428E-A29D-556A76AA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, et al, 3Com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16B570-5E89-49CB-99F3-0FB8CBE5E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63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6160" y="6446880"/>
            <a:ext cx="216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al for Extensible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ndards.ieee.org/regauth/oui/index.shtml" TargetMode="External"/><Relationship Id="rId2" Type="http://schemas.openxmlformats.org/officeDocument/2006/relationships/hyperlink" Target="http://standards.ieee.org/regauth/ethertype/index.html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for 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ing for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ert 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Ness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fu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ce Kend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3comlogo" descr=""/>
          <p:cNvPicPr/>
          <p:nvPr/>
        </p:nvPicPr>
        <p:blipFill>
          <a:blip r:embed="rId1"/>
          <a:stretch/>
        </p:blipFill>
        <p:spPr>
          <a:xfrm>
            <a:off x="6400800" y="4876920"/>
            <a:ext cx="2343240" cy="140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80B-E881-46BF-9CCE-6D149DB6E5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its of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 can adapt quickly to changes in the security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does not need to be changed for this reason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 can select the “correct”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both competition and interoperability within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DBE-2DCD-44D5-A8CA-E4A8A956EB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s of 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s the negotiation before authentication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authentication frame stay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new algorithm number for extensibl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basic format of Authentication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new information element to second and third authentication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independence of choice for all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significantly greater identifie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values are assigned independently to each O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B68-9ED3-46C2-87A9-2FC12E80E8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 the text in document 00/163 to define the Extensible Security algorithm, frame exchanges and Security Negotiation informatio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registration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nt must have an IEEE-assigned O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algorithm and handshake protocol details must be provided, including external referenc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xchange for providing registration services, IEEE gets right to publish details (preferably on web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a pointer to the registration web site in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898-0343-4F92-87C1-030A1EA3F4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ratio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registration process that allows anyone to petition the IEEE for a new value to be used in this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ly the same as the process used for OUI and Ethertype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standards.ieee.org/regauth/oui/index.s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standards.ieee.org/regauth/ethertype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 full disclosure of information to enable multi-vendor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464-B889-42DE-9828-3F29144E50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proposal to IEEE Registration Authority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o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should it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pecial procedures are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RAC meeting is at this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IEEE staff to implement the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4C1-771E-4891-BFFA-FDF021CDEE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one (or no more than two) algorithms for each algorith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the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 the registration information (OUI and algorithm number) in th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that the selected algorithms be implemented if the negotiated security option is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vides an immediate base for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C7A-960E-446B-A6FF-93F5D9C01D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To Be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lgorithms to be included in the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PICS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MIB stuff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640-258E-4B7A-8D76-97F1E72E56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e for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 a mechanism based on negotiation, rather than fixed requirements in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ongoing adaptability and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processes that encourage/enforce exchang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ne (or two) starting points using the new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DA9-5FB0-4645-8CFF-89842BFD46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enhancement of security for 802.11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rames exchanged during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edes actual authentication, but is part of authentication frame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fails unless successful security negotiation i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522-4140-412C-A316-D5444CD3BA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on 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1 (requester to respon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as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for authentication (algorithm =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2 (responder to reques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as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acceptabl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3 (requester to respon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accepted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AFD-2E96-4770-8E8B-52A70A6AB5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ity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970-F18D-4104-A693-75456AC6EA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ity Negotiation Information El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1828800"/>
            <a:ext cx="7313040" cy="4579920"/>
            <a:chOff x="990720" y="1828800"/>
            <a:chExt cx="7313040" cy="4579920"/>
          </a:xfrm>
        </p:grpSpPr>
        <p:grpSp>
          <p:nvGrpSpPr>
            <p:cNvPr id="58" name=""/>
            <p:cNvGrpSpPr/>
            <p:nvPr/>
          </p:nvGrpSpPr>
          <p:grpSpPr>
            <a:xfrm>
              <a:off x="999360" y="1830600"/>
              <a:ext cx="7294320" cy="4575960"/>
              <a:chOff x="999360" y="1830600"/>
              <a:chExt cx="7294320" cy="457596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999360" y="1830600"/>
                <a:ext cx="3646800" cy="254160"/>
                <a:chOff x="999360" y="1830600"/>
                <a:chExt cx="3646800" cy="2541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126080" y="18306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 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999360" y="18306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4646520" y="1830600"/>
                <a:ext cx="3646800" cy="254160"/>
                <a:chOff x="4646520" y="1830600"/>
                <a:chExt cx="3646800" cy="2541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773240" y="18306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ngt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646520" y="18306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999360" y="2084760"/>
                <a:ext cx="7294320" cy="254160"/>
                <a:chOff x="999360" y="2084760"/>
                <a:chExt cx="7294320" cy="2541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126080" y="208476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ey Validity Perio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99360" y="208476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999360" y="2338920"/>
                <a:ext cx="3646800" cy="254160"/>
                <a:chOff x="999360" y="2338920"/>
                <a:chExt cx="3646800" cy="2541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126080" y="2338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999360" y="2338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4646520" y="2338920"/>
                <a:ext cx="3646800" cy="254160"/>
                <a:chOff x="4646520" y="2338920"/>
                <a:chExt cx="3646800" cy="2541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4773240" y="2338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646520" y="2338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999360" y="2593080"/>
                <a:ext cx="3646800" cy="254160"/>
                <a:chOff x="999360" y="2593080"/>
                <a:chExt cx="3646800" cy="2541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126080" y="2593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999360" y="2593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4646520" y="2593080"/>
                <a:ext cx="3646800" cy="254160"/>
                <a:chOff x="4646520" y="2593080"/>
                <a:chExt cx="3646800" cy="2541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4773240" y="2593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646520" y="2593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999360" y="2847240"/>
                <a:ext cx="7294320" cy="254160"/>
                <a:chOff x="999360" y="2847240"/>
                <a:chExt cx="7294320" cy="2541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126080" y="284724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uthentic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999360" y="284724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999360" y="3101760"/>
                <a:ext cx="3646800" cy="254160"/>
                <a:chOff x="999360" y="3101760"/>
                <a:chExt cx="3646800" cy="2541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126080" y="31017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999360" y="31017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46520" y="3101760"/>
                <a:ext cx="3646800" cy="254160"/>
                <a:chOff x="4646520" y="3101760"/>
                <a:chExt cx="3646800" cy="2541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773240" y="31017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46520" y="31017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999360" y="3355920"/>
                <a:ext cx="3646800" cy="254160"/>
                <a:chOff x="999360" y="3355920"/>
                <a:chExt cx="3646800" cy="2541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126080" y="3355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999360" y="3355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46520" y="3355920"/>
                <a:ext cx="3646800" cy="254160"/>
                <a:chOff x="4646520" y="3355920"/>
                <a:chExt cx="3646800" cy="2541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773240" y="3355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46520" y="3355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999360" y="3610080"/>
                <a:ext cx="7294320" cy="254160"/>
                <a:chOff x="999360" y="3610080"/>
                <a:chExt cx="7294320" cy="2541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126080" y="361008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ivacy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999360" y="361008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999360" y="3864240"/>
                <a:ext cx="3646800" cy="254160"/>
                <a:chOff x="999360" y="3864240"/>
                <a:chExt cx="3646800" cy="2541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26080" y="3864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999360" y="3864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646520" y="3864240"/>
                <a:ext cx="3646800" cy="254160"/>
                <a:chOff x="4646520" y="3864240"/>
                <a:chExt cx="3646800" cy="254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773240" y="3864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646520" y="3864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999360" y="4118400"/>
                <a:ext cx="3646800" cy="254160"/>
                <a:chOff x="999360" y="4118400"/>
                <a:chExt cx="3646800" cy="254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126080" y="41184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999360" y="41184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46520" y="4118400"/>
                <a:ext cx="3646800" cy="254160"/>
                <a:chOff x="4646520" y="4118400"/>
                <a:chExt cx="3646800" cy="254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773240" y="41184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46520" y="41184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999360" y="4372560"/>
                <a:ext cx="7294320" cy="254160"/>
                <a:chOff x="999360" y="4372560"/>
                <a:chExt cx="7294320" cy="254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126080" y="437256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ey Establishment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99360" y="437256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999360" y="4627080"/>
                <a:ext cx="3646800" cy="254160"/>
                <a:chOff x="999360" y="4627080"/>
                <a:chExt cx="3646800" cy="254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126080" y="4627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9360" y="4627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46520" y="4627080"/>
                <a:ext cx="3646800" cy="254160"/>
                <a:chOff x="4646520" y="4627080"/>
                <a:chExt cx="3646800" cy="254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773240" y="4627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46520" y="4627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999360" y="4881240"/>
                <a:ext cx="3646800" cy="254160"/>
                <a:chOff x="999360" y="4881240"/>
                <a:chExt cx="3646800" cy="254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126080" y="4881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999360" y="4881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646520" y="4881240"/>
                <a:ext cx="3646800" cy="254160"/>
                <a:chOff x="4646520" y="4881240"/>
                <a:chExt cx="3646800" cy="2541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773240" y="4881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646520" y="4881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999360" y="5135400"/>
                <a:ext cx="7294320" cy="254160"/>
                <a:chOff x="999360" y="5135400"/>
                <a:chExt cx="7294320" cy="254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126080" y="513540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essage Authentic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9360" y="513540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999360" y="5389560"/>
                <a:ext cx="3646800" cy="254160"/>
                <a:chOff x="999360" y="5389560"/>
                <a:chExt cx="3646800" cy="254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126080" y="53895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9360" y="53895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646520" y="5389560"/>
                <a:ext cx="3646800" cy="254160"/>
                <a:chOff x="4646520" y="5389560"/>
                <a:chExt cx="3646800" cy="254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773240" y="53895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646520" y="53895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999360" y="5643720"/>
                <a:ext cx="3646800" cy="254160"/>
                <a:chOff x="999360" y="5643720"/>
                <a:chExt cx="3646800" cy="2541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126080" y="56437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999360" y="56437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646520" y="5643720"/>
                <a:ext cx="3646800" cy="254160"/>
                <a:chOff x="4646520" y="5643720"/>
                <a:chExt cx="3646800" cy="2541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773240" y="56437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646520" y="56437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999360" y="5898240"/>
                <a:ext cx="7294320" cy="254160"/>
                <a:chOff x="999360" y="5898240"/>
                <a:chExt cx="7294320" cy="254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126080" y="589824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b-key Deriv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99360" y="589824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999360" y="6152400"/>
                <a:ext cx="7294320" cy="254160"/>
                <a:chOff x="999360" y="6152400"/>
                <a:chExt cx="7294320" cy="254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126080" y="615240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…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99360" y="615240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" name=""/>
            <p:cNvSpPr/>
            <p:nvPr/>
          </p:nvSpPr>
          <p:spPr>
            <a:xfrm>
              <a:off x="990720" y="1828800"/>
              <a:ext cx="7313040" cy="4579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8F3-0C40-421E-840A-7ACE8E50A0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tor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7: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6: Depre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5: 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4: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3: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2: Key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1: Message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0: Sub-key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73C-83BE-45A3-BBE4-513D838807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Element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er se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acceptable key validity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cceptable algorithms, at least one of each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mark algorithms “preferred” and “depreca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r s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validity period no greater than that sent by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accepted algorithms, only one of each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899-FEF9-4943-A83F-6F78B8E552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r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step of the negotiation, success or failure is indicated in the status cod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as in current authenticatio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 can refuse to use negotiated security in 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r can refuse the offered algorithms in frame 3 (if one or more of the algorithm types does not have an acceptable cho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 can refuse requester’s choices in the first frame of the subsequent authentication handshake (fram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4AC-1869-404C-8D0B-C820FCFD97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2000-07-10T23:05:19Z</dcterms:modified>
  <cp:revision>53</cp:revision>
  <dc:subject/>
  <dc:title>00/163a Proposal for Extensible Security</dc:title>
</cp:coreProperties>
</file>