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C7F-07BE-42D5-B53C-F6AEBC82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1C8-8897-4EE4-848D-6D2A5AB5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30A-DB1C-4472-A369-0C6F7814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B46-C8D4-49C8-B1FE-4CB2D259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D5C-04E8-4BB9-8576-403CD629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EFC-0F5D-42D8-B160-38D46165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D39-A87F-4C2E-B5BD-0E96B79E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A71-37C4-47A0-8846-84E6AAC6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827-597B-449A-8F1F-F686FE4E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5D7-2B21-4EA9-8972-6B10AFC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965-9426-45E7-8A67-77E65FBE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BD4-2304-4F5C-AF5E-080D5D16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746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57680" y="6474960"/>
            <a:ext cx="2152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Kowalski, Sharp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B8E112-13EB-45CD-A31D-D95266AF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medi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 802.11 MAC Enhancemen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D83-6645-4B15-A78A-53C88B60D0B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media Synchronization and 802.11 MAC Enhancemen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tions for delay synchronization in SOHO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ed function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ks on submitted propos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C03-BD3A-4D31-8B52-6976F64E45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s for delay (1 of 2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significant to user/cont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  Physical layer FEC coding dela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 Any FEC added on at higher layers if significa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. Retransmit delays through the network(s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4. Delays to account for STA’s joining the net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622-8351-404F-86B4-0F3351F2C0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s for delay (2 of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6. Synchronization schemes, if possible, should enable new devices to join a network  in mid-transmission and during handof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7. Control applications that exist concurrently and interact with AV streaming should have low delay perceptible to the user. (SOHO video remote?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65F-7A63-46C3-BC68-CB5A822109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elay buffers can be assumed to  exist at terminal devices  in the network, and are  adjustable based on communication from the network .  For some kinds of traffic packets are timestamped.   Data need not be timestamped if synchronization is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084-A503-4185-ACA1-0910FE2469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communication of delays should be sent to a central point – for 802.11 applications we can assume this would be the  Point Coordinator- to determine the delay required for synchronizing all devi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A69-114F-4D68-A58F-EF6BAE066F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rks on submitted propos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rioritization based on 802.1q ta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LAN related delays need to be communicated at higher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arewave, 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ears to support requirem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ndoff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DEC-9C29-44F6-8869-8442FB31AB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rks on submitted 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lear how streaming synch can be supp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PP proposal doesn’t explicitly support communication of delay parameters.  (Consider source handing of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1D8-77DA-41F9-B3E3-B02D95C522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4:58:53Z</dcterms:created>
  <dc:creator>John Kowalski</dc:creator>
  <dc:description/>
  <dc:language>en-US</dc:language>
  <cp:lastModifiedBy>Harry R. Worstell</cp:lastModifiedBy>
  <cp:lastPrinted>1998-02-10T13:28:06Z</cp:lastPrinted>
  <dcterms:modified xsi:type="dcterms:W3CDTF">2000-05-08T18:34:10Z</dcterms:modified>
  <cp:revision>5</cp:revision>
  <dc:subject/>
  <dc:title>Multimedia Synchronization and 802.11 MAC Enhancements </dc:title>
</cp:coreProperties>
</file>