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CF8-E78B-4071-B4F5-C21AD35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F30-5A67-48A3-A24E-2A041FE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A60-FA06-49AD-A546-BA329A28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CA8-94DE-4F17-BF63-CB7176BB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F3C-DEC3-4DDC-A495-F45714DE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1EA-EA53-41E0-8886-85ABC63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F5A-09CC-4D7A-B4DA-A2340337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D41-FCB0-4C00-B516-36A77649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5FC-CB3A-472B-8D8D-355F5717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A3A-6400-4870-8708-17FAB9E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611-5C28-4014-8BED-45CD464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6F7-BAAD-458A-BA46-AE1C9B7F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B525DF-5BEB-4664-8E5C-80EB84DAC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5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800" y="6446880"/>
            <a:ext cx="137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ndards.ieee.org/regauth/oui/index.shtml" TargetMode="External"/><Relationship Id="rId2" Type="http://schemas.openxmlformats.org/officeDocument/2006/relationships/hyperlink" Target="http://standards.ieee.org/regauth/ethertype/ind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5C9-B945-4742-B72C-66139030AF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its of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can adapt quickly to changes in the security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does not need to be changed for this reason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can select the “correct”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both competition and interoperability within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375-FB95-485F-985A-2353E4ECD2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Merits of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nly the Authentication Algorithm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s needed to the Authentication 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likelihood of interoperability problems with existing 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AP performs only a single test to differentiate between the two current allowabl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easily provide a mechanism for selecting privacy algorithm or key length, without overloading the definition of this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3C0-7777-4C1F-BD96-7C03ABAF95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Merits of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efining the authentication algorithm number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s needed to the Authentication 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likelihood of interoperability problems with existing 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AP performs only a single test to differentiate between the two current allowabl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capability to select both privacy and authentication algorithms in the authentic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1A7-D0F6-4CD4-9272-6CF3D4A8CF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Merits of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new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basic format of Authentication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new information element to first (or each) Authentication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lihood of interoperability problem is slightly greater than with previou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ndependence of choice for both authentication and privacy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ignificantly greater identifi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values are assigned independently to each O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for the possibility that half of each identifier space can be reserved for “experimental” values that need not be reg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8C4-99D9-4437-B1F0-1A51F2A9C5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Authentication and Privacy information element, its fields, and its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registra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 must have an IEEE-assigned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algorithm and handshake protocol details must be provided, including external referenc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xchange for providing registration services, IEEE gets right to publish details (preferably on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a pointer to the registration web site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75F-5727-4B89-B02C-1FF1223371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posal to IEEE Registration Authority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o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it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pecial procedur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RAC meeting is at July 802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IEEE to implement th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7A0-6720-4745-BFFD-9436126820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oice of “best” security algorithms for authentication and privacy are not static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ly discovered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in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in process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ly discovered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opinions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789-9ED4-4B59-AF6D-B976BA47B0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ation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solution(s) based on current conditions and best estimates of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is fixed and generally in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 group (like us) to meet and accomplish the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, will not take less than 18-24 months to complet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95C-B01A-4E52-AC47-D4F5AE5795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mechanism(s) that are not rig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negotiation, rather than fixed requirements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ongoing adaptability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rocesses that encourage/enforce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ne (or two) starting points using the new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D3E-E7D0-432C-A2DC-D1CEEE1F1F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existing authentication algorithm numbe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fine the authentication algorithm numbe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the authentication frame format to add an informatio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9D5-C462-404C-96EA-BA6F645DF4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the Authentication Algorithm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egistration process that allows anyone to petition the IEEE for a new value to be used in thi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the same as the process used for OUI and Ethertype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standards.ieee.org/regauth/oui/index.s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standards.ieee.org/regauth/ethertype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ull disclosure of information to enable multi-vend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DAA-5487-448A-AFCC-8DF55A6B08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fine the Authentication Algorithm Number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ield to be the Security Algorithm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wo new sub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Algorithm Number, 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lgorithm Number, 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privacy algorithm to be 40-bit WEP only when authentication is not ope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133720"/>
            <a:ext cx="3352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133720"/>
            <a:ext cx="3429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BEE-150C-4053-8570-24FE1605B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New Information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single new value for the Authentication Algorithm field (say 2) that indicates that the new element is present, following the challeng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irst Authentication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 every Authentication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Information Element several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both the authentication algorithm and privacy algorithm, independ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key lengths for both privacy an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19B-649F-4262-BE96-FA0DFBCC8A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and Privacy Information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05120"/>
          <a:ext cx="7772400" cy="4572000"/>
        </p:xfrm>
        <a:graphic>
          <a:graphicData uri="http://schemas.openxmlformats.org/drawingml/2006/table">
            <a:tbl>
              <a:tblPr/>
              <a:tblGrid>
                <a:gridCol w="4876920"/>
                <a:gridCol w="289548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(oct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entication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entication Key 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ing OUI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cy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cy Key 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ing OUI-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F6B-B219-4AA3-932D-41A93E7B59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5-08T15:33:46Z</dcterms:modified>
  <cp:revision>39</cp:revision>
  <dc:subject/>
  <dc:title>00/065a Extensible Security</dc:title>
</cp:coreProperties>
</file>