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B18-4448-440D-A815-979A3188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E63-788F-4C0D-8C8D-0A5304D3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840-7313-4FC5-BC92-DBA392AC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DE4-76A2-4D06-897A-4DD4CBD2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93F6-99E5-4C29-8F37-7640482A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231-85BC-44DF-B406-FAEE3CC9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4F2F-D2F6-4FD5-A509-00C12DB3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8365-05F3-4BBB-9308-538A1547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A6E-BD1C-4653-BC90-190FB10C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912-05C6-4E5A-9FD9-3F5C1BEB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705-C536-4817-BE9C-BEA5CA68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2CF3-16BF-4CB7-A089-C06D3747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et 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32BF696-080B-4E0A-8F2A-F995FF4A7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720" y="6446880"/>
            <a:ext cx="139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in an IAP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Be in an IAP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Technology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t_col" descr=""/>
          <p:cNvPicPr/>
          <p:nvPr/>
        </p:nvPicPr>
        <p:blipFill>
          <a:blip r:embed="rId1"/>
          <a:stretch/>
        </p:blipFill>
        <p:spPr>
          <a:xfrm>
            <a:off x="6705720" y="4572000"/>
            <a:ext cx="1773000" cy="184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00A5-D4CE-410E-A862-CFF4A724B12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Submission on IA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4/17 – The Provisions Required for Handoff, Wim Diepstr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5/188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Far Should an ESS Ext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, Michael Fis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6/108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 Inter Access Point Protocol (IAPP) Specif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m Diepstraten and Mike Trom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EFF-A19B-4DC1-B6FF-6265396A26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4/17 – Provisions for Hand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P must inform old AP when a station reassoci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P must inform DS of the new location of the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AP may forward buffered frames for reassociating station to new 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478-90E1-4533-A63C-C02D8AEFE7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5/188 ESS Ex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s mostly with the definition of and extended service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s that an ESS comprise only layer 2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s “More Extended Service Set (MESS)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s that this be used for any ESS including items above lay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es that an IAPP would be a fruitful area to standard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275-29CC-42C8-8D17-5F46FE0B7F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6/108 Draft IAPP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two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ounce protocol prov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cation of active 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 announcement of capabilities and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 “heartbea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d management and configuration of 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over protocol prov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fication of old AP that a station is reassociating with a new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of layer 2 DS devices to properly forward frames to reassociating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proprietary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3366-B1CB-4098-800F-9B30AADC2F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6/108 Draft IAPP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 and handover protocol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BS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station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PP capabilities and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ic announce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stale-ou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over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con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3AE-6E77-4878-99AA-1065563F6B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Be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IAP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andover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es association with old 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s layer 2 DS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for optional forwarding of buffered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47F-27CA-41A5-8A45-B94EC07190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Might Be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IAP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d AP configuration/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 of APs in an 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 2 on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of basic AP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of “no touch” out-of-box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configuration of one A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 “heartbea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be useful if there is a way to integrate it with standard network management cons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14C3-4C8E-47B3-B1F7-2E09DD8A4B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Harry R. Worstell</cp:lastModifiedBy>
  <cp:lastPrinted>1998-02-10T13:28:06Z</cp:lastPrinted>
  <dcterms:modified xsi:type="dcterms:W3CDTF">2000-05-16T01:41:30Z</dcterms:modified>
  <cp:revision>48</cp:revision>
  <dc:subject/>
  <dc:title>00/064a What Should Be In An IAPP?</dc:title>
</cp:coreProperties>
</file>