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. 2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51E746B-1881-4F31-972D-0CA7CB9704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8F354-31C8-46D8-AECE-2A420C4227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4571640"/>
            <a:ext cx="8610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e WLAN-QoS when RSVP-rsv-req is received from a wired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the stream and release the bandwidth when RSVP-error or tear-down messag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627280" y="24703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71840" y="2832120"/>
            <a:ext cx="484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15600" y="28764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70120" y="252900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723760" y="2571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7640" y="1760400"/>
            <a:ext cx="271440" cy="3002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33640" y="21240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27560" y="156528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32280" y="1820880"/>
            <a:ext cx="16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88800" y="1862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41920" y="25909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33960" y="30654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88000" y="264960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41640" y="26924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057560" y="3471840"/>
            <a:ext cx="1196640" cy="603000"/>
            <a:chOff x="4057560" y="3471840"/>
            <a:chExt cx="1196640" cy="603000"/>
          </a:xfrm>
        </p:grpSpPr>
        <p:sp>
          <p:nvSpPr>
            <p:cNvPr id="994" name=""/>
            <p:cNvSpPr/>
            <p:nvPr/>
          </p:nvSpPr>
          <p:spPr>
            <a:xfrm>
              <a:off x="4111560" y="34718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7560" y="383580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16600" y="38800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6920" y="35308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15600" y="3573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716120" y="258768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1200" y="247032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5120" y="26161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441520" y="1523880"/>
            <a:ext cx="1910880" cy="1185480"/>
            <a:chOff x="2441520" y="1523880"/>
            <a:chExt cx="1910880" cy="1185480"/>
          </a:xfrm>
        </p:grpSpPr>
        <p:sp>
          <p:nvSpPr>
            <p:cNvPr id="1003" name=""/>
            <p:cNvSpPr/>
            <p:nvPr/>
          </p:nvSpPr>
          <p:spPr>
            <a:xfrm>
              <a:off x="4347360" y="1523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36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2504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1352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0236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91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81120" y="1523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6996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5844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4728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612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460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1308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0192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9076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924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6808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5692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45400" y="1528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34240" y="153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22720" y="1530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156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0004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8888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77720" y="153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66200" y="1535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5040" y="1538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43520" y="1538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3236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2120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0968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9852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87000" y="1545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975840" y="1548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4320" y="1548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316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4200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30480" y="155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19320" y="155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0780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9664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85120" y="156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7396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86280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51280" y="1565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40120" y="1568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28600" y="1569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19600" y="157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08440" y="1575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796920" y="1577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85760" y="158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74600" y="1582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63080" y="158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51920" y="1587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740400" y="1589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29240" y="1592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17720" y="1594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06560" y="159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95400" y="1599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85680" y="1602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74160" y="16045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662640" y="1607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51480" y="1612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40320" y="1614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28800" y="161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17640" y="1619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06480" y="162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94960" y="1627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85960" y="162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4440" y="163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63280" y="1637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52120" y="1639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0600" y="164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29440" y="1647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19360" y="1649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08200" y="165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97040" y="165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85520" y="1662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74360" y="1663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65360" y="1668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3840" y="167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42680" y="1676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31160" y="1678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0000" y="1683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10280" y="168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98760" y="1693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7600" y="169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6440" y="1701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7440" y="17067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55920" y="1708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44400" y="1713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34680" y="1718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23520" y="172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12360" y="1728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00840" y="1733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91840" y="173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80680" y="1743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69160" y="174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59440" y="1752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48280" y="1757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8920" y="1762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27760" y="1767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16600" y="1772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06520" y="1777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195360" y="178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83840" y="179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4840" y="17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63680" y="180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53960" y="18054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42440" y="1812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33440" y="181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1920" y="1821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12200" y="183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01040" y="183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92040" y="184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80880" y="184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70800" y="185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59640" y="185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50640" y="1866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40560" y="187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29400" y="1879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20400" y="1886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08880" y="189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99160" y="1899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990160" y="190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79000" y="1910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68920" y="1919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59920" y="1926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50200" y="193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9040" y="194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0040" y="194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19960" y="1955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10960" y="196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01240" y="1970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89720" y="1978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80720" y="198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71000" y="1992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2000" y="2000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52280" y="2009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3280" y="2017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33560" y="2024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24200" y="203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14480" y="204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05480" y="204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95760" y="205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86760" y="2067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79200" y="207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69480" y="2086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60120" y="2093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50400" y="21038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42840" y="2113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33840" y="212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4120" y="213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716560" y="214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07560" y="215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97840" y="2161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0280" y="21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82720" y="218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73720" y="219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66160" y="220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56080" y="2210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48520" y="2220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40960" y="2232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33400" y="224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24400" y="2252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6840" y="2261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9280" y="22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22867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95600" y="229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88400" y="2309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80840" y="23194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73280" y="233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67880" y="23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60320" y="235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52760" y="2365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7000" y="237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39440" y="2390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34040" y="240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27920" y="241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22880" y="2428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16400" y="2440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11360" y="245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5240" y="2467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99840" y="247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94080" y="249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88680" y="250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85080" y="251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81120" y="253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75360" y="254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71400" y="256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67800" y="257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63840" y="258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60240" y="260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56280" y="2615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52680" y="263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451240" y="2645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47280" y="266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45120" y="2675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43680" y="2689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41520" y="270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435400" y="2716200"/>
            <a:ext cx="1750320" cy="1403280"/>
            <a:chOff x="2435400" y="2716200"/>
            <a:chExt cx="1750320" cy="1403280"/>
          </a:xfrm>
        </p:grpSpPr>
        <p:sp>
          <p:nvSpPr>
            <p:cNvPr id="1204" name=""/>
            <p:cNvSpPr/>
            <p:nvPr/>
          </p:nvSpPr>
          <p:spPr>
            <a:xfrm>
              <a:off x="2441520" y="271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439000" y="2730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37560" y="274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437560" y="276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35400" y="2775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35400" y="2790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5400" y="2805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35400" y="2819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35400" y="2834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5400" y="2849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35400" y="2864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7560" y="2879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7560" y="2894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39000" y="2908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41520" y="2923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2960" y="2938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45120" y="295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46560" y="296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50520" y="2982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52680" y="2995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56280" y="301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58080" y="30254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61680" y="3040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65640" y="305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69240" y="306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72840" y="308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78960" y="309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482560" y="310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6520" y="312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1920" y="3135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97680" y="3148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01640" y="3160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06680" y="3173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3160" y="3188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518200" y="3200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24320" y="321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29720" y="3224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36920" y="3237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43040" y="3249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48440" y="326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56000" y="327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61760" y="328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69320" y="329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6880" y="3309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2280" y="3321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89840" y="33336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97400" y="3343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04960" y="335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12520" y="3366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0080" y="337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27640" y="3388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35200" y="339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44920" y="3410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52120" y="342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0040" y="3430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7600" y="3440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76600" y="345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84160" y="346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93880" y="347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01440" y="348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10440" y="3492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18000" y="3499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727720" y="350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36720" y="3519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4280" y="3529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54000" y="3536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63360" y="354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70560" y="355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80640" y="3564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89640" y="3574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99360" y="3580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808360" y="3590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818080" y="3598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27080" y="360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37160" y="3615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46160" y="362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55880" y="3633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64880" y="3639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74600" y="364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83600" y="365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93680" y="366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02680" y="3669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912400" y="367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23560" y="368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32920" y="369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42640" y="369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51640" y="370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62800" y="3714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972880" y="372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981520" y="3728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91600" y="3737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0276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11760" y="3748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021480" y="3756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33000" y="3761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2000" y="376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53160" y="377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63240" y="3781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72240" y="3788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83400" y="379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93120" y="380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04640" y="3806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13640" y="3813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24800" y="3818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3488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46040" y="3830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55040" y="3835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166560" y="3840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77720" y="3845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7440" y="385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198600" y="385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07600" y="386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1912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30640" y="3872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4036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5152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6052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71680" y="389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83200" y="389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9292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044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31560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26760" y="391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36120" y="392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47280" y="3926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58440" y="3931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6852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79680" y="3939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90840" y="3944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402360" y="3949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1136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422520" y="3956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34040" y="3961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45200" y="3964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54920" y="396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664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77600" y="397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48876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00280" y="3984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509280" y="3985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20440" y="3990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53196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43120" y="399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554640" y="400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565800" y="400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75520" y="400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866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98200" y="401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09720" y="401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2088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632040" y="402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43560" y="4025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654720" y="4030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63720" y="4033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674880" y="4035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86400" y="4038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9792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9080" y="404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20240" y="4045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31760" y="4048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42920" y="4050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54080" y="4053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65600" y="4055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7532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8648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98000" y="4063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0916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2032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43360" y="407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4520" y="4075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568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7720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88360" y="4079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9520" y="408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1104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92220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33720" y="4087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94488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5604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7560" y="409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79080" y="40946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990240" y="4094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9924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1040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2192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308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4424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55760" y="4102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66920" y="410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8440" y="410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960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0112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1228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2344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34960" y="4109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6120" y="411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764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880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996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191120" y="3132000"/>
            <a:ext cx="2020320" cy="992160"/>
            <a:chOff x="4191120" y="3132000"/>
            <a:chExt cx="2020320" cy="992160"/>
          </a:xfrm>
        </p:grpSpPr>
        <p:sp>
          <p:nvSpPr>
            <p:cNvPr id="1405" name=""/>
            <p:cNvSpPr/>
            <p:nvPr/>
          </p:nvSpPr>
          <p:spPr>
            <a:xfrm>
              <a:off x="41911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2022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1344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2496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361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476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588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699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2814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926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04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153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268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380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49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606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718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83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945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060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172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28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4398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510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2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737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848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640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07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1908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3024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41760" y="411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5292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6408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7560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86760" y="4107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9792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0944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2096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3212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4328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5480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5960" y="4099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77120" y="4099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88640" y="409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70016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11320" y="409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2248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400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45160" y="408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5632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6784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79000" y="408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9052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0168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13200" y="4079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24360" y="4077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3408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4560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56760" y="4072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67920" y="406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7944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9060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02120" y="406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13280" y="406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924800" y="4057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35960" y="40550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47120" y="405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58640" y="4050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69800" y="404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78800" y="4044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90320" y="4043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0148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13000" y="4038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24160" y="403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35680" y="403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46840" y="4028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58000" y="4025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069520" y="4023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7924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90400" y="401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01920" y="401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1130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24600" y="400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135760" y="400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47280" y="4000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156280" y="399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6744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78960" y="399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90120" y="3985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01280" y="398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21100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22520" y="397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340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245200" y="396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56360" y="396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65360" y="395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76880" y="3956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8804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299200" y="3946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309280" y="3941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20440" y="3939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33196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3120" y="392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352120" y="3924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363640" y="391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4800" y="3916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8452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60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0720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8720" y="3897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27720" y="389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3888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4860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6012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71280" y="387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8028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91800" y="386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02960" y="3855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512680" y="3850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24200" y="384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33200" y="38408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44720" y="3832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54440" y="3827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6560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74600" y="3816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86120" y="381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595840" y="380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07000" y="3798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616000" y="3791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627520" y="3786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637240" y="377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48400" y="3773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657760" y="376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67480" y="3762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8640" y="375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687640" y="374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9772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08880" y="3733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17880" y="372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27600" y="3719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39120" y="371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48120" y="3704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57840" y="3697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766840" y="369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778360" y="3682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88080" y="3674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97080" y="366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806800" y="366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15800" y="3653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25520" y="3645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34880" y="3638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44600" y="362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53600" y="3620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63320" y="361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72680" y="3605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82400" y="3596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91400" y="3588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01120" y="3579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10120" y="3571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20200" y="3561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28840" y="35546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36760" y="354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46480" y="3534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55480" y="352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63040" y="351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72760" y="350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81760" y="349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89320" y="3487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99400" y="3477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06960" y="3467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015960" y="3457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23520" y="3447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30720" y="3438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40800" y="3427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48000" y="3416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55560" y="340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63120" y="339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072120" y="3386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79680" y="3373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087600" y="3363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93360" y="335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00920" y="334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08480" y="3329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16040" y="3317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3600" y="330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29000" y="329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36560" y="3282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43760" y="3270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50240" y="325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55280" y="3245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62840" y="3233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68960" y="3220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74360" y="320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80120" y="319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85520" y="3184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91640" y="317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96680" y="315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202800" y="31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06400" y="3132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4670280" y="1541520"/>
            <a:ext cx="1595160" cy="1582200"/>
            <a:chOff x="4670280" y="1541520"/>
            <a:chExt cx="1595160" cy="1582200"/>
          </a:xfrm>
        </p:grpSpPr>
        <p:sp>
          <p:nvSpPr>
            <p:cNvPr id="1606" name=""/>
            <p:cNvSpPr/>
            <p:nvPr/>
          </p:nvSpPr>
          <p:spPr>
            <a:xfrm>
              <a:off x="6209280" y="3115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14680" y="3104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218280" y="308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24400" y="307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28360" y="306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231960" y="3047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233400" y="3035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37000" y="3020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40960" y="300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43120" y="299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47080" y="297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8520" y="296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250680" y="2948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52480" y="2933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4640" y="2918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56080" y="290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58240" y="2889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258240" y="2874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59680" y="2859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9680" y="284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59680" y="2829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59680" y="2814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259680" y="2800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59680" y="2785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259680" y="2770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58240" y="275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8240" y="27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56080" y="2725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54640" y="2711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52480" y="2696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50680" y="2681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47080" y="26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44920" y="2655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243120" y="2640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9520" y="2625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35920" y="261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31960" y="259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228360" y="258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24400" y="2568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20440" y="2556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16840" y="2541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12880" y="2528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07120" y="2513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03160" y="25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8120" y="248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192000" y="247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86600" y="246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0840" y="244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75440" y="2435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69320" y="24231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64280" y="2410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58160" y="2398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50600" y="2385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45200" y="2373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37640" y="236088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31520" y="23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124320" y="23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18920" y="2325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11136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103800" y="230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96240" y="22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88680" y="2281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81120" y="2269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73920" y="22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66000" y="224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58440" y="2237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50880" y="2227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041160" y="2217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33960" y="2205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26400" y="2195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17400" y="2185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09840" y="217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99760" y="2166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92200" y="215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984640" y="214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75640" y="213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65920" y="2128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58360" y="2118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49360" y="2108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939640" y="2099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930640" y="209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23080" y="208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13360" y="2074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04000" y="206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94280" y="2057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85280" y="204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75560" y="2040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66560" y="203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56840" y="2023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47840" y="201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37760" y="20052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28760" y="19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19040" y="199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10040" y="198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00320" y="197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91320" y="1968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81600" y="1960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770080" y="1954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61080" y="194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51360" y="1939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42000" y="193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30840" y="192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721120" y="191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12120" y="1909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02400" y="19015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690880" y="189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81880" y="188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70720" y="1881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61000" y="187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651640" y="186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40480" y="1862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30760" y="1857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19240" y="1850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10600" y="184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99080" y="183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89360" y="1832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77840" y="1827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68840" y="1820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557680" y="181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47960" y="1810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36440" y="1802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27440" y="1797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16280" y="1793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06560" y="1788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95040" y="178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483880" y="1776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474880" y="1771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463360" y="1766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453640" y="1761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42480" y="1756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30960" y="175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21960" y="174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410800" y="1741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399280" y="173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89560" y="1731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378400" y="1726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366880" y="1721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357880" y="171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346720" y="1712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335200" y="170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24040" y="1704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14320" y="16992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02800" y="1697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91640" y="1692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280480" y="168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271480" y="1682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259960" y="1679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48800" y="167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37640" y="167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26120" y="1667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216400" y="1664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04880" y="165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93720" y="1654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82560" y="165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71040" y="1648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62040" y="164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50880" y="164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39360" y="163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128200" y="163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17040" y="163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05520" y="16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95800" y="162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84640" y="1623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73120" y="162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61960" y="1615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050440" y="161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39280" y="161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028120" y="1608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016600" y="160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5440" y="1600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96440" y="159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84920" y="1595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73760" y="159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962240" y="159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51080" y="158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39920" y="158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28760" y="158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7240" y="158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905720" y="157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894560" y="157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8340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7188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62160" y="157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51000" y="156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39480" y="1566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28320" y="156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1716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0564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94480" y="155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78332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7180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60640" y="155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749120" y="1551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3796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2680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1528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0412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92960" y="1544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681440" y="1544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670280" y="1541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4659480" y="1538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646520" y="1538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635360" y="153684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2456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1340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602240" y="153360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591080" y="153360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57992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56876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556160" y="153180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54500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53384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2268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51152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0072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8956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47840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65800" y="152712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5464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4348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323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211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0000" y="15238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39884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38768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37508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639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3527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34000" y="16430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54880" y="262260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913360" y="275436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0360" y="2709720"/>
            <a:ext cx="2622240" cy="117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32160" y="237348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488C0-CFD1-4D9C-90C5-68D34A1625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6160" y="1295280"/>
            <a:ext cx="726588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1 (RSV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nd thei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s i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negoti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27DCA-BA5D-4D9D-AAD2-5E49E67858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39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as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0DA57-73DB-4AE9-B272-0E0B1FB1D6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QoS over 802.11-WLAN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the outside connection (or renegotiates the Qos)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053A6-366E-49BB-A8C5-0331952429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1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56080" y="3533760"/>
            <a:ext cx="598680" cy="596520"/>
            <a:chOff x="3556080" y="3533760"/>
            <a:chExt cx="598680" cy="596520"/>
          </a:xfrm>
        </p:grpSpPr>
        <p:sp>
          <p:nvSpPr>
            <p:cNvPr id="54" name=""/>
            <p:cNvSpPr/>
            <p:nvPr/>
          </p:nvSpPr>
          <p:spPr>
            <a:xfrm>
              <a:off x="3613680" y="353376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56080" y="389484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4400" y="393804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60480" y="359244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7720" y="363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02480" y="2827440"/>
            <a:ext cx="288720" cy="2966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43440" y="318780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97180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0000" y="2886120"/>
            <a:ext cx="181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09760" y="29289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0320" y="376380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412596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0320" y="413064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27840" y="382284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4720" y="3865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5400" y="4532400"/>
            <a:ext cx="1198080" cy="600120"/>
            <a:chOff x="5135400" y="4532400"/>
            <a:chExt cx="1198080" cy="600120"/>
          </a:xfrm>
        </p:grpSpPr>
        <p:sp>
          <p:nvSpPr>
            <p:cNvPr id="70" name=""/>
            <p:cNvSpPr/>
            <p:nvPr/>
          </p:nvSpPr>
          <p:spPr>
            <a:xfrm>
              <a:off x="5193000" y="453240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35400" y="489456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95880" y="494064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1240" y="459108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99920" y="463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44920" y="3651120"/>
            <a:ext cx="395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200" y="351144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5680" y="365760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08480" y="2590920"/>
            <a:ext cx="4075920" cy="2590560"/>
            <a:chOff x="3408480" y="2590920"/>
            <a:chExt cx="4075920" cy="2590560"/>
          </a:xfrm>
        </p:grpSpPr>
        <p:grpSp>
          <p:nvGrpSpPr>
            <p:cNvPr id="79" name=""/>
            <p:cNvGrpSpPr/>
            <p:nvPr/>
          </p:nvGrpSpPr>
          <p:grpSpPr>
            <a:xfrm>
              <a:off x="3416400" y="2590920"/>
              <a:ext cx="2032560" cy="1180440"/>
              <a:chOff x="3416400" y="2590920"/>
              <a:chExt cx="2032560" cy="1180440"/>
            </a:xfrm>
          </p:grpSpPr>
          <p:sp>
            <p:nvSpPr>
              <p:cNvPr id="80" name=""/>
              <p:cNvSpPr/>
              <p:nvPr/>
            </p:nvSpPr>
            <p:spPr>
              <a:xfrm>
                <a:off x="5443560" y="259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31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19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0756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95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83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73000" y="2590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61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4924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700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25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1288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100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876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688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6500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5276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4088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28640" y="2595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760" y="2597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04520" y="259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9264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8076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6852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56640" y="260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44400" y="2602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32520" y="2605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20640" y="260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0840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9652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8428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72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0160" y="261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8280" y="261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36400" y="2615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416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1228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00400" y="262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88160" y="262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7592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404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2160" y="2627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3992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804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16160" y="263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39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91680" y="263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82320" y="2639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7008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58200" y="2644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4632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3408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22200" y="2651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10320" y="2654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808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8584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7396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6208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49840" y="2666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39760" y="2669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7520" y="2671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15280" y="2674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03400" y="2679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91520" y="26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79280" y="268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67400" y="2685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55520" y="268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3280" y="2694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33560" y="269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2168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9440" y="270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97560" y="270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8568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440" y="2713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63000" y="271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1120" y="2720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8880" y="2723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27000" y="272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15120" y="273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05400" y="2735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9316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8128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69040" y="274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7160" y="275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6720" y="2755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34840" y="2759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22600" y="2763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0720" y="276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01000" y="27727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876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76880" y="2779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6440" y="2784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54560" y="27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2680" y="2794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30440" y="279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21080" y="280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08840" y="2809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96600" y="281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86520" y="281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74280" y="282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4560" y="282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52680" y="2833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40800" y="283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30000" y="28436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18120" y="2848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6240" y="2856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9652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84640" y="286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74200" y="2871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1960" y="2877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52600" y="2882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40360" y="2887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29920" y="289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18040" y="290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8320" y="290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96440" y="29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86000" y="2917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73760" y="2925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64400" y="2932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53600" y="2937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41720" y="294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2000" y="295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2012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9680" y="296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99960" y="2971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88080" y="2976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77640" y="2984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6792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57480" y="299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45600" y="300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35880" y="301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5440" y="302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15720" y="3028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05280" y="3035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3400" y="3043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3680" y="305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73240" y="3058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63520" y="3065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53440" y="307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43720" y="3083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33280" y="308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23560" y="3099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3120" y="3107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3400" y="311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92960" y="3124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83600" y="313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75320" y="314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65240" y="315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55520" y="3158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44720" y="3168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36800" y="3178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27080" y="3186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17000" y="3196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08720" y="320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9360" y="321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88920" y="322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1000" y="323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72720" y="324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63360" y="3255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55080" y="3264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4464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36720" y="3284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28800" y="329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20520" y="3306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11160" y="3315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02880" y="332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9496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88480" y="3350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80560" y="336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72280" y="337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64360" y="3382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56440" y="339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50680" y="3407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2760" y="3417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34840" y="342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28360" y="3441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20440" y="345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514680" y="346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08560" y="3478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0280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6320" y="3503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0920" y="351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84080" y="3530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78680" y="3542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7220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6440" y="356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62480" y="3581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8520" y="3596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2400" y="360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48080" y="362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44120" y="363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40160" y="365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36200" y="366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32240" y="367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8280" y="3693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26480" y="37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252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20360" y="373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18560" y="375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6400" y="376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408480" y="3778560"/>
              <a:ext cx="1862640" cy="1397520"/>
              <a:chOff x="3408480" y="3778560"/>
              <a:chExt cx="1862640" cy="1397520"/>
            </a:xfrm>
          </p:grpSpPr>
          <p:sp>
            <p:nvSpPr>
              <p:cNvPr id="281" name=""/>
              <p:cNvSpPr/>
              <p:nvPr/>
            </p:nvSpPr>
            <p:spPr>
              <a:xfrm>
                <a:off x="3414960" y="3778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12440" y="379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11000" y="380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1000" y="382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3837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385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386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388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08480" y="3896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08480" y="3911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08480" y="3926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1000" y="394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100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2440" y="3970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4960" y="3985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6400" y="3999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18920" y="401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360" y="402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4320" y="404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6840" y="405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30800" y="407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32600" y="408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36560" y="410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40520" y="4113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44480" y="412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48440" y="414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4920" y="415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58880" y="4170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62840" y="418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68600" y="4196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7472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9040" y="4221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84440" y="4234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0920" y="424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96680" y="4260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03160" y="427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8560" y="4285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16840" y="429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22960" y="430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28720" y="4322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36640" y="4334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43120" y="434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51040" y="435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58960" y="4368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4720" y="4381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72640" y="439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80560" y="4403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88840" y="441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96760" y="4426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05040" y="443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12960" y="444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20880" y="4457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31320" y="44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9240" y="4480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47520" y="449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5440" y="45000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160" y="4509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73080" y="4519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83520" y="4531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91440" y="454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1160" y="4551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09080" y="4559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19520" y="456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9240" y="4578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37160" y="4588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47600" y="4595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7320" y="4605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65240" y="461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7568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85400" y="4632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95840" y="4639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05200" y="4649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16000" y="4657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25360" y="466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5800" y="4674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45520" y="468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55960" y="4691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65680" y="4698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5760" y="470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5480" y="4713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9628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05640" y="4728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16080" y="473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27960" y="474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37680" y="475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48120" y="475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57840" y="4765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69720" y="477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80160" y="478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89880" y="478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00320" y="4795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12200" y="4800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21920" y="4806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32360" y="4815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44240" y="481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53960" y="4826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65840" y="4834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766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4846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98240" y="4851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08680" y="485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0560" y="486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30280" y="4870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42160" y="487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52600" y="4880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64840" y="4888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74200" y="4893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86440" y="489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8320" y="4903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08760" y="4910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20640" y="4915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30360" y="4920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2600" y="492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54480" y="493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64920" y="4934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76800" y="493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6520" y="494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98760" y="4952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10640" y="495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21080" y="495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33320" y="496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5200" y="496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57080" y="497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66800" y="497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78680" y="498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90920" y="498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01360" y="499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13240" y="4997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25480" y="5001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37360" y="5006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7080" y="500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58960" y="5013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71200" y="5018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3080" y="5021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93520" y="502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05760" y="502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1764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29520" y="5036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41760" y="5041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51120" y="5043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63360" y="5048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75600" y="505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87480" y="505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99360" y="5058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11600" y="506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21680" y="5065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33920" y="506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46160" y="507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58040" y="507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69920" y="5077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82160" y="5080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94040" y="5082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920" y="5087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15640" y="5090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27520" y="509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9760" y="509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2000" y="5097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63880" y="5100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75760" y="5102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88000" y="5105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99880" y="510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11760" y="5110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24000" y="5112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344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4632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8560" y="5119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044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82320" y="5124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94560" y="512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06800" y="513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18680" y="5131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3056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4280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54680" y="513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6656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7880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9068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02920" y="514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1480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2668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38920" y="514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51160" y="5151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63040" y="515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7276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8464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9652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0876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20640" y="515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32880" y="5159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44760" y="5161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57000" y="5161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6888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8076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9300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04880" y="5166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6760" y="5166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9000" y="5169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124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12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500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277240" y="4192200"/>
              <a:ext cx="2148840" cy="989280"/>
              <a:chOff x="5277240" y="4192200"/>
              <a:chExt cx="2148840" cy="989280"/>
            </a:xfrm>
          </p:grpSpPr>
          <p:sp>
            <p:nvSpPr>
              <p:cNvPr id="482" name=""/>
              <p:cNvSpPr/>
              <p:nvPr/>
            </p:nvSpPr>
            <p:spPr>
              <a:xfrm>
                <a:off x="52772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891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010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1324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25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37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492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61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336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52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397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9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21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33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45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5760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694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481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3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058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17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29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18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72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5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77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897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01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13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2572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796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50200" y="5169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6208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7396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8620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698080" y="5164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0996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2220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3444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4632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5820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7044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82320" y="5157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94200" y="515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06440" y="5154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18320" y="515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30560" y="515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4244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5468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6560" y="514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7844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9068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02560" y="514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1480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668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3856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50800" y="513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6124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97312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85360" y="5130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97240" y="512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9120" y="5125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2136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3240" y="512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45480" y="511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57360" y="5115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69600" y="5112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81480" y="5110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93360" y="5107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05600" y="5105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14960" y="510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27200" y="510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39440" y="5097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1320" y="509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63200" y="5092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5440" y="509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87320" y="5085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99200" y="5082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11440" y="5081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21880" y="507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33760" y="5076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46000" y="5071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57880" y="506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69760" y="506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8200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94240" y="5058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03600" y="505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15840" y="5051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27720" y="504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39600" y="5043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1840" y="504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2280" y="503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74160" y="503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86400" y="5028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98280" y="5024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10160" y="502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19880" y="5016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32120" y="5014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44000" y="5009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55880" y="5004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66680" y="4999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560" y="4997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904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02680" y="4987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12040" y="4982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24280" y="497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36160" y="4974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46600" y="4969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58840" y="4964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0720" y="4960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82600" y="495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92320" y="4950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04200" y="4945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14640" y="494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6880" y="4935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38760" y="493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4848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60720" y="4920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72600" y="4913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83040" y="4908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694920" y="4903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04640" y="489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16880" y="489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26960" y="4885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39200" y="488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48920" y="487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60800" y="486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71240" y="486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83480" y="485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792840" y="4849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05080" y="4844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15520" y="483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27400" y="4831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37120" y="482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47200" y="482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9440" y="4812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69160" y="480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79600" y="48006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91480" y="4792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012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11640" y="477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23520" y="4770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33240" y="4763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43680" y="475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53040" y="4751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65280" y="4741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75720" y="4733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85440" y="4726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95880" y="471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5240" y="4712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15680" y="470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25400" y="4697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35840" y="468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45560" y="467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56000" y="467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5720" y="466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75800" y="465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85520" y="464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5960" y="4638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05680" y="4630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16120" y="4620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25480" y="461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760" y="460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44200" y="4593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53920" y="458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6184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72280" y="456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81640" y="455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89920" y="4546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00360" y="453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08280" y="4527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18000" y="451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25920" y="450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33840" y="4497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44280" y="4487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52560" y="447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60480" y="4465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68400" y="4455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78120" y="4446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86040" y="4433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94320" y="442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00440" y="441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087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16640" y="438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24560" y="4377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32480" y="4367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38240" y="435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46160" y="4342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54080" y="4330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60920" y="4318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66320" y="4305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74240" y="429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80720" y="4280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86480" y="426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92960" y="425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98360" y="424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04840" y="423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410600" y="4216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416720" y="4204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20680" y="4192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786280" y="2607480"/>
              <a:ext cx="1698120" cy="1577880"/>
              <a:chOff x="5786280" y="2607480"/>
              <a:chExt cx="1698120" cy="1577880"/>
            </a:xfrm>
          </p:grpSpPr>
          <p:sp>
            <p:nvSpPr>
              <p:cNvPr id="683" name=""/>
              <p:cNvSpPr/>
              <p:nvPr/>
            </p:nvSpPr>
            <p:spPr>
              <a:xfrm>
                <a:off x="7424640" y="4177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30040" y="4165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34360" y="4150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40480" y="4137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44800" y="412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48760" y="4108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50200" y="4096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54160" y="4081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58480" y="406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0640" y="405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4600" y="403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66400" y="4024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68920" y="401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0360" y="399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2880" y="3980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4320" y="3965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6840" y="3951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6840" y="393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3921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390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891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877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8280" y="386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8280" y="3847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8280" y="3832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6840" y="381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6840" y="380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74320" y="3788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72880" y="3773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70360" y="3759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8920" y="374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64600" y="373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62440" y="371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60640" y="3702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56680" y="368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52720" y="367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8760" y="3660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44800" y="3645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40480" y="363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3652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2560" y="3604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28600" y="3591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22120" y="3576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18160" y="356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12400" y="355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06280" y="353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00520" y="3525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4040" y="351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8640" y="3498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82160" y="3486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76400" y="3473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69920" y="3461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62000" y="344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56240" y="343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48320" y="34243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41840" y="3414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33920" y="340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28520" y="3389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20240" y="3378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1232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04400" y="3355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96480" y="334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88200" y="333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80280" y="332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72000" y="3311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64080" y="3301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56160" y="3291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720" y="3281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37800" y="3269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29880" y="325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20160" y="3250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212240" y="324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201440" y="3230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93520" y="322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85600" y="3210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75880" y="3200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65440" y="3193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57520" y="3183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7800" y="317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37720" y="3163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128000" y="3156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20080" y="314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09280" y="313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99920" y="3129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89480" y="3121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79760" y="3112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69320" y="3104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9600" y="3094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49520" y="308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39800" y="3079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029000" y="306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1964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09200" y="305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99480" y="304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9040" y="304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79680" y="3033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69240" y="3025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57000" y="3018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47640" y="3011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36840" y="300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927480" y="2996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15240" y="298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800" y="2981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95440" y="29746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85000" y="2966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72760" y="2961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630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51160" y="294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4072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31000" y="2935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819120" y="2927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08680" y="292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96440" y="2915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87080" y="2910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74840" y="290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64400" y="2897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52520" y="2892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2800" y="288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0920" y="28810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20480" y="2876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08240" y="286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98880" y="2863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86640" y="2858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76200" y="2853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64320" y="2846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5244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42720" y="283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630840" y="283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20040" y="2826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608160" y="282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96280" y="2817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8656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7468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62440" y="2802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52000" y="279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40120" y="2792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27880" y="2787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18160" y="278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06280" y="27777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9440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82160" y="2769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72080" y="276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5984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4760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357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26000" y="274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4120" y="2745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402240" y="2739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9000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78120" y="273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7680" y="273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55440" y="2725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43560" y="272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331680" y="271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19440" y="271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309720" y="2710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9784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85600" y="270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73720" y="270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6184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49600" y="269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39160" y="269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27280" y="268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15040" y="268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203160" y="268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91280" y="2679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79040" y="267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67160" y="26744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55280" y="2671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3040" y="2666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13332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2144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0920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9732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5440" y="265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73200" y="265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6132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4944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37200" y="264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2496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01308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0120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90760" y="2636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785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66640" y="2631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54400" y="262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4252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3064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18400" y="2624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0652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9464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82400" y="2620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70160" y="2617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5828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4640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3416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2228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10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798160" y="2610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86280" y="2607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77440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6252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028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3840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2652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14280" y="260064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02040" y="2600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9016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7828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604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416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4192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3004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1780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605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9404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8180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69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5768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4580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33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21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0980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97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85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7344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6156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49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854680" y="2708280"/>
            <a:ext cx="130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77240" y="306396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933720" y="3063960"/>
            <a:ext cx="1828800" cy="59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50360" y="40384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4038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BFFDB-1CD9-4355-84F1-A6F5CB140F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send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QoS 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s the RSVP packe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y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190512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QoS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ack or error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ssion is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semantics of Layer-3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1941-383A-4BEF-9767-E68EF36585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Recv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RSVP (rsv-req-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e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19920" y="1800360"/>
            <a:ext cx="28191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error) packet if not admitte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Layer-3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C17E0-C49E-4C6B-A63E-01D507CE73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2193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193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193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ing - As applicable to s/w stack in window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5238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79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NDIS wrapp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58128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6320" y="380988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23880" y="5303880"/>
            <a:ext cx="20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Ideal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8769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769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769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14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055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76920" y="2819520"/>
            <a:ext cx="27432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1480" y="53038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One currently possibl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-152280" y="25909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ocol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281952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A491C-E5DE-4276-9BE4-8BBD27A43C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ummary of overall negotiation proces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160" y="1355760"/>
            <a:ext cx="84582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(Device A) receives an RSVP packet from an outsid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yer-3 at device A requests layer-2 (802.11-MAC) for the stream specifying the required QoS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02.11-MAC at device A requests a tx-stream initiation using the admission contro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of the BSS accepts or rejects th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-MAC at Device A (and C) conveys the received decision to the layer-3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 starts using the stream service in the B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B3231-FF9D-4CFC-B2CF-C735475E12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Bob Bennett</cp:lastModifiedBy>
  <cp:lastPrinted>2000-03-02T01:29:59Z</cp:lastPrinted>
  <dcterms:modified xsi:type="dcterms:W3CDTF">2000-03-09T06:34:52Z</dcterms:modified>
  <cp:revision>879</cp:revision>
  <dc:subject>End to end QoS</dc:subject>
  <dc:title>Achieving End-to-end QoS using MAC enhancements</dc:title>
</cp:coreProperties>
</file>