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76320"/>
            <a:ext cx="906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ch 2000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ts val="2999"/>
              </a:lnSpc>
              <a:buClr>
                <a:srgbClr val="0066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ts val="2999"/>
              </a:lnSpc>
              <a:buClr>
                <a:srgbClr val="0066ff"/>
              </a:buClr>
              <a:buFont typeface="Arial"/>
              <a:buChar char="~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ts val="2999"/>
              </a:lnSpc>
              <a:buClr>
                <a:srgbClr val="0066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ts val="29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ts val="29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8839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miss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2BFAEE6-0F04-47DA-BC23-80AE7A5006B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Rajugopal Gubbi (Sharewa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094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1981080"/>
            <a:ext cx="883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ff"/>
                </a:solidFill>
                <a:latin typeface="Arial"/>
              </a:rPr>
              <a:t>Tutorial on Achieving End-to-end Q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3260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Rajugopal Gub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harewave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0C050-E477-4FF8-B581-86D1C9A58FD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-to-end Qo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preserve QoS semantics explicitly carried by a stream from/to the outside connection to/from any device in the 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is it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guarantee the QoS needs of a stream without having to guess at what those need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be able to analyze/pass the QoS request from wired connections between 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AB067-FB72-42F1-92EF-5C8FC9C7C2E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371600"/>
            <a:ext cx="777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xample-A, Home/Enterprise enviro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-to-end Qo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556080" y="3686040"/>
            <a:ext cx="598680" cy="596520"/>
            <a:chOff x="3556080" y="3686040"/>
            <a:chExt cx="598680" cy="596520"/>
          </a:xfrm>
        </p:grpSpPr>
        <p:sp>
          <p:nvSpPr>
            <p:cNvPr id="51" name=""/>
            <p:cNvSpPr/>
            <p:nvPr/>
          </p:nvSpPr>
          <p:spPr>
            <a:xfrm>
              <a:off x="3613680" y="3686040"/>
              <a:ext cx="289080" cy="297360"/>
            </a:xfrm>
            <a:prstGeom prst="rect">
              <a:avLst/>
            </a:prstGeom>
            <a:noFill/>
            <a:ln w="5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56080" y="4047120"/>
              <a:ext cx="5158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14400" y="4090320"/>
              <a:ext cx="54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te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60480" y="3744720"/>
              <a:ext cx="188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17720" y="3789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5802480" y="2979720"/>
            <a:ext cx="288720" cy="29700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43440" y="3340080"/>
            <a:ext cx="1560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3124080"/>
            <a:ext cx="128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323 Video Conferencing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50000" y="3038400"/>
            <a:ext cx="1810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09760" y="3081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80320" y="3916440"/>
            <a:ext cx="288720" cy="2984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21640" y="4278240"/>
            <a:ext cx="14079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80320" y="4282920"/>
            <a:ext cx="104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EB browser pa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27840" y="3975120"/>
            <a:ext cx="185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84720" y="40179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135400" y="4684680"/>
            <a:ext cx="1198080" cy="600120"/>
            <a:chOff x="5135400" y="4684680"/>
            <a:chExt cx="1198080" cy="600120"/>
          </a:xfrm>
        </p:grpSpPr>
        <p:sp>
          <p:nvSpPr>
            <p:cNvPr id="67" name=""/>
            <p:cNvSpPr/>
            <p:nvPr/>
          </p:nvSpPr>
          <p:spPr>
            <a:xfrm>
              <a:off x="5193000" y="4684680"/>
              <a:ext cx="291240" cy="298080"/>
            </a:xfrm>
            <a:prstGeom prst="rect">
              <a:avLst/>
            </a:prstGeom>
            <a:noFill/>
            <a:ln w="5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35400" y="5046840"/>
              <a:ext cx="80640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95880" y="5092920"/>
              <a:ext cx="113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sonal comp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41240" y="4743360"/>
              <a:ext cx="1828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99920" y="4787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644920" y="3803760"/>
            <a:ext cx="3952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50200" y="3664080"/>
            <a:ext cx="154440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connections lik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L and Cable 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95680" y="3809880"/>
            <a:ext cx="9144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408480" y="2743200"/>
            <a:ext cx="4075920" cy="2590560"/>
            <a:chOff x="3408480" y="2743200"/>
            <a:chExt cx="4075920" cy="2590560"/>
          </a:xfrm>
        </p:grpSpPr>
        <p:grpSp>
          <p:nvGrpSpPr>
            <p:cNvPr id="76" name=""/>
            <p:cNvGrpSpPr/>
            <p:nvPr/>
          </p:nvGrpSpPr>
          <p:grpSpPr>
            <a:xfrm>
              <a:off x="3416400" y="2743200"/>
              <a:ext cx="2032560" cy="1180800"/>
              <a:chOff x="3416400" y="2743200"/>
              <a:chExt cx="2032560" cy="1180800"/>
            </a:xfrm>
          </p:grpSpPr>
          <p:sp>
            <p:nvSpPr>
              <p:cNvPr id="77" name=""/>
              <p:cNvSpPr/>
              <p:nvPr/>
            </p:nvSpPr>
            <p:spPr>
              <a:xfrm>
                <a:off x="5443560" y="2743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431680" y="274320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19800" y="274320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407560" y="274320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395680" y="274320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83800" y="274320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73000" y="27432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61120" y="2743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49240" y="2743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37000" y="2743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325120" y="2743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312880" y="27450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01000" y="27450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88760" y="2745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276880" y="2745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265000" y="2747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52760" y="2747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40880" y="2747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28640" y="27478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216760" y="27500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204520" y="2750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192640" y="2752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80760" y="2752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168520" y="2752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156640" y="2754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144400" y="27547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132520" y="27576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120640" y="2757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108400" y="2759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096520" y="2759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84280" y="2762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072400" y="2762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60160" y="27648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048280" y="27676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036400" y="2767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024160" y="2769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012280" y="2769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00400" y="2772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8160" y="2774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975920" y="2777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964040" y="2777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952160" y="27795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39920" y="2782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928040" y="2782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16160" y="2784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903920" y="2787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91680" y="2789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882320" y="2792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70080" y="2794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858200" y="2797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46320" y="2799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4080" y="2801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22200" y="2804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10320" y="2806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98080" y="2808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85840" y="2811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73960" y="2813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2816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749840" y="28188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39760" y="28216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7520" y="2823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15280" y="2826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03400" y="28317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91520" y="28335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679280" y="2836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67400" y="28382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55520" y="2841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43280" y="28465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33560" y="2848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21680" y="2851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09440" y="2856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97560" y="2858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85680" y="2861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573440" y="2865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63000" y="2868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51120" y="28728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38880" y="2876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27000" y="2880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15120" y="2882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05400" y="2887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93160" y="2890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81280" y="2895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469040" y="28976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57160" y="2902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446720" y="2907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34840" y="2912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22600" y="29152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10720" y="29203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01000" y="29253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388760" y="29271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76880" y="29318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366440" y="2936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54560" y="2941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342680" y="2946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330440" y="2951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21080" y="2956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08840" y="2961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296600" y="2966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86520" y="2971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274280" y="2976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64560" y="2981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52680" y="29862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240800" y="2991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230000" y="29959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18120" y="30009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206240" y="3008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196520" y="30135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184640" y="3018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174200" y="30236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161960" y="30304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52600" y="30351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140360" y="30402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29920" y="3048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18040" y="3053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08320" y="3060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96440" y="3065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086000" y="3069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073760" y="3077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64400" y="3084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053600" y="30895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41720" y="3097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032000" y="3104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020120" y="3109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009680" y="3116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999960" y="31240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88080" y="3128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977640" y="31370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67920" y="3143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957480" y="3151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945600" y="3158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35880" y="3166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25440" y="31734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15720" y="3180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905280" y="31881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893400" y="3195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83680" y="3202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873240" y="3210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63520" y="32173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53440" y="3227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43720" y="32353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833280" y="32421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23560" y="3252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813120" y="32598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03400" y="32666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92960" y="3276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83600" y="3284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75320" y="3294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765240" y="3304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755520" y="3310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744720" y="3321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36800" y="3330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727080" y="3338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17000" y="3348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708720" y="3358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699360" y="3368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688920" y="3377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681000" y="3387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72720" y="3397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63360" y="3407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655080" y="3417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644640" y="342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636720" y="34372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628800" y="3449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20520" y="3458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611160" y="3468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02880" y="3478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594960" y="3491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588480" y="35031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80560" y="35128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72280" y="35254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564360" y="3535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556440" y="35470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550680" y="35600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42760" y="3570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534840" y="3582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528360" y="3594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520440" y="3606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14680" y="3619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508560" y="3630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502800" y="3643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96320" y="36558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490920" y="3670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84080" y="36831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478680" y="3695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472200" y="3707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66440" y="3722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462480" y="37342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458520" y="3749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52400" y="3762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448080" y="37767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44120" y="3788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440160" y="38034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436200" y="3818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32240" y="38307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428280" y="3845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26480" y="3860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422520" y="38750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20360" y="3889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18560" y="39045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16400" y="3916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3408480" y="3931200"/>
              <a:ext cx="1862640" cy="1397880"/>
              <a:chOff x="3408480" y="3931200"/>
              <a:chExt cx="1862640" cy="1397880"/>
            </a:xfrm>
          </p:grpSpPr>
          <p:sp>
            <p:nvSpPr>
              <p:cNvPr id="278" name=""/>
              <p:cNvSpPr/>
              <p:nvPr/>
            </p:nvSpPr>
            <p:spPr>
              <a:xfrm>
                <a:off x="3414960" y="39312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12440" y="39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11000" y="3960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11000" y="3975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08480" y="3990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08480" y="40050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08480" y="40197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08480" y="4034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08480" y="4049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08480" y="40640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08480" y="40788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11000" y="4093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411000" y="4108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412440" y="41230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4960" y="41378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16400" y="41526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18920" y="4167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420360" y="41821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24320" y="4196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6840" y="4209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30800" y="4224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32600" y="42393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36560" y="4254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40520" y="4266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44480" y="4280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48440" y="4295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54920" y="4308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458880" y="4322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2840" y="4334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468600" y="43495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474720" y="4362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79040" y="4374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84440" y="43869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90920" y="4401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96680" y="4413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3160" y="4426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08560" y="44380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16840" y="4451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22960" y="4462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528720" y="44755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36640" y="44874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43120" y="4500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51040" y="4511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558960" y="4521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64720" y="4534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7264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80560" y="4556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88840" y="4569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596760" y="4578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605040" y="4590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612960" y="4600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620880" y="4610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631320" y="4623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39240" y="46328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647520" y="46429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655440" y="46526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665160" y="4662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673080" y="4672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83520" y="4684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691440" y="4694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701160" y="4703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09080" y="4711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719520" y="4721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240" y="47314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37160" y="47412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47600" y="4748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57320" y="47581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65240" y="4767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775680" y="4775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85400" y="4785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95840" y="4792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05200" y="48024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16000" y="4810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25360" y="48200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835800" y="4826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45520" y="4834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855960" y="48448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65680" y="48513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75760" y="4859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85480" y="4866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896280" y="4874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05640" y="4881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916080" y="4889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27960" y="4896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937680" y="49035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948120" y="4910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957840" y="4918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969720" y="4925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980160" y="4933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989880" y="494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000320" y="494820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012200" y="49532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021920" y="4959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032360" y="4967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044240" y="4972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053960" y="49795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065840" y="49874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076640" y="4992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6000" y="4999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98240" y="5004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108680" y="5011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20560" y="5016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130280" y="5023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42160" y="5028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52600" y="5033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164840" y="5041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74200" y="50464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186440" y="50515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198320" y="5056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08760" y="5063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220640" y="5068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230360" y="5073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242600" y="5078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254480" y="5082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264920" y="5087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76800" y="5092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286520" y="5097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298760" y="51055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10640" y="5110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321080" y="5112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333320" y="5117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45200" y="5122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357080" y="51271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66800" y="5132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78680" y="5137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90920" y="5141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01360" y="5144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413240" y="51501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425480" y="51548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37360" y="51598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447080" y="5161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58960" y="51663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71200" y="51717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483080" y="5174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93520" y="5179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505760" y="5181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517640" y="5186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29520" y="5189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41760" y="5194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551120" y="5196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563360" y="5201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575600" y="5204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587480" y="5208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599360" y="5211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611600" y="5213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621680" y="5218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633920" y="5220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646160" y="5225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658040" y="5228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669920" y="5230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682160" y="5233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694040" y="5235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05920" y="5240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15640" y="5243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27520" y="5245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39760" y="5248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2000" y="52502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63880" y="52534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75760" y="5255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88000" y="52581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99880" y="525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811760" y="52632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824000" y="52650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834440" y="5270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846320" y="5270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858560" y="5272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70440" y="5275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882320" y="5277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894560" y="5279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906800" y="5283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918680" y="52848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930560" y="5287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942800" y="5287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954680" y="52898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66560" y="5292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978800" y="5294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90680" y="5294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002920" y="5297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014800" y="5299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026680" y="5299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038920" y="5302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051160" y="530460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063040" y="5304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72760" y="5307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84640" y="5307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96520" y="5309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08760" y="5309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120640" y="5312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132880" y="53121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144760" y="53143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157000" y="5314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68880" y="5317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80760" y="5317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93000" y="5317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204880" y="5319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216760" y="53193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229000" y="53222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241240" y="5322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53120" y="5322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65000" y="5322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5277240" y="4344480"/>
              <a:ext cx="2148840" cy="989280"/>
              <a:chOff x="5277240" y="4344480"/>
              <a:chExt cx="2148840" cy="989280"/>
            </a:xfrm>
          </p:grpSpPr>
          <p:sp>
            <p:nvSpPr>
              <p:cNvPr id="479" name=""/>
              <p:cNvSpPr/>
              <p:nvPr/>
            </p:nvSpPr>
            <p:spPr>
              <a:xfrm>
                <a:off x="5277240" y="5324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89120" y="5324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301000" y="53240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313240" y="53240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2512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736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4924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6112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73360" y="5326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85240" y="5326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748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936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160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348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4536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57600" y="5326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69480" y="5326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8172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49360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50584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51772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52960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541840" y="5326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53720" y="5326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65960" y="5324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77840" y="5324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89720" y="5324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601960" y="5324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613840" y="5324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25720" y="53218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637960" y="53218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650200" y="5321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662080" y="5319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673960" y="5319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686200" y="5319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698080" y="5316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709960" y="53168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722200" y="53168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734440" y="5313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746320" y="5313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758200" y="5312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770440" y="5312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782320" y="5309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794200" y="5309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806440" y="53071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18320" y="5307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830560" y="5304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42440" y="5302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54680" y="5302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866560" y="5299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78440" y="5297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890680" y="5297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902560" y="5294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914800" y="5292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926680" y="5292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938560" y="5289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50800" y="52876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961240" y="5284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973120" y="5284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985360" y="5282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997240" y="5279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09120" y="5277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021360" y="5274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33240" y="5272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045480" y="5270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57360" y="5267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69600" y="52646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81480" y="52628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093360" y="52599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105600" y="52581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114960" y="52549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127200" y="525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39440" y="5249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51320" y="5248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163200" y="52452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175440" y="5243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187320" y="5238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199200" y="5235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211440" y="52333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221880" y="5230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233760" y="5228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246000" y="5223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57880" y="5220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269760" y="5215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282000" y="5213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294240" y="52106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303600" y="5205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315840" y="5203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327720" y="5200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339600" y="5195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351840" y="5194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362280" y="51890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74160" y="5184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386400" y="51811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398280" y="5176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410160" y="5174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419880" y="5169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432120" y="51663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444000" y="5161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455880" y="5156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466680" y="51516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478560" y="514980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490440" y="5144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502680" y="5139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512040" y="5134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24280" y="5130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536160" y="5127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46600" y="5122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558840" y="5117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70720" y="5112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82600" y="5107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92320" y="5102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604200" y="5097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614640" y="5092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626880" y="5087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638760" y="50828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648480" y="5077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60720" y="50731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672600" y="5065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683040" y="5061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694920" y="505620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704640" y="5051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716880" y="50432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726960" y="50382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739200" y="5033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748920" y="5026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760800" y="5021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771240" y="5013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783480" y="5009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792840" y="50018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805080" y="4997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15520" y="4989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827400" y="49842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837120" y="4977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47200" y="4972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59440" y="49644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69160" y="495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879600" y="49528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891480" y="49449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01200" y="49377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911640" y="49302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923520" y="4923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933240" y="4915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943680" y="4908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953040" y="4903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965280" y="4893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975720" y="4885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985440" y="4879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995880" y="4871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005240" y="4864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015680" y="4856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025400" y="484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035840" y="4839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045560" y="48315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56000" y="4824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65720" y="4816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075800" y="4807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085520" y="4800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095960" y="4790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105680" y="4782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116120" y="4772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125480" y="4765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33760" y="4755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44200" y="47462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153920" y="4736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61840" y="4728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172280" y="4718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81640" y="4708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89920" y="46987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200360" y="4689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208280" y="4679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218000" y="4669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225920" y="46591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233840" y="4649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244280" y="46396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252560" y="46278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260480" y="4618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268400" y="4608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278120" y="45982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286040" y="45856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294320" y="4575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300440" y="4564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308720" y="4554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316640" y="4541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324560" y="4529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332480" y="4519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338240" y="4506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346160" y="4494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354080" y="44823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360920" y="4470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366320" y="445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374240" y="4446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380720" y="4433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6480" y="4421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92960" y="44082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398360" y="4396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404840" y="4383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410600" y="4368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416720" y="4357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420680" y="43444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5786280" y="2759760"/>
              <a:ext cx="1698120" cy="1577880"/>
              <a:chOff x="5786280" y="2759760"/>
              <a:chExt cx="1698120" cy="1577880"/>
            </a:xfrm>
          </p:grpSpPr>
          <p:sp>
            <p:nvSpPr>
              <p:cNvPr id="680" name=""/>
              <p:cNvSpPr/>
              <p:nvPr/>
            </p:nvSpPr>
            <p:spPr>
              <a:xfrm>
                <a:off x="7424640" y="43297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430040" y="4317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434360" y="4303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440480" y="42901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44800" y="4275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448760" y="4260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450200" y="4249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454160" y="42339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458480" y="4219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460640" y="4204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64600" y="4189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466400" y="41770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468920" y="4162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70360" y="41475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472880" y="41328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474320" y="4118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476840" y="4103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476840" y="4088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478280" y="4073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478280" y="4059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478280" y="4043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478280" y="40294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478280" y="4014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478280" y="3999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478280" y="3985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476840" y="3970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76840" y="3955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74320" y="39405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72880" y="39258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470360" y="39114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468920" y="38966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464600" y="3884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462440" y="3870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460640" y="3855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56680" y="38404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452720" y="3825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48760" y="3812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44800" y="3798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40480" y="3783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36520" y="3771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432560" y="3756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428600" y="37436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422120" y="37292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418160" y="3717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412400" y="3702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406280" y="3689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400520" y="3678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394040" y="3665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388640" y="3650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382160" y="36385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376400" y="36255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369920" y="36140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362000" y="36010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356240" y="3589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348320" y="35766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5"/>
                    </a:moveTo>
                    <a:lnTo>
                      <a:pt x="5" y="8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341840" y="3566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333920" y="3555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328520" y="3542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320240" y="35305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312320" y="3520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304400" y="3507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296480" y="3497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288200" y="3485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80280" y="3476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272000" y="3463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264080" y="3453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256160" y="34434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245720" y="3433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237800" y="3421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229880" y="3412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220160" y="3402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212240" y="3392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201440" y="3382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193520" y="33728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185600" y="3363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175880" y="33530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165440" y="3345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157520" y="3335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147800" y="33253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137720" y="3315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128000" y="3308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120080" y="32990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109280" y="3291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099920" y="3281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089480" y="3274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079760" y="3264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069320" y="32565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059600" y="32468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049520" y="3240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039800" y="32320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029000" y="322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019640" y="3215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009200" y="3207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99480" y="3200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989040" y="3192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979680" y="3185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969240" y="31780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957000" y="31708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947640" y="3163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936840" y="3156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927480" y="3148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915240" y="3141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904800" y="3133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895440" y="31269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885000" y="3118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872760" y="31140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863040" y="31068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851160" y="3099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840720" y="3094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831000" y="3087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819120" y="3079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808680" y="30744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796440" y="3067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787080" y="3062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774840" y="3054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764400" y="3049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752520" y="3045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742800" y="30380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30920" y="30333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720480" y="30283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708240" y="302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698880" y="30153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686640" y="3010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676200" y="3005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664320" y="2998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652440" y="29937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642720" y="2988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630840" y="29840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620040" y="2979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608160" y="2973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596280" y="29692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586560" y="2964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74680" y="2959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562440" y="2954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552000" y="2949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540120" y="29448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527880" y="29397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518160" y="2934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506280" y="29300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94400" y="29268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482160" y="2921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472080" y="29170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459840" y="2914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47600" y="29098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35720" y="2905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426000" y="2900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414120" y="2897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02240" y="2892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390000" y="2890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378120" y="2885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367680" y="28825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355440" y="2877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43560" y="2872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331680" y="2870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319440" y="2865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309720" y="2863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297840" y="2860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285600" y="2855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273720" y="2853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261840" y="2851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49600" y="2846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239160" y="2843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227280" y="2841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215040" y="283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203160" y="283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191280" y="28314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179040" y="28281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167160" y="28267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155280" y="28234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43040" y="2818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133320" y="2816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121440" y="2813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109200" y="2811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097320" y="2808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085440" y="28065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073200" y="2803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061320" y="2801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49440" y="2799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037200" y="27968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024960" y="2793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013080" y="27918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001200" y="27918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990760" y="2788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978520" y="2787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966640" y="2784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954400" y="27820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42520" y="2779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930640" y="2779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918400" y="2777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906520" y="2774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894640" y="2774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882400" y="27723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870160" y="27694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858280" y="2767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846400" y="2767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34160" y="2764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22280" y="2764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810400" y="2762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798160" y="2762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786280" y="27597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5774400" y="27576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2520" y="27576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750280" y="2754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38400" y="2754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26520" y="2754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714280" y="275292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702040" y="2752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690160" y="27500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678280" y="27500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666040" y="27500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654160" y="27478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41920" y="274788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630040" y="274788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17800" y="27478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605920" y="27450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594040" y="27450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581800" y="27450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569920" y="27450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557680" y="274320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545800" y="274320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533560" y="2743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521680" y="2743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509800" y="2743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97560" y="2743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485680" y="2743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473440" y="274320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461560" y="274320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449680" y="2743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5854680" y="2860560"/>
            <a:ext cx="13064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377240" y="3216240"/>
            <a:ext cx="130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otiate 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802.11W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3933720" y="3215880"/>
            <a:ext cx="1828800" cy="590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EBFF6-14E0-463E-BB28-0252B1BA984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-to-end Qo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Scenar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xample-B, SoHo and Enterprise environm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627280" y="3816360"/>
            <a:ext cx="271440" cy="2984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571840" y="4178160"/>
            <a:ext cx="48420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15600" y="4222800"/>
            <a:ext cx="54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670120" y="3875040"/>
            <a:ext cx="17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72376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887640" y="3106800"/>
            <a:ext cx="271440" cy="29988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833640" y="3470400"/>
            <a:ext cx="14655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327560" y="2911320"/>
            <a:ext cx="1343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323 Video Conferencing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32280" y="3166920"/>
            <a:ext cx="169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88800" y="32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641920" y="3936960"/>
            <a:ext cx="271440" cy="2984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133960" y="4411800"/>
            <a:ext cx="13222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791320" y="4344840"/>
            <a:ext cx="36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688000" y="3995640"/>
            <a:ext cx="174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741640" y="4038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4057560" y="4818240"/>
            <a:ext cx="1196640" cy="602640"/>
            <a:chOff x="4057560" y="4818240"/>
            <a:chExt cx="1196640" cy="602640"/>
          </a:xfrm>
        </p:grpSpPr>
        <p:sp>
          <p:nvSpPr>
            <p:cNvPr id="929" name=""/>
            <p:cNvSpPr/>
            <p:nvPr/>
          </p:nvSpPr>
          <p:spPr>
            <a:xfrm>
              <a:off x="4111560" y="4818240"/>
              <a:ext cx="273600" cy="299520"/>
            </a:xfrm>
            <a:prstGeom prst="rect">
              <a:avLst/>
            </a:prstGeom>
            <a:noFill/>
            <a:ln w="5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057560" y="5181840"/>
              <a:ext cx="7570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116600" y="5226480"/>
              <a:ext cx="113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sonal comp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56920" y="4877280"/>
              <a:ext cx="171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215600" y="4919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1716120" y="3933720"/>
            <a:ext cx="371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31200" y="3816360"/>
            <a:ext cx="154440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connections lik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L and Cable 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905120" y="3962520"/>
            <a:ext cx="7128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2441520" y="2870280"/>
            <a:ext cx="1910880" cy="1185480"/>
            <a:chOff x="2441520" y="2870280"/>
            <a:chExt cx="1910880" cy="1185480"/>
          </a:xfrm>
        </p:grpSpPr>
        <p:sp>
          <p:nvSpPr>
            <p:cNvPr id="938" name=""/>
            <p:cNvSpPr/>
            <p:nvPr/>
          </p:nvSpPr>
          <p:spPr>
            <a:xfrm>
              <a:off x="4347360" y="2870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336200" y="28702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25040" y="28702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13520" y="28702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02360" y="28702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291200" y="28702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281120" y="28702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69960" y="2870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258440" y="2870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247280" y="2870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36120" y="2870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224600" y="28720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213080" y="28720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201920" y="2872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190760" y="2872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179240" y="2874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168080" y="2874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156920" y="2874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145400" y="28749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134240" y="28771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122720" y="2877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111560" y="2880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00040" y="2880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88880" y="2880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77720" y="2881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66200" y="28818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55040" y="28850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43520" y="2885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32360" y="2886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21200" y="2886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09680" y="2889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98520" y="2889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87000" y="28918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975840" y="28947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964320" y="2894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953160" y="2896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942000" y="2896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930480" y="28998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919320" y="29016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907800" y="29044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896640" y="29044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885120" y="29066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873960" y="2909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862800" y="2909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51280" y="2911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840120" y="2914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828600" y="29163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819600" y="2919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808440" y="2921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96920" y="2924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785760" y="2926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774600" y="2929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763080" y="2931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751920" y="2934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40400" y="2936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29240" y="2939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717720" y="29412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706560" y="2944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695400" y="29462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685680" y="29491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674160" y="29509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662640" y="29541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651480" y="29592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640320" y="29610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28800" y="2963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617640" y="29656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606480" y="2968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594960" y="29739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85960" y="2975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574440" y="2978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563280" y="2983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552120" y="2985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540600" y="2988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529440" y="2993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519360" y="29955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508200" y="30006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497040" y="3003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85520" y="3008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474360" y="3010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465360" y="30153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453840" y="3018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442680" y="3023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431160" y="3025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420000" y="3030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410280" y="3035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398760" y="30398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387600" y="3043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376440" y="30481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367440" y="305316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355920" y="30549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44400" y="30596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34680" y="30646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23520" y="3069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312360" y="3074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300840" y="3079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291840" y="3084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280680" y="3089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269160" y="3094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259440" y="3099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48280" y="3104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238920" y="3109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27760" y="31143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16600" y="3119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206520" y="31240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195360" y="31291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183840" y="3136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174840" y="3141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163680" y="3146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153960" y="31518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142440" y="31586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133440" y="31636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121920" y="31683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112200" y="3176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101040" y="3181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092040" y="3188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080880" y="3193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070800" y="3198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059640" y="32061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050640" y="3213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040560" y="32180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029400" y="3225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020400" y="3232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008880" y="3237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999160" y="3245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990160" y="32526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979000" y="32572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968920" y="32655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959920" y="3272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950200" y="3280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939040" y="3287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930040" y="3295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919960" y="3301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910960" y="3309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901240" y="33166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889720" y="33246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880720" y="3331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871000" y="33393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862000" y="33465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852280" y="3356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843280" y="33642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33560" y="33710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824200" y="3381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814480" y="33890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805480" y="3395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795760" y="3405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786760" y="34135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9200" y="3423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769480" y="3433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760120" y="3440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750400" y="345024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742840" y="345996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733840" y="3468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724120" y="3477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716560" y="3487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707560" y="3497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97840" y="3507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690280" y="3517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682720" y="3527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673720" y="3537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666160" y="3547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656080" y="35571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48520" y="356688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640960" y="3578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33400" y="3588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624400" y="3598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616840" y="36082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09280" y="3621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603520" y="3633120"/>
              <a:ext cx="5760" cy="46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5"/>
                  </a:moveTo>
                  <a:lnTo>
                    <a:pt x="5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595600" y="3642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88400" y="36558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580840" y="366588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573280" y="36774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567880" y="3690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560320" y="3700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52760" y="3712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547000" y="3724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539440" y="3736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534040" y="3749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527920" y="37616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22880" y="3774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516400" y="37864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511360" y="3801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505240" y="38138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499840" y="3825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494080" y="3838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488680" y="3853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485080" y="38653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481120" y="38800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475360" y="3893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471400" y="39078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67800" y="3919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463840" y="393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460240" y="39495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456280" y="3962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52680" y="3977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451240" y="3992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447280" y="40068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445120" y="4021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443680" y="4036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441520" y="4048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2435400" y="4062240"/>
            <a:ext cx="1750320" cy="1403640"/>
            <a:chOff x="2435400" y="4062240"/>
            <a:chExt cx="1750320" cy="1403640"/>
          </a:xfrm>
        </p:grpSpPr>
        <p:sp>
          <p:nvSpPr>
            <p:cNvPr id="1139" name=""/>
            <p:cNvSpPr/>
            <p:nvPr/>
          </p:nvSpPr>
          <p:spPr>
            <a:xfrm>
              <a:off x="2441520" y="40622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439000" y="40770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437560" y="4091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437560" y="4106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435400" y="41216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435400" y="41364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435400" y="41511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435400" y="41659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435400" y="418068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435400" y="41958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435400" y="42105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437560" y="4225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437560" y="4240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439000" y="4254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441520" y="42696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442960" y="42843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445120" y="4299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446560" y="4314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450520" y="4329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452680" y="4341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456280" y="4356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458080" y="437148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461680" y="4386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465640" y="4398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69240" y="4413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472840" y="4428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478960" y="4440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482560" y="4455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486520" y="44672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491920" y="44820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497680" y="4495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501640" y="4507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506680" y="45198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513160" y="4534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518200" y="4546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24320" y="4559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529720" y="4571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536920" y="458424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543040" y="4596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548440" y="4608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556000" y="46206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561760" y="4633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569320" y="4645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576880" y="4655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582280" y="46681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589840" y="46800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597400" y="46897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604960" y="4702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612520" y="4712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620080" y="47246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627640" y="47343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635200" y="4744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644920" y="4757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52120" y="4766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660040" y="47768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667600" y="478692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676600" y="4796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684160" y="4806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693880" y="4818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701440" y="4828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710440" y="4838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718000" y="4845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27720" y="4855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736720" y="48657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744280" y="48754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754000" y="48826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763360" y="48924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770560" y="4902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780640" y="4910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789640" y="4920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799360" y="4927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808360" y="4937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818080" y="4944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827080" y="49546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837160" y="4961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846160" y="49694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855880" y="497952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864880" y="49863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74600" y="4994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883600" y="5001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893680" y="5009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902680" y="50162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912400" y="50241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923560" y="5031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932920" y="5038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942640" y="5045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51640" y="5053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962800" y="50605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972880" y="5068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981520" y="507528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991600" y="508356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002760" y="50882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011760" y="50950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021480" y="5103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033000" y="5108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042000" y="51148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053160" y="51228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063240" y="5127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072240" y="5134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083400" y="5139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093120" y="5147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104640" y="5152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113640" y="51595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124800" y="51642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134880" y="5169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146040" y="51771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155040" y="51822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166560" y="518724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177720" y="519228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187440" y="51987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198600" y="5204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207600" y="5208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219120" y="52138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230640" y="5218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240360" y="5223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251520" y="52286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260520" y="5233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271680" y="5241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283200" y="52462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292920" y="5248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304440" y="5253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315600" y="5258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326760" y="5263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336120" y="5268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347280" y="5272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358440" y="527796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368520" y="5280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379680" y="52858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390840" y="529092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402360" y="529596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411360" y="52977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422520" y="53028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434040" y="5307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445200" y="5310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454920" y="5315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466440" y="5317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477600" y="5322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488760" y="53254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500280" y="53305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509280" y="53323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520440" y="53373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531960" y="5340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543120" y="5345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554640" y="5347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565800" y="5350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575520" y="5355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586680" y="5357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598200" y="5362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609720" y="5365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620880" y="5366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632040" y="5369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643560" y="5371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654720" y="5376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663720" y="53798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674880" y="538164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686400" y="5384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697920" y="53866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709080" y="53899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720240" y="53917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731760" y="53946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742920" y="53964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754080" y="53996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765600" y="54014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775320" y="5406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786480" y="5406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798000" y="5409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809160" y="5411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820320" y="5414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831840" y="5416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43360" y="5419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54520" y="5421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65680" y="54244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877200" y="54244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888360" y="54262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899520" y="54291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911040" y="5431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922200" y="5431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933720" y="54342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944880" y="54363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956040" y="54363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967560" y="5439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979080" y="5441040"/>
              <a:ext cx="3600" cy="75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90240" y="5441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999240" y="5443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010400" y="5443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021920" y="5446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033080" y="5446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044240" y="5448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055760" y="54489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066920" y="54511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078440" y="5451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089600" y="5454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101120" y="5454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112280" y="5454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123440" y="5455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134960" y="54558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146120" y="54590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57640" y="5459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168800" y="5459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179960" y="5459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4191120" y="4478400"/>
            <a:ext cx="2020320" cy="992160"/>
            <a:chOff x="4191120" y="4478400"/>
            <a:chExt cx="2020320" cy="992160"/>
          </a:xfrm>
        </p:grpSpPr>
        <p:sp>
          <p:nvSpPr>
            <p:cNvPr id="1340" name=""/>
            <p:cNvSpPr/>
            <p:nvPr/>
          </p:nvSpPr>
          <p:spPr>
            <a:xfrm>
              <a:off x="4191120" y="5460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202280" y="5460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213440" y="5460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224960" y="5460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23612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24764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25880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26996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281480" y="5463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292640" y="5463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30416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31532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32684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33800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4916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360680" y="5463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71840" y="5463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38336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39452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40604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41720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42836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439880" y="5463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451040" y="5463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462560" y="5460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473720" y="5460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484880" y="5460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496400" y="5460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507560" y="5460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519080" y="54586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530240" y="54586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41760" y="5458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552920" y="5455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64080" y="5455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575600" y="5455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586760" y="5453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97920" y="54536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609440" y="54536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620960" y="5450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632120" y="5450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43280" y="5448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654800" y="5448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665960" y="5445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677120" y="5445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688640" y="5443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700160" y="5443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711320" y="5441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722480" y="5438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734000" y="5438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745160" y="5436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756320" y="5434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767840" y="5434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779000" y="5430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790520" y="5429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01680" y="5429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813200" y="5426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824360" y="54241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34080" y="5421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845600" y="5421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856760" y="5419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867920" y="5416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879440" y="5414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890600" y="5411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902120" y="5409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913280" y="5406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924800" y="5404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935960" y="54014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947120" y="5399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958640" y="53964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969800" y="53946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978800" y="53913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990320" y="53895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001480" y="53866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013000" y="5384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024160" y="53816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035680" y="5379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046840" y="53748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058000" y="53719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069520" y="53697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079240" y="5366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090400" y="5364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101920" y="5360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113080" y="5357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124600" y="5352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135760" y="5349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147280" y="5347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156280" y="5342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167440" y="5340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178960" y="53373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190120" y="5332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201280" y="5330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211000" y="53254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222520" y="5320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234040" y="5317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245200" y="5312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256360" y="5310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265360" y="5305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276880" y="53024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288040" y="52977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299200" y="52927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309280" y="52876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320440" y="52858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31960" y="5280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343120" y="52758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352120" y="5271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363640" y="5266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374800" y="52632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84520" y="5258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396040" y="5253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407200" y="5248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18720" y="5243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427720" y="5238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438880" y="5233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448600" y="52286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460120" y="5223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471280" y="5218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480280" y="52138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491800" y="5208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502960" y="5202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512680" y="5197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524200" y="51922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533200" y="518724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544720" y="51793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554440" y="51742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565600" y="5169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574600" y="5162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586120" y="51573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595840" y="5149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607000" y="5144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616000" y="5137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627520" y="5132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637240" y="5124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648400" y="51202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57760" y="5113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667480" y="5108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78640" y="51001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687640" y="509364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697720" y="50886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708880" y="50803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717880" y="5073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27600" y="5065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739120" y="5058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748120" y="5050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757840" y="5043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766840" y="5038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778360" y="50292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788080" y="50212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797080" y="50144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806800" y="5006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815800" y="4999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825520" y="49917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834880" y="498492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844600" y="4974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853600" y="49669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863320" y="4960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872680" y="4952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882400" y="4942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891400" y="4935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901120" y="49255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910120" y="49176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920200" y="4907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928840" y="4901040"/>
              <a:ext cx="3600" cy="68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936760" y="4890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946480" y="48812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55480" y="4871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963040" y="4863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972760" y="4853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981760" y="4843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989320" y="4833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99400" y="4824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006960" y="4813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015960" y="4804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023520" y="47941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030720" y="47844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040800" y="47743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048000" y="4762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055560" y="4752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063120" y="4743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072120" y="4732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079680" y="47203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087600" y="4710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093360" y="4698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100920" y="4688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108480" y="46756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116040" y="46638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123600" y="4654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129000" y="4641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136560" y="4629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143760" y="46166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150240" y="4604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155280" y="45918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162840" y="457992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168960" y="45669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174360" y="4555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180120" y="4542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185520" y="4530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191640" y="4518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196680" y="4503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202800" y="4491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206400" y="44784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4670280" y="2887560"/>
            <a:ext cx="1595160" cy="1582560"/>
            <a:chOff x="4670280" y="2887560"/>
            <a:chExt cx="1595160" cy="1582560"/>
          </a:xfrm>
        </p:grpSpPr>
        <p:sp>
          <p:nvSpPr>
            <p:cNvPr id="1541" name=""/>
            <p:cNvSpPr/>
            <p:nvPr/>
          </p:nvSpPr>
          <p:spPr>
            <a:xfrm>
              <a:off x="6209280" y="44622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214680" y="4450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218280" y="4435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224400" y="4422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228360" y="4408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31960" y="4393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233400" y="43815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237000" y="43664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240960" y="4351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243120" y="4336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247080" y="43221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248520" y="43095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250680" y="4294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252480" y="42796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254640" y="42649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256080" y="4250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258240" y="4235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258240" y="42206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259680" y="42058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259680" y="4191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259680" y="41760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259680" y="41612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259680" y="4146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259680" y="4131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259680" y="4116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258240" y="4102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258240" y="4087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256080" y="40723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254640" y="40575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252480" y="4042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250680" y="4028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247080" y="40161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244920" y="4001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243120" y="3986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239520" y="39718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235920" y="3956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231960" y="3943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228360" y="3929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224400" y="39142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220440" y="3902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216840" y="3887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212880" y="38746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207120" y="38599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203160" y="3848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198120" y="3833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192000" y="3820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186600" y="38088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180840" y="3795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175440" y="3781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169320" y="37692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164280" y="37562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158160" y="37443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150600" y="37317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145200" y="37198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137640" y="3706920"/>
              <a:ext cx="7200" cy="75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5"/>
                  </a:moveTo>
                  <a:lnTo>
                    <a:pt x="5" y="8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131520" y="3697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124320" y="3685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118920" y="36723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111360" y="36604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103800" y="3650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096240" y="3637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088680" y="3628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081120" y="36162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073920" y="36061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066000" y="3593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058440" y="3583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50880" y="35737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041160" y="35636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033960" y="3551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026400" y="3542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017400" y="3531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009840" y="3522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999760" y="35125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992200" y="35024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984640" y="3492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975640" y="3483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965920" y="3475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958360" y="34650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949360" y="34549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939640" y="3445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930640" y="3438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923080" y="3428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913360" y="3420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904000" y="34106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894280" y="34038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885280" y="3394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875560" y="3386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66560" y="3376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856840" y="3369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847840" y="33613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837760" y="335124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28760" y="3344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819040" y="3336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810040" y="3329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800320" y="3321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791320" y="33148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781600" y="3306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770080" y="33001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761080" y="3292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751360" y="32853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742000" y="3277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730840" y="3270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721120" y="32623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712120" y="32558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02400" y="32475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690880" y="32428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681880" y="3235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670720" y="3228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661000" y="3223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651640" y="3216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640480" y="3208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630760" y="3203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619240" y="31964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610600" y="3191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599080" y="3183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589360" y="3178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577840" y="3173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568840" y="3166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557680" y="31618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547960" y="315684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536440" y="31489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527440" y="31438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516280" y="3139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506560" y="3134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495040" y="312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483880" y="3122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474880" y="3117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463360" y="3112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453640" y="31075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442480" y="3102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430960" y="30978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421960" y="3092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410800" y="3087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399280" y="3083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389560" y="3078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378400" y="30729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366880" y="30682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357880" y="3063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346720" y="30582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335200" y="30549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324040" y="30502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314320" y="30452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302800" y="30430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291640" y="30384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280480" y="30333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271480" y="3028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259960" y="3025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248800" y="3020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237640" y="3018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226120" y="3013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216400" y="30106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204880" y="3006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193720" y="3000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182560" y="29988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171040" y="2994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162040" y="2991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150880" y="2989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139360" y="2984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128200" y="2981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117040" y="2979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105520" y="2974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095800" y="2971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84640" y="2969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073120" y="296604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061960" y="296136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050440" y="295956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039280" y="29563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028120" y="29545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016600" y="2951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005440" y="29466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996440" y="2944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984920" y="29415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973760" y="2939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962240" y="2936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951080" y="2934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939920" y="2931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928760" y="2929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917240" y="2926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905720" y="2924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894560" y="2921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883400" y="2919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871880" y="2919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862160" y="2917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851000" y="2914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839480" y="29120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828320" y="29098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817160" y="2907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805640" y="2907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794480" y="29052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783320" y="2902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771800" y="2902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760640" y="29001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749120" y="28972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737960" y="2895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726800" y="2895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715280" y="2892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704120" y="2892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692960" y="28904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681440" y="28904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670280" y="28875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1" name=""/>
          <p:cNvSpPr/>
          <p:nvPr/>
        </p:nvSpPr>
        <p:spPr>
          <a:xfrm>
            <a:off x="4659480" y="2884320"/>
            <a:ext cx="4680" cy="828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646520" y="2884320"/>
            <a:ext cx="6480" cy="828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635360" y="2882880"/>
            <a:ext cx="648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624560" y="2882880"/>
            <a:ext cx="612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613400" y="2882880"/>
            <a:ext cx="612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602240" y="2879640"/>
            <a:ext cx="612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591080" y="2879640"/>
            <a:ext cx="46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4579920" y="2878200"/>
            <a:ext cx="468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4568760" y="2878200"/>
            <a:ext cx="468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556160" y="2878200"/>
            <a:ext cx="648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545000" y="287496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533840" y="287496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4522680" y="287496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511520" y="287496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500720" y="2873520"/>
            <a:ext cx="468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489560" y="2873520"/>
            <a:ext cx="468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478400" y="2873520"/>
            <a:ext cx="468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4465800" y="2873520"/>
            <a:ext cx="612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454640" y="2870280"/>
            <a:ext cx="612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443480" y="2870280"/>
            <a:ext cx="612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432320" y="28702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421160" y="28702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410000" y="2870280"/>
            <a:ext cx="46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398840" y="2870280"/>
            <a:ext cx="504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387680" y="2870280"/>
            <a:ext cx="504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375080" y="28702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363920" y="28702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4352760" y="28702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4734000" y="2989440"/>
            <a:ext cx="1227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897200" y="5359320"/>
            <a:ext cx="371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554880" y="3968640"/>
            <a:ext cx="173340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connections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of wired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913360" y="4100400"/>
            <a:ext cx="6336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2970360" y="4056120"/>
            <a:ext cx="2622240" cy="117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332160" y="3719520"/>
            <a:ext cx="2079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otiate Qos within 802.11W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ass the requirements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0B951-7576-41CB-9079-49D13E25BDB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-to-end Qo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50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t can be achie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analyzes and converts the semantics of an outside QoS connection into similar semantics on the 802.11-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negotiates the 802.11- WLAN QoS based on requests from an outside connection using the already discussed mechanism within 802.11-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reject an outside connection or renegotiate the Qos, if the requested QoS cannot be achieved on 802.11-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passes on the QoS requests from an outside connection through the 802.11-WLAN to the rx device for furth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8945D-56FC-435C-B85E-54C253BB939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-to-end Qo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533160" y="1584000"/>
            <a:ext cx="8458200" cy="352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VP type of Layer-3 messages for Q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to 802.11-MAC (at Layer-3) must handle the RSVP type of bandwidth requests and inform the MAC through an interface. 802.11-MAC must not handle/alter RSVP type of Layer-3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C must use the mechanism in our proposal to control the bandwidth usage and achieve Q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MAC can not achieve the required QoS, it should inform the application and also signal the achievable Q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C91C0-F681-41FF-9BC8-31C4A397D8F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-to-end Qo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533160" y="1584000"/>
            <a:ext cx="8458200" cy="352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VP type of Layer-3 messages for QoS (cntd.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lication must either disconnect the stream or generate RSVP response type of Layer-3 messages to inform the peer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tains the advantages of layering as defined and mandated by 8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 QoS Interfaces between the Layer-3 and MAC must be made generic so that similar QoS can be achieved on all QoS-aware M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CEB09-005D-4262-BDD3-214D72F525D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2T01:29:48Z</dcterms:created>
  <dc:creator>Dr. Rajugopal Gubbi, Wim Diepstraten and Jin-Meng Ho</dc:creator>
  <dc:description/>
  <cp:keywords>wireless networks architecture whitecap home networks isochronous streams network services</cp:keywords>
  <dc:language>en-US</dc:language>
  <cp:lastModifiedBy>Harry R. Worstell</cp:lastModifiedBy>
  <cp:lastPrinted>2000-03-02T01:29:59Z</cp:lastPrinted>
  <dcterms:modified xsi:type="dcterms:W3CDTF">2000-03-07T17:52:52Z</dcterms:modified>
  <cp:revision>849</cp:revision>
  <dc:subject>Joint proposal by Sharewave, Lucent and AT&amp;T</dc:subject>
  <dc:title>QoS extensions to 802.11 MAC</dc:title>
</cp:coreProperties>
</file>