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9E8A-387D-4359-931E-E267A7D0B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EDE5-182A-4380-B1D4-049713131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D943-AE55-4506-B69B-187790507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30E8-72BF-4B27-AB8E-3CB8C9567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E1B8-8107-4FA8-A2A2-8E9256078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B940-FBE9-451E-A8CE-F933AA987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E7C0-64E9-48DA-A754-0E389DD15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8AAA-7CEF-4C24-89FD-46AE5E857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4976-B8D4-47DE-BB24-2DD4551BF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FDD5-A600-4E01-A895-8E604C4C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8B7D-D257-4EB0-A9B3-66453E9B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F8FD-AF6E-4A3C-9A93-44D6B78F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39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D11FD33-0048-45BF-A1A5-CC387ACED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898240" y="396000"/>
            <a:ext cx="2567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015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e ITU-R Structure 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nd Proces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47960" y="5257800"/>
            <a:ext cx="3809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Bob Hua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Matsushita/Panaso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5257800"/>
            <a:ext cx="3809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802.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12 January 2000, Tel Av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685800"/>
            <a:ext cx="5486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Panasonic/Matsush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A153-1E9C-43B3-8F9C-93021B937D4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90720" y="1035000"/>
            <a:ext cx="746748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can a company (or individual*) participate in the US ITU-R proces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y attending the meetings and bring contribu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ich Study Group deals with wireless LANS*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LANs are dealt with* in Working Party 8A (under Study Group 8 - Mobile Services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 Mobile Services typically share with Fixed Services, there is a continuing need for close cooperation between WP 8A and WP 9B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s is achieved through Joint Rappeatuers Group 8A-9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*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adio LANs (RLA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**  Study Group 9, dealing with Fixed Services, has long contended that WLANs are in their doma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Panasonic/Matsushit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102C-F26E-4180-BE5A-09C4A810E08B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90720" y="1123920"/>
            <a:ext cx="7467480" cy="46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is the contribution approval proces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roval by US Study Group (includes approval by FCC and NT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roval by US ‘National Committee’ for radio mat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roval by ITU JRG 8A-9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roval by ITU Study Group 8 (Recommendation for Mobile Servic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roval by ITU Study Group 9 (Recommendation for Fixed Servic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te:  There are alternate fast track procedures for the final approv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Panasonic/Matsushit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C562-1206-4013-966C-96019108DA5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219320" y="1066680"/>
            <a:ext cx="7315200" cy="45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0440" indent="-460440" algn="ctr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TU-R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ectrum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adiowave Propa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xed Satellite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cience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bile, Radiodetermination, Amateur and related Satellite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xed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roadcasting Service - S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roadcasting Service - Telev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c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ecial Committee on Regulatory/Procedural Mat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cv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ordination Committee for Vocabul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p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ference Preparatory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Panasonic/Matsushit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DB12-AC1B-4AA8-9D99-B62F11297EF0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66680" y="1674720"/>
            <a:ext cx="7315200" cy="35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 covered:  The WRC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 algn="ctr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haps this can be provided in the future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 algn="ctr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t this time the ITU-R process is most importa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 algn="ctr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The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 algn="ctr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 algn="ctr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 algn="ctr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Ques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Panasonic/Matsushit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A08E-9966-461F-B1D3-BDA58A53AD43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19400" y="1371600"/>
            <a:ext cx="4832280" cy="3505320"/>
          </a:xfrm>
          <a:prstGeom prst="ellipse">
            <a:avLst/>
          </a:prstGeom>
          <a:solidFill>
            <a:srgbClr val="66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65720" y="2819520"/>
            <a:ext cx="279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adiocommunications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3733920"/>
            <a:ext cx="276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elecommunications Standardization S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33720" y="2746440"/>
            <a:ext cx="181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velopment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94464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U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05320" y="1523880"/>
            <a:ext cx="2209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cc"/>
                </a:solidFill>
                <a:latin typeface="Times New Roman"/>
              </a:rPr>
              <a:t>ITU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5181480"/>
            <a:ext cx="5715000" cy="990720"/>
          </a:xfrm>
          <a:prstGeom prst="wedgeRectCallout">
            <a:avLst>
              <a:gd name="adj1" fmla="val 12277"/>
              <a:gd name="adj2" fmla="val -137018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ld Radiocommunications Con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an ITU meeting, not a Sector meet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Panasonic/Matsushit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A967-42A8-49B8-ADE4-F46F371F83B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971800" y="1035000"/>
            <a:ext cx="51814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mic Sans MS"/>
              </a:rPr>
              <a:t>Radiocommunications Secto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-5409720" y="1143000"/>
            <a:ext cx="13562640" cy="5616720"/>
            <a:chOff x="-5409720" y="1143000"/>
            <a:chExt cx="13562640" cy="5616720"/>
          </a:xfrm>
        </p:grpSpPr>
        <p:grpSp>
          <p:nvGrpSpPr>
            <p:cNvPr id="58" name=""/>
            <p:cNvGrpSpPr/>
            <p:nvPr/>
          </p:nvGrpSpPr>
          <p:grpSpPr>
            <a:xfrm>
              <a:off x="-5409720" y="1143000"/>
              <a:ext cx="13562640" cy="5616720"/>
              <a:chOff x="-5409720" y="1143000"/>
              <a:chExt cx="13562640" cy="5616720"/>
            </a:xfrm>
          </p:grpSpPr>
          <p:sp>
            <p:nvSpPr>
              <p:cNvPr id="59" name=""/>
              <p:cNvSpPr/>
              <p:nvPr/>
            </p:nvSpPr>
            <p:spPr>
              <a:xfrm>
                <a:off x="-5409720" y="1143000"/>
                <a:ext cx="13562640" cy="561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94109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9410930"/>
                  </a:path>
                </a:pathLst>
              </a:custGeom>
              <a:solidFill>
                <a:srgbClr val="66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371600" y="1143000"/>
                <a:ext cx="2743200" cy="541008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371600" y="1143000"/>
                <a:ext cx="2743200" cy="541008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 flipV="1">
              <a:off x="2361960" y="1523520"/>
              <a:ext cx="2362320" cy="16002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523880" y="1432080"/>
              <a:ext cx="2895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Radiocommunications Bureau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152280" y="3733920"/>
            <a:ext cx="2438640" cy="1218960"/>
          </a:xfrm>
          <a:prstGeom prst="wedgeRectCallout">
            <a:avLst>
              <a:gd name="adj1" fmla="val 49935"/>
              <a:gd name="adj2" fmla="val -1716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dministers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adio Regu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(Table of Frequenc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lloca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43680" y="2057400"/>
            <a:ext cx="366156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adiocommun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meeting of all Study Group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47920" y="3794040"/>
            <a:ext cx="180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udy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0" y="1752480"/>
            <a:ext cx="2057400" cy="762120"/>
          </a:xfrm>
          <a:prstGeom prst="wedgeRectCallout">
            <a:avLst>
              <a:gd name="adj1" fmla="val -95060"/>
              <a:gd name="adj2" fmla="val 6458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Guides S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echnical 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29400" y="3276720"/>
            <a:ext cx="2362320" cy="1143000"/>
          </a:xfrm>
          <a:prstGeom prst="wedgeRectCallout">
            <a:avLst>
              <a:gd name="adj1" fmla="val -75671"/>
              <a:gd name="adj2" fmla="val 1111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lans and appro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echnical 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(Recommenda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130560" y="4708440"/>
            <a:ext cx="20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king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13760" y="487692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5105520"/>
            <a:ext cx="2438640" cy="1218960"/>
          </a:xfrm>
          <a:prstGeom prst="wedgeRectCallout">
            <a:avLst>
              <a:gd name="adj1" fmla="val 90625"/>
              <a:gd name="adj2" fmla="val -494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erforms techni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ork and draf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commend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(perman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638680" y="5486400"/>
            <a:ext cx="3124440" cy="1219320"/>
          </a:xfrm>
          <a:prstGeom prst="wedgeRectCallout">
            <a:avLst>
              <a:gd name="adj1" fmla="val -26319"/>
              <a:gd name="adj2" fmla="val -731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erforms technical 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rafts Recommend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(highly urgent, short ter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6200000">
            <a:off x="4952880" y="3238560"/>
            <a:ext cx="45720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8024600">
            <a:off x="4076640" y="4152960"/>
            <a:ext cx="45720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 rot="3575400">
            <a:off x="5676120" y="4228920"/>
            <a:ext cx="45720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Panasonic/Matsushit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12C6-3C36-49EA-9DC3-138C358B45B4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066680" y="1227240"/>
            <a:ext cx="7467840" cy="44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is frequency use decided within a countr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vernment contro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requency allocation (designation to a servi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requency assignment (permission to u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sed 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ational n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formance with the Radio Regulations (contains the International Table of Frequency Allocation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tential to cause harmful interference to radio systems another cou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Panasonic/Matsushit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382C-FA0C-4335-A6C1-00138F6A6E43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838080" y="1066680"/>
            <a:ext cx="7467840" cy="47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do the Radio Regulations fit 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contain international treat-binding agreements on how to use frequen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y are maintained by the WRC (World Radiocommunications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Formerly the WARC). The WRC is attended by ITU member count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guments for a new allocation have a small chance of success without frequency sha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aring criteria from ITU-R Recommendations are easily accep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us campaigns for a frequency allocation often start in the ITU-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Panasonic/Matsushit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504E-B459-45E9-AA03-F257E72F71B7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990720" y="1130400"/>
            <a:ext cx="7467480" cy="46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he ITU-R shows that sharing is possible between existing services (in use) and the new service, is a new allocation assu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.  An Administration (country) can oppose a new allocation based future use of a current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is a new allocation approv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 administrations present at the WRC vote (one country one vote)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ill a single no vote stop an allocation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.  However, any country can insert a footnote in the Table indicating an exception in their count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Panasonic/Matsushit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BC5E-786B-4C25-840C-D191470FED59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990720" y="1117440"/>
            <a:ext cx="74674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0440" indent="-460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about the ITU process in the U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are two pa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ITU-R process for obtaining a recommen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WRC process for obtaining an 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 first, it is useful to understand the structure within the 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Panasonic/Matsushit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5506-1998-4582-A458-7636803381EC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838080" y="1387440"/>
            <a:ext cx="7467840" cy="45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US structure for frequency allocation matters is a triumvant, consisting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partment of State (D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36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al control due to treaty binding text and foreign relations nature of agre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36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ministers frequency allocations within the US for non-government (commercial and public)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T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36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ministers frequency allocations within the US for government use (military, public service, FAA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Panasonic/Matsushit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5E80-5FD8-45AF-841A-E01D9893A53D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90720" y="1285920"/>
            <a:ext cx="746748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Department of State administers the US ITU-R process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ming the US Study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ppointing a US chairman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may be from the government or private sect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uring that all US positions are agreed to by the FCC, NTIA and the private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crediting delegations to Study Group meetings and Radiocommunications assembl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Panasonic/Matsushit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F8FA-6ECB-4A61-BE9A-5AECCAE63E82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8T22:14:45Z</dcterms:created>
  <dc:creator>Bob Huang</dc:creator>
  <dc:description/>
  <dc:language>en-US</dc:language>
  <cp:lastModifiedBy>vichayes</cp:lastModifiedBy>
  <cp:lastPrinted>2000-02-03T12:15:23Z</cp:lastPrinted>
  <dcterms:modified xsi:type="dcterms:W3CDTF">2000-02-03T12:16:29Z</dcterms:modified>
  <cp:revision>2</cp:revision>
  <dc:subject/>
  <dc:title>The ITU-R Structure  and Process </dc:title>
</cp:coreProperties>
</file>