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56B-C16B-4D3C-8498-E8B3938D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4DFD-AA8E-4EFA-B0F4-6EED9178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B239-51C2-497F-8BE7-618702CC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A378-2AC5-47AF-AB46-997C62E6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3D57-3EDA-48AB-B82D-AC0D24BF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816B-4678-449E-BD92-1BDBF346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1642-3BBB-4F11-BFD2-C416C4F3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7719-76CE-4403-9F24-FE18881C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B03-D8F6-4012-B070-ED29AAF1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27C4-A625-4EA5-AFB9-95509078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285B-380A-4291-BF37-42182AE8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9D03-DDA2-444F-9A5E-F1D7A015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78538D7-1AE6-4EA7-8147-CF0C7CF9A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ITU-R Structure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nd Proces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525780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ob Hu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Matsushita/Panaso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25780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12 January 2000, Tel Av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83A-2F24-4D1C-A6D8-CB57E6C1409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1035000"/>
            <a:ext cx="74674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an a company (or individual*) participate in the US ITU-R pro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attending the meetings and bring contribu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Study Group deals with wireless LANS*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LANs are dealt with* in Working Party 8A (under Study Group 8 - Mobile Service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Mobile Services typically share with Fixed Services, there is a continuing need for close cooperation between WP 8A and WP 9B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achieved through Joint Rappeatuers Group 8A-9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dio LANs (RL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*  Study Group 9, dealing with Fixed Services, has long contended that WLANs are in their dom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F34-7DA1-47AF-8EF7-8725AE7314B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1123920"/>
            <a:ext cx="746748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contribution approval pro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US Study Group (includes approval by FCC and NT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US ‘National Committee’ for radio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JRG 8A-9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Study Group 8 (Recommendation for Mobile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Study Group 9 (Recommendation for Fixed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e:  There are alternate fast track procedures for the final appro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44F-64DF-4150-B9FD-325A29D8490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1066680"/>
            <a:ext cx="7315200" cy="45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U-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trum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owave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xed Satellit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ienc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bile, Radiodetermination, Amateur and related Satelli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x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adcasting Service - S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adcasting Service - Tele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al Committee on Regulatory/Procedural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c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ordination Committee for Vocabu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p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erence Preparatory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F259-F60D-4341-B6BA-F6448844EAB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66680" y="1674720"/>
            <a:ext cx="73152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covered:  The WR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haps this can be provided in the future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this time the ITU-R process is most impor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2FEE-FF45-4DF3-998F-1A49F4ED49B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19400" y="1371600"/>
            <a:ext cx="4832280" cy="3505320"/>
          </a:xfrm>
          <a:prstGeom prst="ellipse">
            <a:avLst/>
          </a:prstGeom>
          <a:solidFill>
            <a:srgbClr val="66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65720" y="2819520"/>
            <a:ext cx="27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ocommunications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733920"/>
            <a:ext cx="276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ecommunications Standardization S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274644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velopment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94464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U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15238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Times New Roman"/>
              </a:rPr>
              <a:t>ITU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5181480"/>
            <a:ext cx="5715000" cy="990720"/>
          </a:xfrm>
          <a:prstGeom prst="wedgeRectCallout">
            <a:avLst>
              <a:gd name="adj1" fmla="val 12277"/>
              <a:gd name="adj2" fmla="val -13701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ld Radiocommunication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n ITU meeting, not a Sector mee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6909-0AE7-4D0B-9239-BCC18BF2EA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71800" y="1035000"/>
            <a:ext cx="5181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Radiocommunications Sec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-5409720" y="1143000"/>
            <a:ext cx="13562640" cy="5616720"/>
            <a:chOff x="-5409720" y="1143000"/>
            <a:chExt cx="13562640" cy="5616720"/>
          </a:xfrm>
        </p:grpSpPr>
        <p:grpSp>
          <p:nvGrpSpPr>
            <p:cNvPr id="57" name=""/>
            <p:cNvGrpSpPr/>
            <p:nvPr/>
          </p:nvGrpSpPr>
          <p:grpSpPr>
            <a:xfrm>
              <a:off x="-5409720" y="1143000"/>
              <a:ext cx="13562640" cy="5616720"/>
              <a:chOff x="-5409720" y="1143000"/>
              <a:chExt cx="13562640" cy="5616720"/>
            </a:xfrm>
          </p:grpSpPr>
          <p:sp>
            <p:nvSpPr>
              <p:cNvPr id="58" name=""/>
              <p:cNvSpPr/>
              <p:nvPr/>
            </p:nvSpPr>
            <p:spPr>
              <a:xfrm>
                <a:off x="-5409720" y="1143000"/>
                <a:ext cx="13562640" cy="561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94109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9410930"/>
                  </a:path>
                </a:pathLst>
              </a:custGeom>
              <a:solidFill>
                <a:srgbClr val="66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371600" y="1143000"/>
                <a:ext cx="2743200" cy="54100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371600" y="1143000"/>
                <a:ext cx="2743200" cy="54100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 flipV="1">
              <a:off x="2361960" y="1523520"/>
              <a:ext cx="236232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23880" y="1432080"/>
              <a:ext cx="289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adiocommunications Bureau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52280" y="3733920"/>
            <a:ext cx="2438640" cy="1218960"/>
          </a:xfrm>
          <a:prstGeom prst="wedgeRectCallout">
            <a:avLst>
              <a:gd name="adj1" fmla="val 49935"/>
              <a:gd name="adj2" fmla="val -1716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minister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o Reg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Table of 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loc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43680" y="2057400"/>
            <a:ext cx="366156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o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eting of all Study Grou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7920" y="379404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1752480"/>
            <a:ext cx="2057400" cy="762120"/>
          </a:xfrm>
          <a:prstGeom prst="wedgeRectCallout">
            <a:avLst>
              <a:gd name="adj1" fmla="val -95060"/>
              <a:gd name="adj2" fmla="val 64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uides 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3276720"/>
            <a:ext cx="2362320" cy="1143000"/>
          </a:xfrm>
          <a:prstGeom prst="wedgeRectCallout">
            <a:avLst>
              <a:gd name="adj1" fmla="val -75671"/>
              <a:gd name="adj2" fmla="val 11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lans and appro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Recommend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0560" y="47084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ing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13760" y="487692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5105520"/>
            <a:ext cx="2438640" cy="1218960"/>
          </a:xfrm>
          <a:prstGeom prst="wedgeRectCallout">
            <a:avLst>
              <a:gd name="adj1" fmla="val 90625"/>
              <a:gd name="adj2" fmla="val -494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forms techn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ork and draf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commend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perman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5486400"/>
            <a:ext cx="3124440" cy="1219320"/>
          </a:xfrm>
          <a:prstGeom prst="wedgeRectCallout">
            <a:avLst>
              <a:gd name="adj1" fmla="val -26319"/>
              <a:gd name="adj2" fmla="val -73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forms 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fts Recommend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highly urgent, short 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4952880" y="32385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8024600">
            <a:off x="4076640" y="415296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rot="3575400">
            <a:off x="5676120" y="422892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18A-A3E8-424B-AA5D-2BAAC9E8F66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66680" y="998640"/>
            <a:ext cx="746784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is frequency use decided within a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vernment contr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cy allocation (designation to a serv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cy assignment (permission to 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tional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ormance with the Radio Regulations (contains the International Table of Frequency Allocation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tential to cause harmful interference to radio systems another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5C0-16D0-4835-B5CF-D0C5B802FF8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1066680"/>
            <a:ext cx="746784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the Radio Regulations fit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contain international treat-binding agreements on how to use frequen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are maintained by the WRC (World Radiocommunications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Formerly the WARC). The WRC is attended by ITU member count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guments for a new allocation have a small chance of success without frequency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ing criteria from ITU-R Recommendations are easily acce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campaigns for a frequency allocation often start in the ITU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A2F-5693-4A51-8763-8DAE3E4B5F1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977760"/>
            <a:ext cx="7467480" cy="46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ITU-R shows that sharing is possible between existing services (in use) and the new service, is a new allocation assu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.  An Administration (country) can oppose a new allocation based future use of a current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is a new allocation appro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administrations present at the WRC vote (one country one vote)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ll a single no vote stop an allocation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.  However, any country can insert a footnote in the Table indicating an exception in their coun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86EF-5378-45C5-B748-93C1A065B7A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90720" y="1117440"/>
            <a:ext cx="74674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bout the ITU process in the 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two pa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TU-R process for obtaining a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RC process for obtaining an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first, it is useful to understand the structure within the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E6B0-772B-4677-A9CC-D3F3CC2B1C6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38080" y="853920"/>
            <a:ext cx="746784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US structure for frequency allocation matters is a triumvant, consisting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partment of State (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al control due to treaty binding text and foreign relations nature of agre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gress approves the WRC text and decides on the US table of frequency allo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ministers frequency allocations within the US for non-government (commercial and public)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ministers frequency allocations within the US for government use (military, public service, FAA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7E4-2132-42D5-816C-F469169394B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90720" y="1285920"/>
            <a:ext cx="74674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partment of State administers the US ITU-R process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ing the US Stud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ointing a US chairma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ay be from the government or private sec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uring that all US positions are agreed to by the FCC, NTIA and the privat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rediting delegations to Study Group meetings and Radiocommunications assembl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CA8F-6CB6-40C4-A330-E78E39E7EA1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3T14:17:27Z</dcterms:created>
  <dc:creator>vichayes</dc:creator>
  <dc:description/>
  <dc:language>en-US</dc:language>
  <cp:lastModifiedBy>vichayes</cp:lastModifiedBy>
  <cp:lastPrinted>2000-01-13T14:25:30Z</cp:lastPrinted>
  <dcterms:modified xsi:type="dcterms:W3CDTF">2000-01-13T14:45:29Z</dcterms:modified>
  <cp:revision>3</cp:revision>
  <dc:subject/>
  <dc:title>The ITU-R Structure  and Process </dc:title>
</cp:coreProperties>
</file>