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ED3-A52A-46E6-A97E-53695F64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8DB-B0E2-4B38-B98C-3E2FB3B3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7563-85FF-4271-BE3C-240BE038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FF4-E70D-4A74-81FB-17BAA50E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B151-3E4A-4006-9AD3-46433C04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2AF-27F7-42CD-9C89-22603843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F74E-2B19-454C-829E-5E6A070A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73DE-8A16-4685-A7E1-C3A0340A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58C-751A-4A4E-BF48-FB7A1AB2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3ED-C3EA-4884-936C-BFF6FB83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CBE-00D7-4260-998B-9C48ADB5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67DC-943D-43B8-B27E-EF3DFBCA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4957-6482-4929-A378-1E790E5DE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EC Interim Tele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 4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:00 E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pm E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ved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on November Workshop Agenda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emer/Rosd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report on Network RFP 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dahl/Ris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on Pre-SG Mtg fe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/SA items (e.g., Single Sales Channel) Update 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kolich/McC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of P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 Workshop RSVP l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 H., Bob G., David L., Tony J., Paul N., Jon R., Bruce K., Geoff T.,  Apurva M., Roger M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ir D., Buzz E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spon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G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 for N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22b PAR :Amendment: Enhanced Broadband and Monito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5.9 PAR :Recommended Practice: Key Management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 – Modified PAR for Overview and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6 Amendment Projects: Modified PARs that need to be sp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r05</cp:lastModifiedBy>
  <dcterms:modified xsi:type="dcterms:W3CDTF">2011-10-04T18:35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