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9290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8520" y="1679400"/>
            <a:ext cx="8288280" cy="0"/>
          </a:xfrm>
          <a:prstGeom prst="line">
            <a:avLst/>
          </a:prstGeom>
          <a:ln w="9360">
            <a:solidFill>
              <a:srgbClr val="b3b3b3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61800" y="1606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739360" y="1676520"/>
            <a:ext cx="0" cy="4724280"/>
          </a:xfrm>
          <a:prstGeom prst="line">
            <a:avLst/>
          </a:prstGeom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23440" y="2516040"/>
            <a:ext cx="21564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655120" y="2532240"/>
            <a:ext cx="163440" cy="974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601120" y="1523880"/>
            <a:ext cx="203040" cy="263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8661240" y="6256440"/>
            <a:ext cx="177840" cy="296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7153200" y="533520"/>
            <a:ext cx="1457280" cy="3729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1600200" y="2514600"/>
            <a:ext cx="5622840" cy="35053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cc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cc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cc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cc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grant.schmidbauer@nemko.com" TargetMode="External"/><Relationship Id="rId2" Type="http://schemas.openxmlformats.org/officeDocument/2006/relationships/hyperlink" Target="http://www.nemko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tatus of 3</a:t>
            </a:r>
            <a:r>
              <a:rPr b="0" lang="en-US" sz="4400" spc="-1" strike="noStrike" baseline="30000">
                <a:solidFill>
                  <a:srgbClr val="0000cc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Edition of </a:t>
            </a:r>
            <a:br>
              <a:rPr sz="4400"/>
            </a:b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EC 60601-1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5867280"/>
            <a:ext cx="266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By Grant Schmidbauer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Nemko USA, Inc. San Diego, CA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951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o our knowledge, at this time, no other countries have yet issued national standards harmonized with the 3</a:t>
            </a:r>
            <a:r>
              <a:rPr b="0" lang="en-US" sz="3200" spc="-1" strike="noStrike" baseline="30000">
                <a:solidFill>
                  <a:srgbClr val="0000cc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Editio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owever Canada is in the final stages of their publication with Canadian national deviations 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r the most current information, please contact the country's public health authorities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Canada, Japan, China, others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52120" y="190512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Grant Schmidbauer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General Manager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emko USA, Inc.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11696 Sorrento Valley Road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an Diego, CA  92121  USA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el: 858-755-5525 Ex. 208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ax: 858-452-1810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E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grant.schmidbauer@nemko.com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Websit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nemko.com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Contact Information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371240" y="1951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CB Scheme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European Union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U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Brazil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Canada, Japan, China, others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tatus of 3</a:t>
            </a:r>
            <a:r>
              <a:rPr b="0" lang="en-US" sz="4000" spc="-1" strike="noStrike" baseline="30000">
                <a:solidFill>
                  <a:srgbClr val="0000cc"/>
                </a:solidFill>
                <a:latin typeface="Times New Roman"/>
              </a:rPr>
              <a:t>rd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Edition of IEC 60601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CB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077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CB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cc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edition of IEC 60601-1 re-instated for CB Test certificates as of February 12, 2008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B Testing laboratories must now update their CBTL scope with 3</a:t>
            </a:r>
            <a:r>
              <a:rPr b="0" lang="en-US" sz="3200" spc="-1" strike="noStrike" baseline="30000">
                <a:solidFill>
                  <a:srgbClr val="0000cc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editio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B Test Certificates can now be issued, covering all relevant requirements of the standard(s) as applicable, or may cover “Electrical Safety” only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European U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e date of withdrawal (DOW) for EN 60601-1 2</a:t>
            </a:r>
            <a:r>
              <a:rPr b="0" lang="en-US" sz="3200" spc="-1" strike="noStrike" baseline="30000">
                <a:solidFill>
                  <a:srgbClr val="0000cc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Edition is September 12</a:t>
            </a:r>
            <a:r>
              <a:rPr b="0" lang="en-US" sz="3200" spc="-1" strike="noStrike" baseline="30000">
                <a:solidFill>
                  <a:srgbClr val="0000cc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, 2009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e DOW means that all products sold in the EU after that date must conform to the requirements of the new standard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owever, the DOW for medical devices is set only for the Part 1 standard, EN 60601-1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European U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For medical devices with relevant particular (Part 2) standards, the DOW has not been set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With 40+ particular (Part 2) standards (IEC/EN 60601-2-XX) currently referencing specific clauses in the 2</a:t>
            </a:r>
            <a:r>
              <a:rPr b="0" lang="en-US" sz="3000" spc="-1" strike="noStrike" baseline="30000">
                <a:solidFill>
                  <a:srgbClr val="0000cc"/>
                </a:solidFill>
                <a:latin typeface="Times New Roman"/>
              </a:rPr>
              <a:t>nd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 Edition, the DOW for medical devices with particular (Part 2) standards, will not be set until the particular (Part 2) standard has been updated with references to specific clauses in the 3</a:t>
            </a:r>
            <a:r>
              <a:rPr b="0" lang="en-US" sz="3000" spc="-1" strike="noStrike" baseline="30000">
                <a:solidFill>
                  <a:srgbClr val="0000cc"/>
                </a:solidFill>
                <a:latin typeface="Times New Roman"/>
              </a:rPr>
              <a:t>rd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 edi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The transition period for medical devices with particular (Part 2) standards will be extended as necessary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920" y="1798200"/>
            <a:ext cx="853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Published by AAMI as ES 60601-1 and is currently under review by the FDA (not published by UL!)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Missing several of the USA national deviations that were part of 2</a:t>
            </a:r>
            <a:r>
              <a:rPr b="0" lang="en-US" sz="3000" spc="-1" strike="noStrike" baseline="30000">
                <a:solidFill>
                  <a:srgbClr val="0000cc"/>
                </a:solidFill>
                <a:latin typeface="Times New Roman"/>
              </a:rPr>
              <a:t>nd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 edition (ie, earth leakage current at 500µA whereas in the 2</a:t>
            </a:r>
            <a:r>
              <a:rPr b="0" lang="en-US" sz="3000" spc="-1" strike="noStrike" baseline="30000">
                <a:solidFill>
                  <a:srgbClr val="0000cc"/>
                </a:solidFill>
                <a:latin typeface="Times New Roman"/>
              </a:rPr>
              <a:t>nd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 edition it was 300µA)  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AAMI is working to resolve the national deviations and a revision or notice will be published in the near future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Not currently fully accepted as national standard in the USA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USA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Braz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razil uses NBR IEC standards for InMetro certification of medical device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BR IEC standards are the same as IEC standards, but translated into Portuguese with possible national deviation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e translation of IEC 60601-1 3</a:t>
            </a:r>
            <a:r>
              <a:rPr b="0" lang="en-US" sz="3200" spc="-1" strike="noStrike" baseline="30000">
                <a:solidFill>
                  <a:srgbClr val="0000cc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Edition has been completed and sent to ABNT (Associação Brasileira de Normas Técnicas) for final review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Braz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The date for the publication of the standard is not yet set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The particular standards are in the process of translation as well and the expected completion date is late 2008, similar to the IEC update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Once the translation and approval process is completed, ANVISA will determine the date of publication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Until then, only evaluations and reports to the 2</a:t>
            </a:r>
            <a:r>
              <a:rPr b="0" lang="en-US" sz="3000" spc="-1" strike="noStrike" baseline="30000">
                <a:solidFill>
                  <a:srgbClr val="0000cc"/>
                </a:solidFill>
                <a:latin typeface="Times New Roman"/>
              </a:rPr>
              <a:t>nd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</a:rPr>
              <a:t> Edition are accepted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09:58:44Z</dcterms:created>
  <dc:creator>--</dc:creator>
  <dc:description/>
  <dc:language>en-US</dc:language>
  <cp:lastModifiedBy>Grant</cp:lastModifiedBy>
  <cp:lastPrinted>2001-09-17T09:06:59Z</cp:lastPrinted>
  <dcterms:modified xsi:type="dcterms:W3CDTF">2008-02-27T06:00:03Z</dcterms:modified>
  <cp:revision>90</cp:revision>
  <dc:subject/>
  <dc:title>PowerPoint Presentation</dc:title>
</cp:coreProperties>
</file>